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AB1-3E42-45D6-B9C2-546D7A23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B1E-3067-4CA3-9B38-721E2F3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642-6EE0-4A3F-B53C-B860AB5B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E8A-70C2-4999-8B10-97DB32D6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90B-DF47-4BED-A6FE-2E57A5EB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683-E64C-4129-A827-21F3167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609-9251-44A3-8A47-CFB5EB6B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AB6-9318-42A6-81F5-656F1029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A31-6730-4130-A0DC-06A4B25A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C38-71A6-42C0-BB80-97416D0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7BB-DCCE-4043-8660-67465954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261-251C-4DF9-B3B6-9A031FF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26F9-0951-4BBA-933B-699AC7861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saro@unm.ed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2880" y="152280"/>
            <a:ext cx="84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All-UNM 4-wall Handball Tourna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1371600"/>
            <a:ext cx="36576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haps you played before, took the Handball class, or just want to learn and have fun!  Or are  you looking for a challenging exercise that uses your entire body AND mind.  Join us at this Intramural Tournament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quipment will be avail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anyone wanting to play, including softer handball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 up at Rec. Services, by or bef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 30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Johnson G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ct for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a Romero, Rec. Service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7-3753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saro@unm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l White, Handball Instruct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7-868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cswhite@unm.edu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80" y="1600200"/>
            <a:ext cx="489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:  Friday May 2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t 3:0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:  UNM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to all levels, beg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 advanced play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20" y="762120"/>
            <a:ext cx="88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ve Stress before Finals!  Get Great Exercise!  Meet other Play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z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provided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yers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7796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8862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51:25Z</dcterms:created>
  <dc:creator>Carl White</dc:creator>
  <dc:description/>
  <dc:language>en-US</dc:language>
  <cp:lastModifiedBy>Carl White</cp:lastModifiedBy>
  <cp:lastPrinted>2007-08-24T15:37:23Z</cp:lastPrinted>
  <dcterms:modified xsi:type="dcterms:W3CDTF">2008-03-13T15:41:43Z</dcterms:modified>
  <cp:revision>5</cp:revision>
  <dc:subject/>
  <dc:title>PowerPoint Presentation</dc:title>
</cp:coreProperties>
</file>