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126-81EA-4DB9-A231-E98F89B2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A5F-7552-4AD3-99A2-645002D7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018-6EE7-4584-B4E3-D55E3706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A91-BCCE-4E19-A799-4054F6B7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F92E-5352-4301-80EE-615D449D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3273-EEE9-4407-BE7F-391BD41D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3A67-F07F-468D-8D0C-82E894F0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3ABE-1958-49B3-B4FF-317B5A62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F0BC-AA8D-4E18-B728-DC4BD47C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80F1-838F-4CCD-8CF7-18B7F129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2925-75BA-40C1-8C0B-CACDAF9F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DBD-2DE3-4347-83F5-80149D93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858C-D58C-41E4-B2B7-32CC616E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58C4-8EE3-4384-BD4D-16509C9B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F3CD-A5DA-481B-9EDF-788065E6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4C0C-0030-4F7E-B831-FD364619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ECED-B4B0-4A92-8C1D-F5AA3B09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CA2-0AE5-4351-B7B8-D9B972AA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C6F-7631-438C-9B0C-3723FFDF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F26-51B9-4BF5-8614-D1728DE0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49B-FD18-4FF1-A528-EB215053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F79-13BD-4A19-8123-B87F261C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4CC-1349-4A02-8578-1CFD1C1D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844-9CDC-4F96-86FD-7BD47634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914400"/>
            <a:ext cx="8305920" cy="182520"/>
            <a:chOff x="457200" y="914400"/>
            <a:chExt cx="8305920" cy="182520"/>
          </a:xfrm>
        </p:grpSpPr>
        <p:sp>
          <p:nvSpPr>
            <p:cNvPr id="2" name=""/>
            <p:cNvSpPr/>
            <p:nvPr/>
          </p:nvSpPr>
          <p:spPr>
            <a:xfrm>
              <a:off x="6934320" y="91440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99072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3FBF-FB14-40D8-AA87-70AD2BF90A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9A7D-5BE9-48DC-851C-67DA60CDA5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ontext-Free Languages</a:t>
            </a:r>
            <a:endParaRPr b="0" lang="en-US" sz="3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ing Le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Pumping Lemma for CFL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ntext-free language, then there is a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e pumping length) where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string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length at lea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divided into five pie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=uvxy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ying the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=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gt; 0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Pumping Lemma as an “Adversary Game” </a:t>
            </a:r>
            <a:endParaRPr b="0" lang="en-US" sz="3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ick a langu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we want to show is not a CF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“adversary” gets to pi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t to pi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may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 parameter when we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dversary gets to break s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xy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bject only to the constraints that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gt; 0,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“win” the game, if we can, by pick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howing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Example 1: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= { 1</a:t>
            </a:r>
            <a:r>
              <a:rPr b="0" i="1" lang="en-US" sz="3600" spc="-1" strike="noStrike" baseline="30000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where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is prime}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tu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ntext-free langu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5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Example 1: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= { 1</a:t>
            </a:r>
            <a:r>
              <a:rPr b="0" i="1" lang="en-US" sz="3600" spc="-1" strike="noStrike" baseline="30000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where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is prime}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picks a pumping leng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me pr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exist since there are an infinite number of pr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pick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xy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x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pumping lemm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x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prime unless one of the above factors is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&gt; 1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,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gt;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1 si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 was chosen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Example 1: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= { 1</a:t>
            </a:r>
            <a:r>
              <a:rPr b="0" i="1" lang="en-US" sz="3600" spc="-1" strike="noStrike" baseline="30000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where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is prime}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1:01:27Z</dcterms:created>
  <dc:creator>Joel Castellanos</dc:creator>
  <dc:description/>
  <dc:language>en-US</dc:language>
  <cp:lastModifiedBy>Joel Castellanos</cp:lastModifiedBy>
  <dcterms:modified xsi:type="dcterms:W3CDTF">2007-12-07T06:20:25Z</dcterms:modified>
  <cp:revision>6</cp:revision>
  <dc:subject/>
  <dc:title>Slide 1</dc:title>
</cp:coreProperties>
</file>