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D65-7842-4DA2-B8DF-A433FC25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468-0B12-40BC-8850-0939268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98B-569E-4E02-8BD7-404D32AE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327-0EFC-439A-8686-8FC3241A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C494-A3E3-4326-B184-2DEE8C36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D59-AC2E-46DA-A22B-DF22EDB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192B-825A-4657-A5A3-9D79047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071-4E27-4DAD-9242-EABA1DC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E62B-222F-495C-835A-0D28A31C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1E61-6C14-4337-AA09-0B50A52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3EB7-37BB-46F8-AACA-F36D8D0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D27-B3A6-417F-B1A6-63B73AC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649-98FB-4439-9816-269DCE0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4133-B312-48C5-AB3F-D0BA3DA0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4AF5-B718-44F5-B3D1-D2C5083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53D3-94C8-49FE-A885-35DA9CFC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C7C2-3D83-41ED-879A-F03FE173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3EB-EC21-4B5C-AF4D-E376929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339-3C84-4D24-BDD8-6BC7DA7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440-838A-4FAF-97E8-DA8A518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44D-5123-4D4E-A4C8-E573358E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137-556D-4C91-A8A6-550107CA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241-BD48-4D6B-8EC6-7EDE3BB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24B-D61F-4685-9A07-DADBA02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914400"/>
            <a:ext cx="8305920" cy="182520"/>
            <a:chOff x="457200" y="91440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6934320" y="91440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99072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FDC0-C2C3-46B9-96F1-7044EE4B86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30C7-8BD9-41CF-87FA-0F075F89DF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ontext-Free Languages</a:t>
            </a:r>
            <a:endParaRPr b="0" lang="en-US" sz="3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ing 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Pumping Lemma for CFL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text-free language, then there is a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pumping length) where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string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eng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divided into five pie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th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Pumping Lemma as an “Adversary Game” </a:t>
            </a:r>
            <a:endParaRPr b="0" lang="en-US" sz="3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ick a langu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 want to show is not a CF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“adversary” gets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may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parameter when we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dversary gets to break 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bject only to the constraints tha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“win” the game, if we can, by pick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howing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tu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ntext-free langu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a pumping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me pr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exist since there are an infinite number of pr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pumping lemm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rime unless one of the above factors is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&gt; 1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1 si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 was chosen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1:01:27Z</dcterms:created>
  <dc:creator>Joel Castellanos</dc:creator>
  <dc:description/>
  <dc:language>en-US</dc:language>
  <cp:lastModifiedBy>Joel Castellanos</cp:lastModifiedBy>
  <dcterms:modified xsi:type="dcterms:W3CDTF">2007-12-07T06:20:25Z</dcterms:modified>
  <cp:revision>6</cp:revision>
  <dc:subject/>
  <dc:title>Slide 1</dc:title>
</cp:coreProperties>
</file>