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AB0-7C59-4CB3-8716-FF9DD35B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C1E-E699-4685-9396-0B28DD94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EFCD-BF5C-4FCC-B643-5A566389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363-5B56-4665-902C-B4719247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B57E-7911-4F78-BDFE-BE1F16B2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4960-635F-4053-AAAE-574AB79C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5154-5BB6-4047-917D-64DD48B8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1019-0779-4013-A2ED-B1FFD044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0F88-307D-428D-B3F4-553FCEBD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1B27-9195-4319-B2A8-D0AD323B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30E6-468D-4DA5-A0A8-4B530D13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AAF-A143-4C5B-BE95-A06B1FF0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AD63-4DB2-4885-A088-85318BA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62EA-524B-49C6-B43F-DB890F52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9AF7-E577-4483-8739-92E1079E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04C5-F0BF-49A9-BE7C-0CE56ADC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ADB1-CA2F-4031-A42F-4F4042E8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E64-79B2-4C82-9468-6F968A21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E25-71BE-414D-B3C9-BFB4C884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3CB-E835-44E8-8451-DFDB4FDD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DC8-6BBB-40F1-B109-56E94F80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260-E12A-4311-8806-036BDD9C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63D-4288-4525-9D5A-D483F608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5BE-2D82-4DDA-A8E1-EC538973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914400"/>
            <a:ext cx="8305920" cy="182520"/>
            <a:chOff x="457200" y="91440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6934320" y="91440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99072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6B91-FEB9-41BA-97FC-3D2F6FF8AE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BA54-E431-4A3B-9377-035F047AA4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ontext-Free Languages</a:t>
            </a:r>
            <a:endParaRPr b="0" lang="en-US" sz="3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ing Le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Pumping Lemma for CFL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text-free language, then there is a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e pumping length) where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string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length at lea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divided into five pie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=uvxy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the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=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Pumping Lemma as an “Adversary Game” </a:t>
            </a:r>
            <a:endParaRPr b="0" lang="en-US" sz="3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ick a langu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we want to show is not a CF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“adversary” gets to pi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t to pi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may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 parameter when we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dversary gets to break s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xy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bject only to the constraints that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,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“win” the game, if we can, by pick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howing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tu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ntext-free langu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picks a pumping leng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me pr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exist since there are an infinite number of pr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pick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xy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x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pumping lemm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x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prime unless one of the above factors is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&gt; 1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,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1 si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 was chosen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1:01:27Z</dcterms:created>
  <dc:creator>Joel Castellanos</dc:creator>
  <dc:description/>
  <dc:language>en-US</dc:language>
  <cp:lastModifiedBy>Joel Castellanos</cp:lastModifiedBy>
  <dcterms:modified xsi:type="dcterms:W3CDTF">2007-12-07T06:20:25Z</dcterms:modified>
  <cp:revision>6</cp:revision>
  <dc:subject/>
  <dc:title>Slide 1</dc:title>
</cp:coreProperties>
</file>