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33B-ED58-4E3D-B4BB-22EB48FA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106-E5FA-4B65-9812-537BEF3B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13E-A0BA-42AB-8DDF-C9D43FA7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201-7659-4931-85FE-8CCE9090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4D8C-3F59-4116-9231-0CE3326A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9999-AAA8-4E32-8C81-EB53B983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CE78-DEFE-4AC3-99BA-7EE1211D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FDB5-D082-4BEA-9985-D5755BCB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DD06-5E58-4D25-B233-28019BD7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936F-C67C-42F5-B6E4-C31745E9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10B4-3E94-43E6-8168-ABCC447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848-EC99-4869-8755-0D9A4F8A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4833-4DB0-4988-9F66-A1E05B9E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75D7-E34A-49E1-A4BF-9270E555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588A-885F-459F-AD02-E311E79B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B0B5-E2A7-49BE-A4BC-4CF1591C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1426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286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2C72-4F86-4BCA-9F7C-108ADFE2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A3F-414C-41D4-9A49-6BE6D95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9E9-9871-4EA8-8743-51977564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05A-7216-4861-B12B-5AAC0D4C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25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88A-1049-4C7D-9826-1DA4193A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528-CFD2-4807-9B30-481F1853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9286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BC3-E8EF-48C4-867D-580F9A48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368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1426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9286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94A-3DAB-44DF-8F24-DD77C1DF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914400"/>
            <a:ext cx="8305920" cy="182520"/>
            <a:chOff x="457200" y="91440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6934320" y="91440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99072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75D5-46B8-4BDA-BC33-AFBE8FB510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30E9-06B0-4858-ADA6-6FA0310CBF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ontext-Free Languages</a:t>
            </a:r>
            <a:endParaRPr b="0" lang="en-US" sz="3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ing Le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Pumping Lemma for CFL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text-free language, then there is a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pumping length) where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string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length at lea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divided into five pie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uvxy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tisfying th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=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Pumping Lemma as an “Adversary Game” </a:t>
            </a:r>
            <a:endParaRPr b="0" lang="en-US" sz="3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ick a langu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we want to show is not a CF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“adversary” gets to pi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t to pic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may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 parameter when we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dversary gets to break s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xy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bject only to the constraints that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,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21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“win” the game, if we can, by pick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howing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tu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ntext-free langu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1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picks a pumping leng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ome pr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exist since there are an infinite number of pr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ary pick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xy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x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pumping lemm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=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x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-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prime unless one of the above factors is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&gt; 1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,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&gt;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1 si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 was chosen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Example 1: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= { 1</a:t>
            </a:r>
            <a:r>
              <a:rPr b="0" i="1" lang="en-US" sz="3600" spc="-1" strike="noStrike" baseline="30000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where </a:t>
            </a:r>
            <a:r>
              <a:rPr b="0" i="1" lang="en-US" sz="36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330033"/>
                </a:solidFill>
                <a:latin typeface="Arial"/>
              </a:rPr>
              <a:t> is prime}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1:01:27Z</dcterms:created>
  <dc:creator>Joel Castellanos</dc:creator>
  <dc:description/>
  <dc:language>en-US</dc:language>
  <cp:lastModifiedBy>Joel Castellanos</cp:lastModifiedBy>
  <dcterms:modified xsi:type="dcterms:W3CDTF">2007-12-07T06:20:25Z</dcterms:modified>
  <cp:revision>6</cp:revision>
  <dc:subject/>
  <dc:title>Slide 1</dc:title>
</cp:coreProperties>
</file>