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7FB2-1BE7-4E80-A8B2-462096DF8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6396-A951-4041-806E-B49EB4AD0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BD0E-BE98-428E-ADEA-DCE082A89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8871-B712-4919-B029-724B6908C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F838-B659-49D4-81DB-0DBF4D4CB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EBC3-AEA8-49CF-9330-A74DB2E2AE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FA26-6F43-4B18-8EED-533531978D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5632-26FD-4045-9AD2-0A4769B65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2E50-65DF-4269-96CE-C28D3EC7E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B12C-B648-4766-83D2-882505662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B218-7407-4005-8179-4115A49E5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E2E2-58E3-487A-A052-0B91B0205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3D00-9147-40A3-8BE1-D246C4D2A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0368-22F2-41F8-9A00-90E6CBA45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BC31-45BB-440A-A0C3-DE797381135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7238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8BF5-3E47-44D0-AD0E-A6CDDF218BE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19FA-C5D1-43F4-A8A8-68DA2365857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aversal Co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igure()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PushMatrix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orso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otate (…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ead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PopMatrix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PushMatrix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ranslate(…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otate(…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left_upper_arm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PopMatrix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PushMatrix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 flipH="1">
            <a:off x="3657240" y="6248520"/>
            <a:ext cx="1600200" cy="75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5"/>
          <p:cNvSpPr/>
          <p:nvPr/>
        </p:nvSpPr>
        <p:spPr>
          <a:xfrm flipH="1">
            <a:off x="3809880" y="1981080"/>
            <a:ext cx="53352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47000" y="1676520"/>
            <a:ext cx="44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present model-view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282200" y="2286000"/>
            <a:ext cx="48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model-view matrix for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 flipH="1">
            <a:off x="3809880" y="2666880"/>
            <a:ext cx="53352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4333320" y="312408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ver original model-view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"/>
          <p:cNvSpPr/>
          <p:nvPr/>
        </p:nvSpPr>
        <p:spPr>
          <a:xfrm flipH="1">
            <a:off x="3733560" y="3429000"/>
            <a:ext cx="53316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261040" y="37339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it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2"/>
          <p:cNvSpPr/>
          <p:nvPr/>
        </p:nvSpPr>
        <p:spPr>
          <a:xfrm flipH="1">
            <a:off x="4114440" y="3962520"/>
            <a:ext cx="1143000" cy="75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880160" y="4343400"/>
            <a:ext cx="373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model-view matr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eft upper 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4038120" y="4724280"/>
            <a:ext cx="76212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4804920" y="5257800"/>
            <a:ext cx="36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ver and save origi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-view matrix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6"/>
          <p:cNvSpPr/>
          <p:nvPr/>
        </p:nvSpPr>
        <p:spPr>
          <a:xfrm flipH="1">
            <a:off x="3886200" y="5638680"/>
            <a:ext cx="838080" cy="152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5334840" y="60958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18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AFD3-1A38-4752-8E57-E29DF59F435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nalysi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code describes a particular tree and a particular traversal strate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we develop a more general approach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that the sample code does not include state changes, such as changes to col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also want to push and pop other attributes to protect against unexpected state changes affecting later parts of the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C860-11F6-4685-BE05-A2ED59BD526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eneral Tree Data Structu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a data structure to represent tree and an algorithm to traverse the tre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will use 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eft-child right sibling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linked 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node in data structure is two poin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: next n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: linked list of child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C8CD-B55C-4504-BCF6-C0AE256D6C9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eft-Child Right-Sibling Tre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7" name="Picture 4" descr="C:\BOOK\OpenGL\Paul Final\jpeg_new\AN09F15.jpg"/>
          <p:cNvPicPr/>
          <p:nvPr/>
        </p:nvPicPr>
        <p:blipFill>
          <a:blip r:embed="rId1"/>
          <a:srcRect l="0" t="41936" r="0" b="4840"/>
          <a:stretch/>
        </p:blipFill>
        <p:spPr>
          <a:xfrm>
            <a:off x="990720" y="2438280"/>
            <a:ext cx="2838240" cy="2895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BOOK\OpenGL\Paul Final\jpeg_new\AN09F15.jpg"/>
          <p:cNvPicPr/>
          <p:nvPr/>
        </p:nvPicPr>
        <p:blipFill>
          <a:blip r:embed="rId2"/>
          <a:srcRect l="0" t="0" r="0" b="69366"/>
          <a:stretch/>
        </p:blipFill>
        <p:spPr>
          <a:xfrm>
            <a:off x="4876920" y="2438280"/>
            <a:ext cx="3504960" cy="2059200"/>
          </a:xfrm>
          <a:prstGeom prst="rect">
            <a:avLst/>
          </a:prstGeom>
          <a:ln w="0">
            <a:noFill/>
          </a:ln>
        </p:spPr>
      </p:pic>
      <p:sp>
        <p:nvSpPr>
          <p:cNvPr id="119" name="Line 11"/>
          <p:cNvSpPr/>
          <p:nvPr/>
        </p:nvSpPr>
        <p:spPr>
          <a:xfrm flipH="1">
            <a:off x="1828440" y="2438280"/>
            <a:ext cx="441972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1676520" y="3200400"/>
            <a:ext cx="35049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3"/>
          <p:cNvSpPr/>
          <p:nvPr/>
        </p:nvSpPr>
        <p:spPr>
          <a:xfrm flipH="1" flipV="1">
            <a:off x="2133360" y="3657600"/>
            <a:ext cx="2819160" cy="5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4"/>
          <p:cNvSpPr/>
          <p:nvPr/>
        </p:nvSpPr>
        <p:spPr>
          <a:xfrm flipH="1" flipV="1">
            <a:off x="2971440" y="3581280"/>
            <a:ext cx="2514600" cy="5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5"/>
          <p:cNvSpPr/>
          <p:nvPr/>
        </p:nvSpPr>
        <p:spPr>
          <a:xfrm flipH="1">
            <a:off x="3885840" y="4343400"/>
            <a:ext cx="434340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10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8537-09BC-4530-9F12-D320A7CC276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ee node Structu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 each node we need to stor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er to sib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er to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er to a function that draws the object represented by the n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ogeneous coordinate matrix to multiply on the right of the current model-view matr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changes going from parent to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bGL this matrix is a 1D array storing matrix by colum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9274-3211-427E-AB98-F099C8ABB06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reating a treeno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createNode(transfor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der, sibling, child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node =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: transfor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der: rend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bling: sibl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: chi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no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0E8F-939C-4CFC-9673-F2F899D5859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itializing Nod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initNodes(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m = mat4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(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torso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rotate(theta[torsoId], 0, 1, 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[torsoId] = createNode( m, torso, null, headId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head1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head2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translate(0.0, torsoHeight+0.5*headHeight, 0.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mult(m, rotate(theta[head1Id], 1, 0, 0))m = mult(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(theta[head2Id], 0, 1, 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mult(m, translate(0.0, -0.5*headHeight, 0.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[headId] = createNode( m, head, leftUpperArmId, nu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B7BD-B04E-42DB-8B93-9ACCD3AB5BE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186480" indent="-186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osition of figure is determined by 11 joint angles stored i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theta[11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imate by changing the angles and redisplay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form the required matrices using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rotat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cause the matrix is formed using the model-view matrix, we may want to first push original model-view matrix on matrix stac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23DD-81B3-4D40-B4FE-B01B6C7AF2E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eorder Traversa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traverse(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(Id == null) 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.push(modelViewMatri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ViewMatrix = mult(modelViewMatrix, figure[Id]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[Id].rend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(figure[Id].child != null) traverse(figure[Id].child);     modelViewMatrix = stack.pop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(figure[Id].sibling != null) traverse(figure[Id].siblin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render = fun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.clear( gl.COLOR_BUFFER_BIT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rse(torso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AnimFrame(ren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87A2-62C1-4EEF-9799-93DF9C77874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must save model-view matrix before multiplying it by node matrix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dated matrix applies to children of node but not to siblings which contain their own matr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traversal program applies to any left-child right-sibling tre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articular tree is encoded in the definition of the individual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order of traversal matters because of possible state changes in the fun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Hierarchical Modeling I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360" y="32767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F7D7-2AF1-4AC3-80E5-5280091E388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31EA-33AA-4E69-A870-EAF2375E488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ynamic Tre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cause we are using JS, the nodes and the node structure can be changed during exec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nodes and traversal are essentially the same as before but we can add and delete nodes during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sktop OpenGL, if we use pointers, the structure can be 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D1C8-830B-4604-AF2A-87FB273BBC2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ild a tree-structured model of a humanoid fig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ine various traversal strateg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ild a generalized tree-model structure that is independent of the particular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816D-24D1-415E-9F56-57DA3AA0A56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Humanoid Figu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BOOK\OpenGL\Paul Final\jpeg_new\AN09F12.jpg"/>
          <p:cNvPicPr/>
          <p:nvPr/>
        </p:nvPicPr>
        <p:blipFill>
          <a:blip r:embed="rId1"/>
          <a:stretch/>
        </p:blipFill>
        <p:spPr>
          <a:xfrm>
            <a:off x="1371600" y="2209680"/>
            <a:ext cx="1644480" cy="3432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BOOK\OpenGL\Paul Final\jpeg_new\AN09F13.jpg"/>
          <p:cNvPicPr/>
          <p:nvPr/>
        </p:nvPicPr>
        <p:blipFill>
          <a:blip r:embed="rId2"/>
          <a:stretch/>
        </p:blipFill>
        <p:spPr>
          <a:xfrm>
            <a:off x="3200400" y="2514600"/>
            <a:ext cx="5121360" cy="2482920"/>
          </a:xfrm>
          <a:prstGeom prst="rect">
            <a:avLst/>
          </a:prstGeom>
          <a:ln w="0">
            <a:noFill/>
          </a:ln>
        </p:spPr>
      </p:pic>
      <p:sp>
        <p:nvSpPr>
          <p:cNvPr id="67" name="Footer Placeholder 6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BD3E-60E6-4268-A4F9-EE3D82CF311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uilding the Mode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build a simple implementation using quadrics: ellipsoids and cylin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ccess parts through fun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orso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eftUpperArm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trices describe position of node with respect to its par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l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itions left lower leg with respect to left upper a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FE58-2BF2-43EA-A3E2-686B16D8A78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ee with Matri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BOOK\OpenGL\Paul Final\jpeg_new\AN09F14.jpg"/>
          <p:cNvPicPr/>
          <p:nvPr/>
        </p:nvPicPr>
        <p:blipFill>
          <a:blip r:embed="rId1"/>
          <a:stretch/>
        </p:blipFill>
        <p:spPr>
          <a:xfrm>
            <a:off x="762120" y="1752480"/>
            <a:ext cx="7696080" cy="3730680"/>
          </a:xfrm>
          <a:prstGeom prst="rect">
            <a:avLst/>
          </a:prstGeom>
          <a:ln w="0">
            <a:noFill/>
          </a:ln>
        </p:spPr>
      </p:pic>
      <p:sp>
        <p:nvSpPr>
          <p:cNvPr id="76" name="Footer Placeholder 5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6C11-377A-4419-8895-E6609C6B109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splay and Traversa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osition of the figure is determined by 11 joint angles (two for the head and one for each other part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play of the tree requires 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graph travers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it each node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play function at each node that describes the part associated with the node, applying the correct transformation matrix for position and ori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F2BB-B2F2-4710-9DF6-E90890A821B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ansformation Matri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re are 10 relevant matr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itions and orients entire figure through the torso which is the root n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itions head with respect to to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lu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ru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lu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r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ition arms and legs with respect to to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ll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rl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l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rl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ition lower parts of limbs with respect to corresponding upper lim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8693-AF10-4331-B79D-C2893633D4C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tack-based Traversa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t model-view matrix to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draw tors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t model-view matrix to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draw hea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left-upper arm need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lua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ther than recomputing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lu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from scratch or using an inverse matrix, we can use the matrix stack to store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d other matrices as we traverse the tre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1:21:42Z</dcterms:created>
  <dc:creator>Ed Angel</dc:creator>
  <dc:description/>
  <dc:language>en-US</dc:language>
  <cp:lastModifiedBy>Ed Angel</cp:lastModifiedBy>
  <dcterms:modified xsi:type="dcterms:W3CDTF">2014-03-31T17:56:56Z</dcterms:modified>
  <cp:revision>288</cp:revision>
  <dc:subject/>
  <dc:title>PowerPoint Presentation</dc:title>
</cp:coreProperties>
</file>