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40058-00FB-4110-9111-43CCCDAACD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08616-DEA6-4B2E-A7CF-307B727F07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17EDB-C7EB-4337-808E-2FE0105D13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0676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03F9C-8627-4C9C-8074-A5FC6F9ABA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46EA5-78E3-4A0F-93F5-26C867838B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998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998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0676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0676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0676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E981B-3B7C-4E5A-A0C9-0A2BE410E6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755ED-6163-4643-B28F-9B7EF148E36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BED12-D7DD-4653-B2FA-73C4403284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59410-3A82-4609-B279-CAA1A39221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009AE-008A-4BA4-91DE-E1F4E1352F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6248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8A874-0EAD-499E-B16D-1B9E2F7B0D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BB4CB-AC99-4293-AA7A-5E7D5C8A2F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EBAF3-711B-4B4B-88D1-BBBCB465ED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0676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31839-D367-4289-8FD2-77D37F680C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77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77320" y="63241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314EA-D34D-4733-B3AB-649CF02EA3B6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1447920"/>
            <a:ext cx="6172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152280" y="228600"/>
          <a:ext cx="13716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1371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400440"/>
            <a:ext cx="6477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FE413-F191-4DCD-97D7-74ED09D61477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Introduction to Computer Graphics with WebGL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543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 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Emeritus of Computer Scien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nding Director, Arts, Research, Technology and Science Laborator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457200" y="6400800"/>
            <a:ext cx="6477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three.js scen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440" y="15998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967F7-2FC2-460C-90E0-243130036D06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Box 4"/>
          <p:cNvSpPr/>
          <p:nvPr/>
        </p:nvSpPr>
        <p:spPr>
          <a:xfrm>
            <a:off x="380880" y="2286000"/>
            <a:ext cx="84582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 scene = new THREE.Scen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 camera = new THREE.PerspectiveCamera(75, window.innerWidth/            window.innerHeight, 0.1, 100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 renderer = new THREE.WebGLRenderer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nderer.setSize(window.innerWidth, window.innerHeigh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cument.body.appendChild(renderer.domElemen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 geometry = new THREE.CubeGeometry(1,1,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 material = new THREE.MeshBasicMaterial({color: 0x00ff00}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 cube = new THREE.Mesh(geometry, material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ene.add(cub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mera.position.z = 5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ooter Placeholder 5"/>
          <p:cNvSpPr/>
          <p:nvPr/>
        </p:nvSpPr>
        <p:spPr>
          <a:xfrm>
            <a:off x="457200" y="6400800"/>
            <a:ext cx="6477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three.js render loop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440" y="15998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E6169-34A2-4E20-A20B-6B8ADB1D640C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1523880" y="2438280"/>
            <a:ext cx="8458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 render = function 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estAnimationFrame(render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be.rotation.x += 0.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be.rotation.y += 0.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nderer.render(scene, camera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nder(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Footer Placeholder 5"/>
          <p:cNvSpPr/>
          <p:nvPr/>
        </p:nvSpPr>
        <p:spPr>
          <a:xfrm>
            <a:off x="457200" y="6400800"/>
            <a:ext cx="6477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Graphical Objects and Scene Graphs 2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838080" y="3276720"/>
            <a:ext cx="74678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 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Emeritus of Computer Scien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535BB-97C3-4050-A9DF-FC6BA9316CF3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457200" y="6400800"/>
            <a:ext cx="6477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Objectiv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ok at some real scene graph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ree.js (threejs.org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cene graph rendering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584B9-50DF-42EA-ADFE-301D6DD928F9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457200" y="6400800"/>
            <a:ext cx="6477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Scene Graph History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180720" indent="-1807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penGL development based largely on people who wanted to exploit hardwar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al time graph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imation and simu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nd-alone applic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80720" indent="-1807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AD community needed to be able to share databas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al time not and photorealism not issu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ed cross-platform capabi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rst attempt: PHI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E3DC2-3FAE-464B-B729-DBF253411C50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Footer Placeholder 4"/>
          <p:cNvSpPr/>
          <p:nvPr/>
        </p:nvSpPr>
        <p:spPr>
          <a:xfrm>
            <a:off x="457200" y="6400800"/>
            <a:ext cx="6477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Scene Graph Organization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DEE90-B3AB-4AF4-AED5-61D293ADDE3E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3124080" y="4267080"/>
            <a:ext cx="1905120" cy="6098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6248520" y="3124080"/>
            <a:ext cx="1904760" cy="6098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990720" y="4267080"/>
            <a:ext cx="1904760" cy="6098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5410080" y="4267080"/>
            <a:ext cx="1905120" cy="6098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9"/>
          <p:cNvSpPr/>
          <p:nvPr/>
        </p:nvSpPr>
        <p:spPr>
          <a:xfrm>
            <a:off x="990720" y="5410080"/>
            <a:ext cx="1904760" cy="6098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10"/>
          <p:cNvSpPr/>
          <p:nvPr/>
        </p:nvSpPr>
        <p:spPr>
          <a:xfrm>
            <a:off x="3124080" y="1981080"/>
            <a:ext cx="1905120" cy="6098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ene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Straight Connector 12"/>
          <p:cNvSpPr/>
          <p:nvPr/>
        </p:nvSpPr>
        <p:spPr>
          <a:xfrm flipH="1">
            <a:off x="4074840" y="2592360"/>
            <a:ext cx="3240" cy="1676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3124080" y="3124080"/>
            <a:ext cx="2362320" cy="6098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ene Graph A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Straight Connector 14"/>
          <p:cNvSpPr/>
          <p:nvPr/>
        </p:nvSpPr>
        <p:spPr>
          <a:xfrm>
            <a:off x="5486400" y="3429000"/>
            <a:ext cx="7621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Straight Connector 16"/>
          <p:cNvSpPr/>
          <p:nvPr/>
        </p:nvSpPr>
        <p:spPr>
          <a:xfrm flipH="1">
            <a:off x="1942920" y="3733200"/>
            <a:ext cx="14857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Straight Connector 18"/>
          <p:cNvSpPr/>
          <p:nvPr/>
        </p:nvSpPr>
        <p:spPr>
          <a:xfrm>
            <a:off x="4800600" y="3733920"/>
            <a:ext cx="129528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Straight Connector 20"/>
          <p:cNvSpPr/>
          <p:nvPr/>
        </p:nvSpPr>
        <p:spPr>
          <a:xfrm flipH="1">
            <a:off x="1941120" y="4878360"/>
            <a:ext cx="324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Footer Placeholder 15"/>
          <p:cNvSpPr/>
          <p:nvPr/>
        </p:nvSpPr>
        <p:spPr>
          <a:xfrm>
            <a:off x="457200" y="6400800"/>
            <a:ext cx="6477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EF2A6-7CB5-48DE-9591-3532A27B3DC1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Inventor and Java3D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ventor and Java3D provide a scene graph API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cene graphs can also be described by a file (text or binary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lementation independent way of transporting sce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ported by scene graph AP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owever, primitives supported should match capabilities of graphics system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nce most scene graph APIs are built on top of OpenGL, WebGL or DirectX (for PC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ooter Placeholder 4"/>
          <p:cNvSpPr/>
          <p:nvPr/>
        </p:nvSpPr>
        <p:spPr>
          <a:xfrm>
            <a:off x="457200" y="6400800"/>
            <a:ext cx="6477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91B58-A1A5-4A99-AEC6-5B45EBB204D9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VRML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ant to have a scene graph that can be used over the World Wide Web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Need links to other sites to support distributed data bas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000000"/>
                </a:solidFill>
                <a:uFillTx/>
                <a:latin typeface="Arial"/>
              </a:rPr>
              <a:t>V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rtual </a:t>
            </a:r>
            <a:r>
              <a:rPr b="0" lang="en-US" sz="3100" spc="-1" strike="noStrike" u="sng">
                <a:solidFill>
                  <a:srgbClr val="000000"/>
                </a:solidFill>
                <a:uFillTx/>
                <a:latin typeface="Arial"/>
              </a:rPr>
              <a:t>R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ality </a:t>
            </a:r>
            <a:r>
              <a:rPr b="0" lang="en-US" sz="3100" spc="-1" strike="noStrike" u="sng">
                <a:solidFill>
                  <a:srgbClr val="000000"/>
                </a:solidFill>
                <a:uFillTx/>
                <a:latin typeface="Arial"/>
              </a:rPr>
              <a:t>M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rkup </a:t>
            </a:r>
            <a:r>
              <a:rPr b="0" lang="en-US" sz="3100" spc="-1" strike="noStrike" u="sng">
                <a:solidFill>
                  <a:srgbClr val="000000"/>
                </a:solidFill>
                <a:uFillTx/>
                <a:latin typeface="Arial"/>
              </a:rPr>
              <a:t>L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nguag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sed on Inventor data b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lemented with OpenG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ooter Placeholder 4"/>
          <p:cNvSpPr/>
          <p:nvPr/>
        </p:nvSpPr>
        <p:spPr>
          <a:xfrm>
            <a:off x="457200" y="6400800"/>
            <a:ext cx="6477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Open Scene Graph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upports very complex geometries by adding occulusion culling in first pas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upports translucently through a second pass that sorts the geometr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rst two passes yield a geometry list that is rendered by the pipeline in a third pas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37202-D353-4472-8C2B-7F46E9D5481C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Footer Placeholder 4"/>
          <p:cNvSpPr/>
          <p:nvPr/>
        </p:nvSpPr>
        <p:spPr>
          <a:xfrm>
            <a:off x="457200" y="6400800"/>
            <a:ext cx="6477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three.j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440" y="15998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opular scene graph built on top of WebG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so supports other render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e threejs.org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y to downlo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ny ex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lso Eric Haines’ Udacity cours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jor differences in approaches to computer graphic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D7DA5-E589-4EE0-A04B-B5FBE9260D31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Footer Placeholder 4"/>
          <p:cNvSpPr/>
          <p:nvPr/>
        </p:nvSpPr>
        <p:spPr>
          <a:xfrm>
            <a:off x="457200" y="6400800"/>
            <a:ext cx="6477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1T01:54:49Z</dcterms:created>
  <dc:creator>Ed Angel</dc:creator>
  <dc:description/>
  <dc:language>en-US</dc:language>
  <cp:lastModifiedBy>Ed Angel</cp:lastModifiedBy>
  <dcterms:modified xsi:type="dcterms:W3CDTF">2014-03-31T17:57:29Z</dcterms:modified>
  <cp:revision>304</cp:revision>
  <dc:subject/>
  <dc:title>PowerPoint Presentation</dc:title>
</cp:coreProperties>
</file>