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9700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9480" y="686880"/>
            <a:ext cx="4579920" cy="343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9700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0F9904-739E-4672-9A55-7B86E9A86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0E914C-C4A1-49A0-A65D-F2FB40219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F3E9-4EAE-430B-B095-5CFAAE495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E7A5-CB06-4D00-A9C1-59B4DCA8F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F7C1-C232-4623-8410-81C79CDA6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3DFB-89C0-47D1-92B8-640020038F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2A8AA-05BC-458E-922B-B02E6CDF34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021D-F3C5-4175-8E1C-986909FB4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5D3F-EB9C-438A-8632-9AEDF6B17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C4A9-C2C0-4554-8657-AA1B576A1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64268-FC99-4360-8299-0BD4C097E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2201-93D8-4A07-8A2F-591863DED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140C-A4F3-4046-89D9-8C7D756F3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D752-D3C6-4EB2-B27C-1210B169F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686C-BF2F-4A42-A87D-A6ADC187A14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7086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525F-67F5-4267-B2C2-1A90B6863CD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251C-A65C-4BF3-B8ED-C74D2976192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p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ust as a real camera cannot “see” the whole world, the virtual camera can only see part of the world or object sp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s that are not within this volume are said to b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lipp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ut of the sce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an05f24"/>
          <p:cNvPicPr/>
          <p:nvPr/>
        </p:nvPicPr>
        <p:blipFill>
          <a:blip r:embed="rId1"/>
          <a:stretch/>
        </p:blipFill>
        <p:spPr>
          <a:xfrm>
            <a:off x="1447920" y="3886200"/>
            <a:ext cx="2849400" cy="252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an05f25"/>
          <p:cNvPicPr/>
          <p:nvPr/>
        </p:nvPicPr>
        <p:blipFill>
          <a:blip r:embed="rId2"/>
          <a:stretch/>
        </p:blipFill>
        <p:spPr>
          <a:xfrm>
            <a:off x="4648320" y="4038480"/>
            <a:ext cx="3886200" cy="2149560"/>
          </a:xfrm>
          <a:prstGeom prst="rect">
            <a:avLst/>
          </a:prstGeom>
          <a:ln w="0">
            <a:noFill/>
          </a:ln>
        </p:spPr>
      </p:pic>
      <p:sp>
        <p:nvSpPr>
          <p:cNvPr id="98" name="Footer Placeholder 6"/>
          <p:cNvSpPr/>
          <p:nvPr/>
        </p:nvSpPr>
        <p:spPr>
          <a:xfrm>
            <a:off x="45720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4E41-9834-46DD-AA13-6151D0930EB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steriz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an object is not clipped out, the appropriate pixels in the frame buffer must be assigned col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sterizer produces a set of fragments for each obj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agments are “potential pixels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location in frame buf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or and depth attrib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rtex attributes are interpolated over objects by the rasteriz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838080" y="5638680"/>
            <a:ext cx="6885000" cy="489240"/>
          </a:xfrm>
          <a:prstGeom prst="rect">
            <a:avLst/>
          </a:prstGeom>
          <a:ln w="0">
            <a:noFill/>
          </a:ln>
        </p:spPr>
      </p:pic>
      <p:sp>
        <p:nvSpPr>
          <p:cNvPr id="103" name="Footer Placeholder 5"/>
          <p:cNvSpPr/>
          <p:nvPr/>
        </p:nvSpPr>
        <p:spPr>
          <a:xfrm>
            <a:off x="45720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A374-D4FD-429A-90AB-B2E8F782BE1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Fragment Processing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ragments are processed to determine the color of the corresponding pixel in the frame buff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lors can be determined by texture mapping or interpolation of vertex col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ragments may be blocked by other fragments closer to the camera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dden-surface remov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762120" y="5715000"/>
            <a:ext cx="6885000" cy="488880"/>
          </a:xfrm>
          <a:prstGeom prst="rect">
            <a:avLst/>
          </a:prstGeom>
          <a:ln w="0">
            <a:noFill/>
          </a:ln>
        </p:spPr>
      </p:pic>
      <p:sp>
        <p:nvSpPr>
          <p:cNvPr id="108" name="Footer Placeholder 5"/>
          <p:cNvSpPr/>
          <p:nvPr/>
        </p:nvSpPr>
        <p:spPr>
          <a:xfrm>
            <a:off x="45720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8F7A-223D-4C08-ABAD-1DA0CF9E83D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e Programmer’s Interfac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grammer sees the graphics system through a software interface: the Application Programmer Interface (AP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29" descr="ftp://ftp.cs.unm.edu/pub/angel/BOOK/SECOND_EDITION/FIGURES/JPEG/an01f22.jpg"/>
          <p:cNvPicPr/>
          <p:nvPr/>
        </p:nvPicPr>
        <p:blipFill>
          <a:blip r:embed="rId1"/>
          <a:stretch/>
        </p:blipFill>
        <p:spPr>
          <a:xfrm>
            <a:off x="990720" y="3733920"/>
            <a:ext cx="6340320" cy="2182680"/>
          </a:xfrm>
          <a:prstGeom prst="rect">
            <a:avLst/>
          </a:prstGeom>
          <a:ln w="0">
            <a:noFill/>
          </a:ln>
        </p:spPr>
      </p:pic>
      <p:sp>
        <p:nvSpPr>
          <p:cNvPr id="113" name="Footer Placeholder 5"/>
          <p:cNvSpPr/>
          <p:nvPr/>
        </p:nvSpPr>
        <p:spPr>
          <a:xfrm>
            <a:off x="45720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DABD-3628-4B65-937C-5339D7E880B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PI Conten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unctions that specify what we need to form an im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 Source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infor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put from devices such as mouse and key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pabilities of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45720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2015-9629-4A7D-AE52-89E6BC19A71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 Specific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st APIs support a limited set of primitives includ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s (0D obje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segments (1D objec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gons (2D objec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curves and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ric polynom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l are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fined through locations in space or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verti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45720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E0DB-0B8D-4810-961C-585F801FB5D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mple (old style)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Begin(GL_POLYG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Vertex3f(0.0, 0.0, 0.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Vertex3f(0.0, 1.0, 0.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Vertex3f(0.0, 0.0, 1.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End(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870720" y="179388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ype of objec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3352320" y="2286000"/>
            <a:ext cx="1143000" cy="4572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4648320" y="2590920"/>
            <a:ext cx="1295280" cy="6858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5004360" y="2251080"/>
            <a:ext cx="23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cation of vertex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680480" y="522288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d of object definitio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" name="Line 11"/>
          <p:cNvSpPr/>
          <p:nvPr/>
        </p:nvSpPr>
        <p:spPr>
          <a:xfrm flipH="1" flipV="1">
            <a:off x="1904760" y="4723920"/>
            <a:ext cx="9903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" name="Footer Placeholder 10"/>
          <p:cNvSpPr/>
          <p:nvPr/>
        </p:nvSpPr>
        <p:spPr>
          <a:xfrm>
            <a:off x="45720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mple (GPU based)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D7EC-729E-406A-8722-036033D2FA6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09480" y="227484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points = [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c3(0.0, 0.0, 0.0),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c3(0.0, 1.0, 0.0),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c3(0.0, 0.0, 1.0),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6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ut geometric data in an arr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nd array to GP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ll GPU to render as triang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5"/>
          <p:cNvSpPr/>
          <p:nvPr/>
        </p:nvSpPr>
        <p:spPr>
          <a:xfrm>
            <a:off x="45720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68F3-4663-4D38-8462-EEB4147E24A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amera Specific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 degrees of freedo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 of center of l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lm siz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ientation of film pla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ftp://ftp.cs.unm.edu/pub/angel/BOOK/SECOND_EDITION/FIGURES/JPEG/an01f23.jpg"/>
          <p:cNvPicPr/>
          <p:nvPr/>
        </p:nvPicPr>
        <p:blipFill>
          <a:blip r:embed="rId1"/>
          <a:stretch/>
        </p:blipFill>
        <p:spPr>
          <a:xfrm>
            <a:off x="5181480" y="1828800"/>
            <a:ext cx="3378240" cy="3378240"/>
          </a:xfrm>
          <a:prstGeom prst="rect">
            <a:avLst/>
          </a:prstGeom>
          <a:ln w="0">
            <a:noFill/>
          </a:ln>
        </p:spPr>
      </p:pic>
      <p:sp>
        <p:nvSpPr>
          <p:cNvPr id="141" name="Footer Placeholder 5"/>
          <p:cNvSpPr/>
          <p:nvPr/>
        </p:nvSpPr>
        <p:spPr>
          <a:xfrm>
            <a:off x="45720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28FD-2AB5-4CA2-8932-0AF22BC0FD7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Lights and Material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ypes of ligh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 sources vs distributed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t l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ar and far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 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terial propert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orption: color 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45720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18C8-3F46-4F11-9082-1E6D8092316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odels and Architectur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32767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B14F-4238-4E91-8A13-451671760CC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rn the basic design of a graphics 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pipeline archite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ine software components for an interactive graphics 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859A-F833-4F03-B3D1-FF9E40C3A1F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mage Formation Revisited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we mimic the synthetic camera model to design graphics hardware software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plication Programmer Interface (AP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only specif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ut how is the API implemented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03EB-ABA1-4581-9CA3-FBA2E5C4CE0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7" name="Picture 5" descr="an06f44"/>
          <p:cNvPicPr/>
          <p:nvPr/>
        </p:nvPicPr>
        <p:blipFill>
          <a:blip r:embed="rId1"/>
          <a:stretch/>
        </p:blipFill>
        <p:spPr>
          <a:xfrm>
            <a:off x="5562720" y="2514600"/>
            <a:ext cx="2835000" cy="2620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hysical Approach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y trac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ollow rays of light from center of projection until they either are absorbed by objects or go off to infi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handle global ef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ref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ucen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have whole data 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ilable at all tim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o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nergy bas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s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5"/>
          <p:cNvSpPr/>
          <p:nvPr/>
        </p:nvSpPr>
        <p:spPr>
          <a:xfrm>
            <a:off x="45720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2021-FAE2-4591-A3C1-4CB048BE6E0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actical Approach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cess objects one at a time in the order they are generated by the appli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consider only local ligh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ipeline archite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l steps can be implemented in hardware on the graphics car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55400" y="4191120"/>
            <a:ext cx="15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544160" y="43434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533520" y="3505320"/>
            <a:ext cx="8153280" cy="579240"/>
          </a:xfrm>
          <a:prstGeom prst="rect">
            <a:avLst/>
          </a:prstGeom>
          <a:ln w="0">
            <a:noFill/>
          </a:ln>
        </p:spPr>
      </p:pic>
      <p:sp>
        <p:nvSpPr>
          <p:cNvPr id="77" name="Footer Placeholder 7"/>
          <p:cNvSpPr/>
          <p:nvPr/>
        </p:nvSpPr>
        <p:spPr>
          <a:xfrm>
            <a:off x="45720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246C-E17B-4636-BE93-73245750B03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ertex Process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uch of the work in the pipeline is in converting object representations from one coordinate system to ano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coordin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mera (eye) coordin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reen coordin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ery change of coordinates is equivalent to a matrix transform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rtex processor also computes vertex col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685800" y="5638680"/>
            <a:ext cx="7315200" cy="519120"/>
          </a:xfrm>
          <a:prstGeom prst="rect">
            <a:avLst/>
          </a:prstGeom>
          <a:ln w="0">
            <a:noFill/>
          </a:ln>
        </p:spPr>
      </p:pic>
      <p:sp>
        <p:nvSpPr>
          <p:cNvPr id="82" name="Footer Placeholder 5"/>
          <p:cNvSpPr/>
          <p:nvPr/>
        </p:nvSpPr>
        <p:spPr>
          <a:xfrm>
            <a:off x="45720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9027-DE45-41AC-96A7-7F8CC66EA96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je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Projection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e process that combines the 3D viewer with the 3D objects to produce the 2D im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pective projections: all projectors meet at the center of proj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llel projection: projectors are parallel, center of projection is replaced by a direction of proj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1066680" y="5410080"/>
            <a:ext cx="7086600" cy="50328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5"/>
          <p:cNvSpPr/>
          <p:nvPr/>
        </p:nvSpPr>
        <p:spPr>
          <a:xfrm>
            <a:off x="45720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1B25-F667-49E4-B5D5-333D6EF4E9C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imitive Assembl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ertices must be collected into geometric objects before clipping and rasterization can take pl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seg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g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ves and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914400" y="5562720"/>
            <a:ext cx="6885000" cy="488880"/>
          </a:xfrm>
          <a:prstGeom prst="rect">
            <a:avLst/>
          </a:prstGeom>
          <a:ln w="0">
            <a:noFill/>
          </a:ln>
        </p:spPr>
      </p:pic>
      <p:sp>
        <p:nvSpPr>
          <p:cNvPr id="92" name="Footer Placeholder 5"/>
          <p:cNvSpPr/>
          <p:nvPr/>
        </p:nvSpPr>
        <p:spPr>
          <a:xfrm>
            <a:off x="457200" y="640080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05:15:48Z</dcterms:created>
  <dc:creator>Ed Angel</dc:creator>
  <dc:description/>
  <dc:language>en-US</dc:language>
  <cp:lastModifiedBy>Ed Angel</cp:lastModifiedBy>
  <dcterms:modified xsi:type="dcterms:W3CDTF">2014-03-31T17:39:53Z</dcterms:modified>
  <cp:revision>37</cp:revision>
  <dc:subject/>
  <dc:title>PowerPoint Presentation</dc:title>
</cp:coreProperties>
</file>