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1CB2C-7584-41E8-B55A-CEF5B66D7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41329-2B0D-4A3C-AA4D-F2D8C651B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409A-D8E7-4B3D-95DF-A8B3924B3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52AD-1047-4A15-854C-C6F6C5D15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5A57D-FF99-4F3B-9203-74C2BF22A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AE39-4E4F-4835-BA17-99726C760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83669-3FEB-4B73-BC9D-1927193E8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44F98-1A5C-4C90-9930-22AAF36AE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647F-74E1-4A64-BBB6-7F429E175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5382B-F605-40E2-99E4-1D7C5A5B0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AC4E4-6113-471E-BEED-390512661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4F547-E299-43F5-B4DE-89561C6CB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4675-4A70-495F-9A3F-6F23CC16D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D719-534D-49C5-BCB2-E97D1D3B9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42EA-46B7-43CE-B755-AFB54A822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BA95-4C0A-42C4-BAE7-8A6ED6333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1D1B-8134-412A-82EE-88219CF1A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8549-6EB8-4773-8F22-1E25C8AF0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29B5-4FC0-4653-90B9-9AA220050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EBEF-3843-436D-91C0-2234E5339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910E-E7CA-437E-848C-C150D9BA2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2520-5BA6-46BB-BC21-80AC6D3A0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8EA2-FCBB-4BFA-8D84-175BE4656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A112-0D73-4126-AB10-BB6E857CF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4099-B53F-45DE-AA93-07F417F6A8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78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60E6-8EDD-4F03-A78E-723C67247A4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F287-13F3-4DA2-8BA6-D2F2F00495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ecution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657600" y="4572000"/>
            <a:ext cx="175248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657600" y="2590920"/>
            <a:ext cx="175248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324480" y="4572000"/>
            <a:ext cx="175284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914400" y="4648320"/>
            <a:ext cx="167652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Elbow Connector 18"/>
          <p:cNvCxnSpPr>
            <a:stCxn id="108" idx="0"/>
            <a:endCxn id="106" idx="1"/>
          </p:cNvCxnSpPr>
          <p:nvPr/>
        </p:nvCxnSpPr>
        <p:spPr>
          <a:xfrm flipH="1" flipV="1" rot="5400000">
            <a:off x="1866600" y="2856960"/>
            <a:ext cx="1677240" cy="1905840"/>
          </a:xfrm>
          <a:prstGeom prst="bentConnector2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0" name="Straight Arrow Connector 21"/>
          <p:cNvCxnSpPr/>
          <p:nvPr/>
        </p:nvCxnSpPr>
        <p:spPr>
          <a:xfrm flipH="1">
            <a:off x="4417200" y="3354480"/>
            <a:ext cx="396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23"/>
          <p:cNvCxnSpPr>
            <a:stCxn id="108" idx="3"/>
          </p:cNvCxnSpPr>
          <p:nvPr/>
        </p:nvCxnSpPr>
        <p:spPr>
          <a:xfrm>
            <a:off x="2590560" y="5105520"/>
            <a:ext cx="10674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25"/>
          <p:cNvCxnSpPr>
            <a:stCxn id="105" idx="3"/>
            <a:endCxn id="107" idx="1"/>
          </p:cNvCxnSpPr>
          <p:nvPr/>
        </p:nvCxnSpPr>
        <p:spPr>
          <a:xfrm>
            <a:off x="5410080" y="5029200"/>
            <a:ext cx="9151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6"/>
          <p:cNvSpPr/>
          <p:nvPr/>
        </p:nvSpPr>
        <p:spPr>
          <a:xfrm>
            <a:off x="2219400" y="55627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draw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5324760" y="5638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1534320" y="2133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1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5351-A435-43E3-869E-9E68FE59F89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 Fragment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cision mediump floa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_FragColor = vec4(1.0, 0.0, 0.0, 1.0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8FF-C7B9-4DC3-8326-44E66CD087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ecution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657600" y="4572000"/>
            <a:ext cx="175248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657600" y="2590920"/>
            <a:ext cx="175248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324480" y="4572000"/>
            <a:ext cx="175284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914400" y="4648320"/>
            <a:ext cx="167652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Straight Arrow Connector 11"/>
          <p:cNvCxnSpPr/>
          <p:nvPr/>
        </p:nvCxnSpPr>
        <p:spPr>
          <a:xfrm flipH="1">
            <a:off x="4417200" y="3354480"/>
            <a:ext cx="396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12"/>
          <p:cNvCxnSpPr>
            <a:stCxn id="126" idx="3"/>
          </p:cNvCxnSpPr>
          <p:nvPr/>
        </p:nvCxnSpPr>
        <p:spPr>
          <a:xfrm>
            <a:off x="2590560" y="5105520"/>
            <a:ext cx="10674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3"/>
          <p:cNvCxnSpPr>
            <a:stCxn id="123" idx="3"/>
            <a:endCxn id="125" idx="1"/>
          </p:cNvCxnSpPr>
          <p:nvPr/>
        </p:nvCxnSpPr>
        <p:spPr>
          <a:xfrm>
            <a:off x="5410080" y="5029200"/>
            <a:ext cx="9151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14"/>
          <p:cNvSpPr/>
          <p:nvPr/>
        </p:nvSpPr>
        <p:spPr>
          <a:xfrm>
            <a:off x="2216880" y="563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340960" y="56386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1382040" y="35053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13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3: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41148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0F8-735C-47BB-B6BF-607BE795AA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ACC4-AB1F-4DFD-8671-DA12A5195E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ing shaders with GLS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ish first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6AE-A364-4D9E-8158-B2D92F5586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Vertex Shader Application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ving vert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ph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mo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alistic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toon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28E-3620-4D88-8685-11765961388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 Applic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 fragment lighting calcu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7441" t="22223" r="1396" b="18518"/>
          <a:stretch/>
        </p:blipFill>
        <p:spPr>
          <a:xfrm>
            <a:off x="685800" y="2971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rcRect l="5580" t="24076" r="1434" b="18518"/>
          <a:stretch/>
        </p:blipFill>
        <p:spPr>
          <a:xfrm>
            <a:off x="4876920" y="3048120"/>
            <a:ext cx="3809880" cy="236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551240" y="556272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vertex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192280" y="563868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fragment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8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E2F4-3CE3-4315-A63C-A2A19E3586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ragment Shader Applic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ue4"/>
          <p:cNvPicPr/>
          <p:nvPr/>
        </p:nvPicPr>
        <p:blipFill>
          <a:blip r:embed="rId1"/>
          <a:stretch/>
        </p:blipFill>
        <p:spPr>
          <a:xfrm>
            <a:off x="380880" y="259092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ue7"/>
          <p:cNvPicPr/>
          <p:nvPr/>
        </p:nvPicPr>
        <p:blipFill>
          <a:blip r:embed="rId2"/>
          <a:stretch/>
        </p:blipFill>
        <p:spPr>
          <a:xfrm>
            <a:off x="335268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ue6"/>
          <p:cNvPicPr/>
          <p:nvPr/>
        </p:nvPicPr>
        <p:blipFill>
          <a:blip r:embed="rId3"/>
          <a:stretch/>
        </p:blipFill>
        <p:spPr>
          <a:xfrm>
            <a:off x="6248520" y="2590920"/>
            <a:ext cx="2695320" cy="2695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609480" y="5562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42280" y="55627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629040" y="55627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p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10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22F9-118F-47D3-8AE0-A3F61EF1A9A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riting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programmable shaders were programmed in an assembly-like mann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extensions added functions for vertex and fragment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g (C for graphics) C-like language for programming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 with both OpenGL and Direct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ace to OpenGL co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Shading Language (GLS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A73-9C6C-4869-B991-4B60D88FAA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S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Shading 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 of OpenGL 2.0 and u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 level C-like 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w data ty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p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of OpenGL 3.1, application must provide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76E-E5CE-4B86-ACBD-F416EB5904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 Vertex Shad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 vec4 vPosition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l_Position = vPosition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 flipH="1" flipV="1">
            <a:off x="2666160" y="4419360"/>
            <a:ext cx="686520" cy="915120"/>
          </a:xfrm>
          <a:prstGeom prst="straightConnector1">
            <a:avLst/>
          </a:prstGeom>
          <a:ln w="1260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96" name="Straight Arrow Connector 12"/>
          <p:cNvCxnSpPr/>
          <p:nvPr/>
        </p:nvCxnSpPr>
        <p:spPr>
          <a:xfrm flipH="1">
            <a:off x="1065960" y="1752480"/>
            <a:ext cx="1296360" cy="457920"/>
          </a:xfrm>
          <a:prstGeom prst="straightConnector1">
            <a:avLst/>
          </a:prstGeom>
          <a:ln w="1260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97" name="Straight Arrow Connector 14"/>
          <p:cNvCxnSpPr>
            <a:stCxn id="98" idx="1"/>
          </p:cNvCxnSpPr>
          <p:nvPr/>
        </p:nvCxnSpPr>
        <p:spPr>
          <a:xfrm flipH="1" flipV="1">
            <a:off x="3809520" y="2666160"/>
            <a:ext cx="610560" cy="383400"/>
          </a:xfrm>
          <a:prstGeom prst="straightConnector1">
            <a:avLst/>
          </a:prstGeom>
          <a:ln w="12600">
            <a:solidFill>
              <a:srgbClr val="00cc99"/>
            </a:solidFill>
            <a:miter/>
            <a:tailEnd len="med" type="arrow" w="med"/>
          </a:ln>
        </p:spPr>
      </p:cxnSp>
      <p:pic>
        <p:nvPicPr>
          <p:cNvPr id="99" name="TextBox 15" descr=""/>
          <p:cNvPicPr/>
          <p:nvPr/>
        </p:nvPicPr>
        <p:blipFill>
          <a:blip r:embed="rId1"/>
          <a:stretch/>
        </p:blipFill>
        <p:spPr>
          <a:xfrm>
            <a:off x="2432160" y="1596960"/>
            <a:ext cx="296856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6" descr=""/>
          <p:cNvPicPr/>
          <p:nvPr/>
        </p:nvPicPr>
        <p:blipFill>
          <a:blip r:embed="rId2"/>
          <a:stretch/>
        </p:blipFill>
        <p:spPr>
          <a:xfrm>
            <a:off x="4413240" y="2816280"/>
            <a:ext cx="452916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8" descr=""/>
          <p:cNvPicPr/>
          <p:nvPr/>
        </p:nvPicPr>
        <p:blipFill>
          <a:blip r:embed="rId3"/>
          <a:stretch/>
        </p:blipFill>
        <p:spPr>
          <a:xfrm>
            <a:off x="3498840" y="5327640"/>
            <a:ext cx="219564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10"/>
          <p:cNvSpPr/>
          <p:nvPr/>
        </p:nvSpPr>
        <p:spPr>
          <a:xfrm>
            <a:off x="457200" y="64008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2:24:57Z</dcterms:created>
  <dc:creator>Ed Angel</dc:creator>
  <dc:description/>
  <dc:language>en-US</dc:language>
  <cp:lastModifiedBy>Ed Angel</cp:lastModifiedBy>
  <dcterms:modified xsi:type="dcterms:W3CDTF">2014-03-31T17:41:49Z</dcterms:modified>
  <cp:revision>77</cp:revision>
  <dc:subject/>
  <dc:title>PowerPoint Presentation</dc:title>
</cp:coreProperties>
</file>