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8432-7D17-484A-89F1-B3E84D688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3EF7-D247-44CE-8A9D-7E51B27A5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AD84-6EA7-4E95-BDCC-58ED631F0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955B-771F-4E59-82C9-CE6C3B894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2430-5E77-462B-AB42-AB2F6537B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43C9-8B47-479A-B8EF-F03857D338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9B44-C834-4705-BA4A-A6CC1B202A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AC0F-A704-4B00-82CC-2A0545736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B7FB-4549-4DB3-809D-EF4BEE0AB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61E2-51EE-4420-A956-587D92017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E285-2623-4E4C-9F85-3E8025A6D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0DFC-7FE1-48F4-ACCC-ACD165108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E3D6-A024-4034-B1A9-65C1C763F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6769-EC37-4D93-8465-958A05F23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0885-F28D-4CFE-B924-BC609D53747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78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7C4A-9213-4896-A361-386D938547B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D989-9DF9-411A-B35E-F53F086F778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lending Fun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se functions are not smoot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nce the interpolation polynomial is not smo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:\BOOK\OpenGL\Paul Final\jpeg_new\AN10F11.jpg"/>
          <p:cNvPicPr/>
          <p:nvPr/>
        </p:nvPicPr>
        <p:blipFill>
          <a:blip r:embed="rId1"/>
          <a:stretch/>
        </p:blipFill>
        <p:spPr>
          <a:xfrm>
            <a:off x="1828800" y="2909880"/>
            <a:ext cx="5257800" cy="3021120"/>
          </a:xfrm>
          <a:prstGeom prst="rect">
            <a:avLst/>
          </a:prstGeom>
          <a:ln w="0">
            <a:noFill/>
          </a:ln>
        </p:spPr>
      </p:pic>
      <p:sp>
        <p:nvSpPr>
          <p:cNvPr id="119" name="Footer Placeholder 5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4E47-C66F-46F4-906A-5F10F48FDD4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erpolating Patch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81080" y="1752480"/>
                <a:ext cx="33847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</m:sub>
                      <m:sup>
                        <m:r>
                          <m:t xml:space="preserve">3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" name="Text Box 5"/>
          <p:cNvSpPr/>
          <p:nvPr/>
        </p:nvSpPr>
        <p:spPr>
          <a:xfrm>
            <a:off x="609480" y="3124080"/>
            <a:ext cx="741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16 conditions to determine the 16 coeffic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C:\BOOK\OpenGL\Paul Final\jpeg_new\AN10F12.jpg"/>
          <p:cNvPicPr/>
          <p:nvPr/>
        </p:nvPicPr>
        <p:blipFill>
          <a:blip r:embed="rId1"/>
          <a:stretch/>
        </p:blipFill>
        <p:spPr>
          <a:xfrm>
            <a:off x="3505320" y="3505320"/>
            <a:ext cx="3276360" cy="2730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10560" y="3581280"/>
            <a:ext cx="38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,v = 0, 1/3, 2/3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7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4EFD-4CD9-43CB-9BDA-DCD112494CE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trix For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388520" y="1828800"/>
            <a:ext cx="3574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[1 v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066400" y="3124080"/>
            <a:ext cx="18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u,v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85800" y="3733920"/>
            <a:ext cx="638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observe that for cons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 (v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b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ing curve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 (u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s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311560" y="5105520"/>
            <a:ext cx="26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u,v) = 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059280" y="4572000"/>
            <a:ext cx="140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8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2522-3058-46D2-ABD1-A7CAE056E58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lending Patch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981080" y="1828800"/>
                <a:ext cx="45817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</m:sub>
                      <m:sup>
                        <m:r>
                          <m:t xml:space="preserve">3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r>
                          <m:t xml:space="preserve">(</m:t>
                        </m:r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Text Box 6"/>
          <p:cNvSpPr/>
          <p:nvPr/>
        </p:nvSpPr>
        <p:spPr>
          <a:xfrm>
            <a:off x="1244880" y="3124080"/>
            <a:ext cx="468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)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blending 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291320" y="4038480"/>
            <a:ext cx="584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s that we can build and analyze surf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our knowledge of cu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7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146E-91C6-42DD-A909-EBD26C193C3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ther Types of Curves and Surf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can we get around the limitations of the interpolating fo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k of smooth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ntinuous derivatives at join 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have four conditions (for cubics) that we can apply to each seg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em other than for interpo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only come close to th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0EA7-09C4-4A1B-999A-5784C72E3E0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 flipH="1" flipV="1">
            <a:off x="4190760" y="1905120"/>
            <a:ext cx="1981080" cy="2209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5"/>
          <p:cNvSpPr/>
          <p:nvPr/>
        </p:nvSpPr>
        <p:spPr>
          <a:xfrm flipV="1">
            <a:off x="2666880" y="1980720"/>
            <a:ext cx="685800" cy="2210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Hermite For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Freeform 4"/>
          <p:cNvSpPr/>
          <p:nvPr/>
        </p:nvSpPr>
        <p:spPr>
          <a:xfrm>
            <a:off x="2666880" y="2057400"/>
            <a:ext cx="3505320" cy="214632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2590920" y="41148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6095880" y="4038480"/>
            <a:ext cx="15264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829880" y="40384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6401880" y="40384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388240" y="1981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750560" y="1905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899360" y="4648320"/>
            <a:ext cx="484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wo interpolating condition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derivative conditions per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1898640" y="5562720"/>
            <a:ext cx="484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s continuity and first deriv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ty between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1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144C-5F47-4DF1-9D51-9B24F7025B9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qu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18000" y="1676520"/>
            <a:ext cx="62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ing conditions are the same at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865960" y="2362320"/>
            <a:ext cx="2961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0)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1)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086480" y="3505320"/>
            <a:ext cx="580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ing we find p’(u)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u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139760" y="411480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at end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618640" y="4648320"/>
            <a:ext cx="30733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(0) = p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(1) = p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8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7CB1-5D32-4B58-8578-3EA13E39124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trix For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438280" y="1600200"/>
                <a:ext cx="3409920" cy="19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'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'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Text Box 6"/>
          <p:cNvSpPr/>
          <p:nvPr/>
        </p:nvSpPr>
        <p:spPr>
          <a:xfrm>
            <a:off x="776160" y="3581280"/>
            <a:ext cx="721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, we fi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Hermite matr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362320" y="4222800"/>
                <a:ext cx="365760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Footer Placeholder 6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F2D2-81D7-4696-9534-3A959479084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lending Polynomia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2133720" y="1600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u)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2209680"/>
                <a:ext cx="3124080" cy="21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Text Box 6"/>
          <p:cNvSpPr/>
          <p:nvPr/>
        </p:nvSpPr>
        <p:spPr>
          <a:xfrm>
            <a:off x="982440" y="4419720"/>
            <a:ext cx="731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these functions are smooth, the Hermit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not used directly in Computer Graphics and C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we usually have control points but not deriv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Hermite form is the basis of the Bezier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6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3337-2AAA-423F-8E20-6244252DACA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ametric and Geometric Continuit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require the derivatives of x, y,and z to each be continuous at join points (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parametric continuit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ternately, we can only require that the tangents of the resulting curve be continuous (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geometry continuit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latter gives more flexibility as we have need satisfy only two conditions rather than three at each join poi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esigning Parametric Cubic Cur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160" y="3276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B4E9-7A71-43EA-9E20-FC4BB87B267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1E10-22C0-4DB0-9A1B-1EA6E3B9E6F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re the p and q have the same tangents at the ends of the segment but different derivativ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te different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rmite curv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techniques is us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drawing applic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C:\BOOK\OpenGL\Paul Final\jpeg\AN10F16.jpg"/>
          <p:cNvPicPr/>
          <p:nvPr/>
        </p:nvPicPr>
        <p:blipFill>
          <a:blip r:embed="rId1"/>
          <a:stretch/>
        </p:blipFill>
        <p:spPr>
          <a:xfrm>
            <a:off x="5410080" y="2819520"/>
            <a:ext cx="2890800" cy="3124080"/>
          </a:xfrm>
          <a:prstGeom prst="rect">
            <a:avLst/>
          </a:prstGeom>
          <a:ln w="0">
            <a:noFill/>
          </a:ln>
        </p:spPr>
      </p:pic>
      <p:sp>
        <p:nvSpPr>
          <p:cNvPr id="188" name="Footer Placeholder 5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C0F2-96D9-462E-99E4-69E27146892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Higher Dimensional Approxim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techniques for both interpolating and Hermite curves can be used with higher dimensional parametric polynomia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interpolating form, the resulting matrix becomes increasingly more ill-conditioned and the resulting curves less smooth and more prone to numerical err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both cases, there is more work in rendering the resulting polynomial curves and surfa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0C40-E766-4CCA-B90D-27ADA488265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the types of curv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pol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m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z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-sp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alyze  their performa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3B99-762B-47EE-8661-E893AAAEF2C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trix-Vector  For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971800" y="1676520"/>
                <a:ext cx="24066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743200" y="2895480"/>
                <a:ext cx="110016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419720" y="2895480"/>
                <a:ext cx="11826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" name="Text Box 7"/>
          <p:cNvSpPr/>
          <p:nvPr/>
        </p:nvSpPr>
        <p:spPr>
          <a:xfrm>
            <a:off x="1450800" y="36576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781360" y="5257800"/>
                <a:ext cx="3200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Text Box 9"/>
          <p:cNvSpPr/>
          <p:nvPr/>
        </p:nvSpPr>
        <p:spPr>
          <a:xfrm>
            <a:off x="1678320" y="5486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9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F2E9-CCE0-4E36-A0B1-962693A1085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erpolating Curv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Freeform 6"/>
          <p:cNvSpPr/>
          <p:nvPr/>
        </p:nvSpPr>
        <p:spPr>
          <a:xfrm>
            <a:off x="2514600" y="1981080"/>
            <a:ext cx="3886200" cy="118116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7"/>
          <p:cNvSpPr/>
          <p:nvPr/>
        </p:nvSpPr>
        <p:spPr>
          <a:xfrm>
            <a:off x="2438280" y="2971800"/>
            <a:ext cx="15264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8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9"/>
          <p:cNvSpPr/>
          <p:nvPr/>
        </p:nvSpPr>
        <p:spPr>
          <a:xfrm>
            <a:off x="5029200" y="304812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6248520" y="213372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218320" y="32004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3437640" y="20574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4961520" y="32767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485400" y="21337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365480" y="4038480"/>
            <a:ext cx="61336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four data (control) poin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cubi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) which passes through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fi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13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9E5E-4639-494E-B5F5-FD79CFBC77B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erpolation Equ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94680" y="1752480"/>
            <a:ext cx="68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interpolating conditions 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=0, 1/3, 2/3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639800" y="2209680"/>
            <a:ext cx="48862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(0)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(1/3)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1/3)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1/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1/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(2/3)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2/3)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2/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2/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(1)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251000" y="3809880"/>
            <a:ext cx="524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 matrix form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[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525680" y="50292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=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429000" y="4267080"/>
                <a:ext cx="3124080" cy="21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3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3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2</m:t>
                                          </m:r>
                                        </m:num>
                                        <m:den>
                                          <m:r>
                                            <m:t xml:space="preserve">3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2</m:t>
                                          </m:r>
                                        </m:num>
                                        <m:den>
                                          <m:r>
                                            <m:t xml:space="preserve">3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" name="Footer Placeholder 8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26EC-EC60-4EB6-9257-0D0F4DDD628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erpolation Matrix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18720" y="1752480"/>
            <a:ext cx="60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in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polatio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752480" y="2438280"/>
                <a:ext cx="475164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" name="Text Box 6"/>
          <p:cNvSpPr/>
          <p:nvPr/>
        </p:nvSpPr>
        <p:spPr>
          <a:xfrm>
            <a:off x="3056040" y="4267080"/>
            <a:ext cx="113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309680" y="4952880"/>
            <a:ext cx="6735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depend on input data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for each segmen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, y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7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ADDA-C4A7-43D6-9076-2EFD4886DDA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erpolating Multiple Segme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1" name="Picture 4" descr="C:\BOOK\OpenGL\Paul Final\jpeg_new\AN10F10.jpg"/>
          <p:cNvPicPr/>
          <p:nvPr/>
        </p:nvPicPr>
        <p:blipFill>
          <a:blip r:embed="rId1"/>
          <a:stretch/>
        </p:blipFill>
        <p:spPr>
          <a:xfrm>
            <a:off x="1523880" y="2438280"/>
            <a:ext cx="5186520" cy="1116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143000" y="3809880"/>
            <a:ext cx="2959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[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 flipV="1">
            <a:off x="2590920" y="2895120"/>
            <a:ext cx="228600" cy="838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952880" y="3657600"/>
            <a:ext cx="2959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[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8"/>
          <p:cNvSpPr/>
          <p:nvPr/>
        </p:nvSpPr>
        <p:spPr>
          <a:xfrm flipH="1" flipV="1">
            <a:off x="5181480" y="2819160"/>
            <a:ext cx="15264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287360" y="479916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continuity at join points but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ty of derivat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9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EB0F-AC6A-4BED-B6DC-EE72B23EDDE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lending Fun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99680" y="1623960"/>
            <a:ext cx="49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ing the equation 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057400" y="228600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u)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31720" y="2895480"/>
            <a:ext cx="6246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b(u) = [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)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)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)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)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lending polynomia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u)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)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)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)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)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380240" y="4419720"/>
            <a:ext cx="4513320" cy="24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) = -4.5(u-1/3)(u-2/3)(u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) = 13.5u (u-2/3)(u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) = -13.5u (u-1/3)(u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) = 4.5u (u-1/3)(u-2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7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19:17:07Z</dcterms:created>
  <dc:creator>Ed Angel</dc:creator>
  <dc:description/>
  <dc:language>en-US</dc:language>
  <cp:lastModifiedBy>Ed Angel</cp:lastModifiedBy>
  <dcterms:modified xsi:type="dcterms:W3CDTF">2014-03-31T18:01:32Z</dcterms:modified>
  <cp:revision>308</cp:revision>
  <dc:subject/>
  <dc:title>PowerPoint Presentation</dc:title>
</cp:coreProperties>
</file>