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0F63-ED9B-41E1-A40D-C8B380155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AD8B-FABC-472F-8AA7-03D7BD61EC6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63056-A5CA-46F6-8D35-7A07880C26F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CF5A6-DD31-4AF6-833A-F70BF3115A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6D7CF-8C74-406B-A16C-4616B0F21B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248C3-4306-4E19-BA50-B8D6BD9755B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1EB8E-5E53-4486-8834-E0C46E22337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81620-2E7D-40A6-9E31-C650DE365CD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D3C4F-938F-4543-B36F-95F91DAC75E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5B721-4BCE-49E3-AA4B-5A47F743194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A78CE-FE88-4F85-BBBB-9382681B21C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E09CDA-1102-46B5-A2D7-D50A63CEE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273F-E2C0-447D-B232-681E053CEA0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6143C1-4610-42A9-98F7-946699E7726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0B637A-7694-4C32-A211-CB5D131E658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B4AC35-CBDF-4453-9499-779DAC8AF19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D80E2B-68D5-48C3-B28B-6A2A399FE9A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527441-BB44-4662-A0D5-C2ABAD4E32C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3F477D-5DC7-48DA-8A63-112A3079336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B31D5D-77B6-4969-8177-13806467BD9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9B6CD7-9796-458F-AAB3-19572262896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3052D4-C481-475C-9935-55A0B6B8163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F990E3-370F-42A6-9723-F4BC3B57A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AE7D-A105-4F05-B657-C5812EE52D7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D56525-E1F1-45D7-A241-32BF67986F5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CB4C6-707C-4787-A526-7C9116D968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19CB5-FAE7-4793-B078-9FD72CA771E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3D831-D5E7-4DE8-8210-7075AEE9855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6CE9D-BBA8-4F91-80AD-C391200A87D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07C5E-A584-4BDA-8678-E5CBFD1D8D2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59591-3AFB-42EF-9855-483ED30F8BA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D0523-D2F4-4B33-844C-C00334A2B58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99B60-15D5-43C7-93A5-6A871D01E8F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03A82-642D-41FE-8F0B-BF54D6355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BDD-6C79-499B-BF8E-2356EDC7FED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CD5DC-F1AF-4109-A5FF-0CF97457AA1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1D50A-CCD8-42C1-95F0-E2A78553805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2B388-9249-489E-8BB1-FF824B8CCF3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B4DED2-C7CA-41EE-9884-5660A7E4AA0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47DD5B-8406-494D-A4E8-B32FE82613B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B90404-DE3C-4A5A-97FE-7E82E0982BF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B0B463-5127-4717-88D2-B8D87239ABD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CE5ACF-CB61-43FF-B3FC-3B93E3F6E36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6514F7-5179-48C5-81CA-C84C13FDA9B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02ED72-F6E0-4E68-BC44-66A692D7C0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EFB-5CE0-4455-AFB9-8F2A09709B9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57E3F-2B63-4D50-B38A-559CFEEF247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93E72B-CD07-4CAE-BDBD-486A8E6263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DF8C1F-7AE8-49A3-854D-F8FF957E97F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BFCF9-F332-4500-9FDD-F67E97BC89D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C854FF-9B3A-4B71-AF80-0260236743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F54-3A03-4C82-A184-CA568AC508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5E6-7F02-45DD-A4FD-9DD5832136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695-144E-40E7-A074-9FD794F969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343-23F7-4D8D-9E21-0C9DA9F64B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2F3-4BBF-43BB-866E-D6B13CFFB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5DF4-9399-4AA6-9041-E725034DE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7C8-CF4B-4EF6-A0F2-59B724A923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187-9981-44DE-9D82-A49B67502E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E4A-7AC2-4E75-BF3F-2D4A975698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368-C6DD-432E-88B8-23D3C6FF13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DA3-8902-4CE7-A10A-69361BD159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3862B-D89D-4C3A-A898-E3BA247B49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798B2-75CC-4CFF-AAC2-ED89CB3D12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C04C5-5B57-4FE6-819A-755FDE8C37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57D6B-B8F1-4AAF-A452-97FE1862CF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8B58A-DA3F-40BC-B4BA-8A42586816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D9EA-B0B5-41D9-9E8C-98DB5839AD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014D9-BCB2-499A-9819-C5CB6709A6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7630F-3AAD-4907-A353-49EB113984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658FD-7270-41D4-AD67-B4F67DE13A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1BD17-8098-43AF-9803-824E027E88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EF8F6-29D5-47DB-BCFF-1B47B16102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36F40-B8F0-4893-8C9F-276205C27D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EEF8A-32B3-4F4F-9E6D-7AE6488480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3FCE8-FCD0-4981-8CF2-D99D00A730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A934E-CEE1-4F02-B2CC-8BAD38FB34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9E59C-07F4-46AF-A651-83C3E1861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493A-E8E2-4886-A37D-0523A6937B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7D398-C9F0-40D9-B56F-31C3724107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82D4E1-4A87-4342-97D7-134C0F6C91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27F33E-6844-4329-BB95-A5A185B6BC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EA2F7A-C31F-4BE2-937A-8BB7484670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AD6596-0ECC-431F-9A6A-860D66D39E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FB7A73-37CE-4F30-89C5-F8375A23F1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8E77F5-2210-4112-9DD8-14905800C3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65D87-6CC1-4432-8E64-EDE6F2BB20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AEF64-CE5D-42DF-8677-A0C4FF00FF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BA2A-A39A-4CC3-A7D7-41C4AA04A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415C-76CB-4122-8D35-5C22AD250E3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D70E2-9CFB-424F-8137-BF2D4CB09F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313B1-B600-480C-8447-FACEC0DA46A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6CA8F-D339-46F7-9EEF-BABDEF4D20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41B27-EACE-4A36-A699-1D2905C75C3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2B1A-7A68-4639-B13E-56411F0B04F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6394-C71E-477E-9AFA-D52BE64F38B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856B-6CA4-40B8-AD8A-7B159A8334C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432F-D27A-4498-9CAA-41EB4DF66E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4B13-AB06-4073-8F3F-7F9209691E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7CA3-F381-405E-933E-2CE39F3B0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6D51-04AA-4808-8288-5AD60FE686C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473D-2F89-4ED9-A464-FF3A6003243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483FA-6EF5-416C-963A-4B1A1B3812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7E3CF-4B03-41AE-B5C9-1D13CEBF4B3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8066FC-F53C-44A2-AF2E-56C901DC60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B5484-231B-4AF7-AA67-0646682867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CB6DF-95DE-4FF7-97AD-29FC4F6E7D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5AB69-2515-4EE2-83B5-93BD286C3C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4986A-7028-4422-AD01-DD23032407C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B5B3A-A4A5-459D-AC13-45D9FF445F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483CA-87F3-49A6-9913-A33463A2F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395E-F499-4FFB-BD24-D551110E41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B381A-9AF9-401F-9FDE-80741C0710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182C3-F638-48C9-A492-3987D85AB3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11DCA-8A7E-4E11-BFC6-CD9E75B08BA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E8FC88-0EBE-4F9A-815D-46972054C2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50CA55-652B-41F8-B83C-858542FB22C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576E2-5D69-4C13-B17F-DF8FCA2285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12A767-A63E-452C-93E2-6784D91FD25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027CE3-6996-44B3-BD85-999379B0F4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F0489F-2E8D-4626-851B-E52980241B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5E9CFA-3307-4755-AD16-B0F873624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96A9-C93C-4EBA-9823-1DF1D8FC210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AF6055-0B09-4316-AFC4-C86C1CD09F3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8C7E78-0D2A-4581-8352-B2E8F55FF0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295AC2-15D8-4CD8-BEFA-18DEAC1A267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B74703-24D9-486C-8DD8-A1EDECC278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1F9BDF-C8B0-4F91-9539-D4053D52141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4BDA-7874-4938-A607-2BFD48D2298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87D3E-2FA6-48C5-87C7-C73C1089B0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8AEAF-9A51-4719-9A9F-0FE5F364354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61D04-3ABB-4ABB-A952-EDC332F1C2D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A3A17-C3AF-43D0-A0E5-A71FE5A97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BD00-4418-4208-A551-EE5592BF491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F2D42-B513-4A52-B86E-BFC823D714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A35FF-9350-439F-8109-9FA6A31B79A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86574-D83E-409F-8F93-C4DB0E06B35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02CB3-C2A4-47D9-9B9B-A224F5227EF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D5BDF-4741-4FF6-9158-4517DC414A1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0B650-61B6-4D2E-8BEE-AF922471E87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D81AE-5427-41BB-AF30-711447172BA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06CE8-C8F7-4F2D-B1EE-F09A8C827B3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0A540-3F9F-4A56-86F0-89B5AF9BE14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FE48E-D39B-4663-8B57-D0577B6C1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0127-2791-4AEF-A832-32995485C50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0F2E-7044-4730-B7FA-A31A2FD661C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4218-EF2F-4CD8-9330-5D7E90827B3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CCC6-85B2-42D3-8C61-409F6CCB77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BA19-CD02-4AF1-96B8-AE6587CCB00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DC17-2FF4-43E5-90FF-36B3A0D9F6E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5FE0-0525-4F09-B50D-A3F5531F49B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F6F2-7DC3-47E5-91CC-D07FC612B16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713C-8891-4A89-A9EC-BB5CA47D13F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A987-D5C7-4550-AFC2-4ECE8E4F919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EE95-0A6D-412E-8901-4DA041A6A8F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C464-AB57-4A3C-986F-CDBBD5446AC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A220-B705-4097-BBBD-73C89CBD284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n triangle.html from the class websi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ad the triangle.html and triangle.js to your computer and run them from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it the two files to change the color and display more than one triang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DDF1-F45B-4CE0-B09C-806865EF47A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JavaScript No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avaScript (JS) is the language of the We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browsers will execute JS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is an interpreted object-oriented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nagan, JavaScript: The Definitive Guide, O’Rei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ckford, JavaScript, The Good Parts, O’Rei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Web tuto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35A5-1AED-4C54-824F-68883BD8DA9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JS No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JS slow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S engines in browsers are getting much fa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 key issues for graphics since once we get the data to the GPU it doesn’t matter how we got the data t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S is a (too) big langu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don’t need to use it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 parts we want to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try to make your code look like C or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7178-114D-489D-9510-A286F832D0C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JS No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ry few native type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le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ly one numerical type: 32 bit flo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 x = 1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 x = 1.0; // s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issue in lo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perators for equality == and ==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ynamic typ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998C-4543-49B1-8885-A26FB694982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co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fferent from other languag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ction scop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iable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hoisted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in a fun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a variable before it is decla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functions are first class objects in J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D046-8ABF-467F-BF39-89EA910E775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JS Array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S arrays are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heri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 a = [1, 2, 3]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not the same as in C++ or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.length     //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.push(4); // length now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.pop();   //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s use of many loops and index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for WebGL which expects C-style arr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8A9E-5BEF-459B-A58C-AFF5D42AA30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yped Array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84680" indent="-184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S has typed arrays that are like C arr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 a = new Float32Array(3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 b = new Uint8Array(3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ly, we prefer to work with standard JS arrays and convert to typed arrays only when we need to send data to the GPU with the flatten function in MV.j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891D-5574-45AB-997D-9DFA1E2D912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 Minimalist Approac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use only core JS and HTM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extras or vari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additional packag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Qu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cus on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may lack beau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are welcome to use other variants as long as I can run them from your UR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6C91-3973-40B4-A3F2-703B6269A6F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ideo 1.3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: Draw a triang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application consists of (at least) two fi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ML file and a JavaScript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s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ut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ins the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7B2B-83D0-434D-A29E-90789EB757E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D69A-7DB7-43C4-ABEF-F2064383DCF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ding in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run WebGL on any recent brows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ef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a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de written in JavaScrip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S runs within brows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loc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: triangle.htm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29" name="Content Placeholder 5" descr="triangle.tiff"/>
          <p:cNvPicPr/>
          <p:nvPr/>
        </p:nvPicPr>
        <p:blipFill>
          <a:blip r:embed="rId1"/>
          <a:srcRect l="-9663" t="0" r="-9663" b="0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53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795D-E2B5-44E9-A1D9-ECC5DAFD4E1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 C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CF80-42CE-43DE-972F-D565C141AA7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04920" y="1523880"/>
            <a:ext cx="853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DOCTYPE 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cript id="vertex-shader" type="x-shader/x-vertex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 vec4 vPos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mai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_Position = vPos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cript id="fragment-shader" type="x-shader/x-fragme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sion mediump floa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mai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_FragColor = vec4( 1.0, 0.0, 0.0, 1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TML File (cont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6865-AC38-42EF-A03A-72FB736C35F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228600" y="1523880"/>
            <a:ext cx="8686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cript type="text/javascript" src="../Common/webgl-utils.js"&gt;&lt;/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cript type="text/javascript" src="../Common/initShaders.js"&gt;&lt;/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cript type="text/javascript" src="../Common/MV.js"&gt;&lt;/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cript type="text/javascript" src="triangle.js"&gt;&lt;/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nvas id="gl-canvas" width="512" height="512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ps ... your browser doesn't support the HTML5 canvas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nva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JS Fi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D53F-8F26-4127-8E17-8EBFC623E9C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4"/>
          <p:cNvSpPr/>
          <p:nvPr/>
        </p:nvSpPr>
        <p:spPr>
          <a:xfrm>
            <a:off x="457200" y="182880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g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poi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.onload = function init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canvas = document.getElementById( "gl-canvas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 = WebGLUtils.setupWebGL( canvas )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 !gl ) { alert( "WebGL isn't available"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ree Vertices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vertices = 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2( -1, -1 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2(  0,  1 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2(  1, -1 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JS File (cont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2D0D-0DD8-497A-8BA1-DAD451F32AB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533520" y="1600200"/>
            <a:ext cx="8381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 Configure WebGL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viewport( 0, 0, canvas.width, canvas.heigh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clearColor( 1.0, 1.0, 1.0, 1.0 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 Load shaders and initialize attribute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program = initShaders( gl, "vertex-shader", "fragment-shader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useProgram( program );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Load the data into the GPU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bufferId = gl.createBuff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bindBuffer( gl.ARRAY_BUFFER, buffer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bufferData( gl.ARRAY_BUFFER, flatten(vertices), gl.STATIC_DRAW )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JS File (cont)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2180-6544-4770-BEF3-873E99CDE52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5"/>
          <p:cNvSpPr/>
          <p:nvPr/>
        </p:nvSpPr>
        <p:spPr>
          <a:xfrm>
            <a:off x="990720" y="1752480"/>
            <a:ext cx="7391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ssociate out shader variables with our dat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 vPosition = gl.getAttribLocation( program, "vPosition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vertexAttribPointer( vPosition, 2, gl.FLOAT, false, 0, 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enableVertexAttribArray( vPosition )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d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rend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clear( gl.COLOR_BUFFER_BIT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drawArrays( gl.TRIANGLES, 0, 3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15:22:17Z</dcterms:created>
  <dc:creator>Ed Angel</dc:creator>
  <dc:description/>
  <dc:language>en-US</dc:language>
  <cp:lastModifiedBy>Ed Angel</cp:lastModifiedBy>
  <dcterms:modified xsi:type="dcterms:W3CDTF">2014-03-31T17:38:19Z</dcterms:modified>
  <cp:revision>59</cp:revision>
  <dc:subject/>
  <dc:title>PowerPoint Presentation</dc:title>
</cp:coreProperties>
</file>