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7759-86C2-4237-9760-16AB18446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BD9A-BB43-4590-A168-D1B2FFBF2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514A-3683-4756-9FB3-A0BC232CC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6AFF-A4E2-4E0F-BA71-2186D61E9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DC81-1F61-4E4E-A1CC-96983D422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75E2-21E1-4AD7-A717-62EA255C55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0B5C-718A-4F04-BD41-1F007864CC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1435-75BE-4AEE-8040-F3B5DF88A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8653-76A3-4FFC-9766-E575ED073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8D2C-ADB2-4A5C-A288-9EF56A9CF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D838-2DA1-440E-A719-3306DE800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5974-9C81-406D-80E5-0C450C728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E234-6064-44AE-8A05-6A7FF045B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A978-F30D-47E0-843C-D16B0666C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4187-37E8-451E-ACC8-3CD043702BE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858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79A0-798E-45B0-9ACB-5D4929D3742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Quaterion Rot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6A7F-6B8F-42FC-954E-97A38B22C50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429000" y="1752480"/>
                <a:ext cx="22669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/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962520" y="2438280"/>
                <a:ext cx="1985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809880" y="2895480"/>
                <a:ext cx="36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a·b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b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´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81080" y="3429000"/>
                <a:ext cx="1351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q·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343400" y="3400560"/>
                <a:ext cx="13716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q</m:t>
                            </m:r>
                          </m:e>
                          <m:sub/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495680" y="4191120"/>
                <a:ext cx="9716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/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495680" y="4800600"/>
                <a:ext cx="1586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,sin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72000" y="5410080"/>
                <a:ext cx="11001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p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TextBox 14"/>
          <p:cNvSpPr/>
          <p:nvPr/>
        </p:nvSpPr>
        <p:spPr>
          <a:xfrm>
            <a:off x="1606680" y="175248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5"/>
          <p:cNvSpPr/>
          <p:nvPr/>
        </p:nvSpPr>
        <p:spPr>
          <a:xfrm>
            <a:off x="765000" y="23623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terian Arithmet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1005120" y="4191120"/>
            <a:ext cx="32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ing a 3D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17"/>
          <p:cNvSpPr/>
          <p:nvPr/>
        </p:nvSpPr>
        <p:spPr>
          <a:xfrm>
            <a:off x="1004760" y="472428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ing a R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18"/>
          <p:cNvSpPr/>
          <p:nvPr/>
        </p:nvSpPr>
        <p:spPr>
          <a:xfrm>
            <a:off x="1000440" y="533412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ng 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16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ooking at the North Sta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FC1C-BC40-43A1-8149-A4415AB1AAA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Oval 4"/>
          <p:cNvGrpSpPr/>
          <p:nvPr/>
        </p:nvGrpSpPr>
        <p:grpSpPr>
          <a:xfrm>
            <a:off x="3949560" y="3718080"/>
            <a:ext cx="2006640" cy="1933560"/>
            <a:chOff x="3949560" y="3718080"/>
            <a:chExt cx="2006640" cy="1933560"/>
          </a:xfrm>
        </p:grpSpPr>
        <p:pic>
          <p:nvPicPr>
            <p:cNvPr id="124" name="Oval 4" descr=""/>
            <p:cNvPicPr/>
            <p:nvPr/>
          </p:nvPicPr>
          <p:blipFill>
            <a:blip r:embed="rId1"/>
            <a:stretch/>
          </p:blipFill>
          <p:spPr>
            <a:xfrm>
              <a:off x="3949560" y="3718080"/>
              <a:ext cx="200664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253040" y="4013280"/>
              <a:ext cx="1400040" cy="13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5-Point Star 5"/>
          <p:cNvSpPr/>
          <p:nvPr/>
        </p:nvSpPr>
        <p:spPr>
          <a:xfrm>
            <a:off x="4876920" y="2514600"/>
            <a:ext cx="228600" cy="228600"/>
          </a:xfrm>
          <a:prstGeom prst="pie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arallelogram 8"/>
          <p:cNvSpPr/>
          <p:nvPr/>
        </p:nvSpPr>
        <p:spPr>
          <a:xfrm>
            <a:off x="4191120" y="4419720"/>
            <a:ext cx="228600" cy="152280"/>
          </a:xfrm>
          <a:prstGeom prst="parallelogram">
            <a:avLst>
              <a:gd name="adj" fmla="val 25020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arallelogram 9"/>
          <p:cNvSpPr/>
          <p:nvPr/>
        </p:nvSpPr>
        <p:spPr>
          <a:xfrm>
            <a:off x="1371600" y="4343400"/>
            <a:ext cx="1219320" cy="914400"/>
          </a:xfrm>
          <a:prstGeom prst="parallelogram">
            <a:avLst>
              <a:gd name="adj" fmla="val 25002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Straight Arrow Connector 10"/>
          <p:cNvCxnSpPr/>
          <p:nvPr/>
        </p:nvCxnSpPr>
        <p:spPr>
          <a:xfrm flipV="1">
            <a:off x="1904040" y="3047760"/>
            <a:ext cx="686520" cy="1676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" name="Straight Arrow Connector 16"/>
          <p:cNvCxnSpPr/>
          <p:nvPr/>
        </p:nvCxnSpPr>
        <p:spPr>
          <a:xfrm flipV="1">
            <a:off x="1904760" y="3657240"/>
            <a:ext cx="1067400" cy="99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" name="Straight Arrow Connector 18"/>
          <p:cNvCxnSpPr/>
          <p:nvPr/>
        </p:nvCxnSpPr>
        <p:spPr>
          <a:xfrm>
            <a:off x="1904760" y="4648320"/>
            <a:ext cx="10674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2" name="TextBox 19"/>
          <p:cNvSpPr/>
          <p:nvPr/>
        </p:nvSpPr>
        <p:spPr>
          <a:xfrm>
            <a:off x="2288520" y="36576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20"/>
          <p:cNvSpPr/>
          <p:nvPr/>
        </p:nvSpPr>
        <p:spPr>
          <a:xfrm>
            <a:off x="2669400" y="41148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Straight Arrow Connector 7"/>
          <p:cNvCxnSpPr/>
          <p:nvPr/>
        </p:nvCxnSpPr>
        <p:spPr>
          <a:xfrm flipV="1">
            <a:off x="4266000" y="2819160"/>
            <a:ext cx="686520" cy="1676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oter Placeholder 13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t North Po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BEFA-BE3D-4BCD-9918-717D5299E33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Oval 4"/>
          <p:cNvGrpSpPr/>
          <p:nvPr/>
        </p:nvGrpSpPr>
        <p:grpSpPr>
          <a:xfrm>
            <a:off x="3949560" y="3718080"/>
            <a:ext cx="2006640" cy="1933560"/>
            <a:chOff x="3949560" y="3718080"/>
            <a:chExt cx="2006640" cy="1933560"/>
          </a:xfrm>
        </p:grpSpPr>
        <p:pic>
          <p:nvPicPr>
            <p:cNvPr id="139" name="Oval 4" descr=""/>
            <p:cNvPicPr/>
            <p:nvPr/>
          </p:nvPicPr>
          <p:blipFill>
            <a:blip r:embed="rId1"/>
            <a:stretch/>
          </p:blipFill>
          <p:spPr>
            <a:xfrm>
              <a:off x="3949560" y="3718080"/>
              <a:ext cx="200664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253040" y="4013280"/>
              <a:ext cx="1400040" cy="13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5-Point Star 5"/>
          <p:cNvSpPr/>
          <p:nvPr/>
        </p:nvSpPr>
        <p:spPr>
          <a:xfrm>
            <a:off x="4876920" y="2514600"/>
            <a:ext cx="228600" cy="228600"/>
          </a:xfrm>
          <a:prstGeom prst="pie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arallelogram 8"/>
          <p:cNvSpPr/>
          <p:nvPr/>
        </p:nvSpPr>
        <p:spPr>
          <a:xfrm>
            <a:off x="4876920" y="3657600"/>
            <a:ext cx="228600" cy="152280"/>
          </a:xfrm>
          <a:prstGeom prst="parallelogram">
            <a:avLst>
              <a:gd name="adj" fmla="val 25020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19"/>
          <p:cNvSpPr/>
          <p:nvPr/>
        </p:nvSpPr>
        <p:spPr>
          <a:xfrm>
            <a:off x="3103920" y="296712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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3092040" y="35812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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Straight Arrow Connector 7"/>
          <p:cNvCxnSpPr/>
          <p:nvPr/>
        </p:nvCxnSpPr>
        <p:spPr>
          <a:xfrm flipV="1">
            <a:off x="4950360" y="2820600"/>
            <a:ext cx="396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" name="Footer Placeholder 9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imbal Lock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4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ppose you rotate about the y axis by 90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action removes a degree of freedo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154B-1723-418D-8B13-A0C955E4F5A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219320" y="3200400"/>
                <a:ext cx="6248160" cy="15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r>
                      <m:t xml:space="preserve">»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Footer Placeholder 5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Quaternions and Computer Graphic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Re)discovered by both aerospace and animation communit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d for head mounted display in virtual and augmented real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d for smooth camera path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veat: quaternions do not preserve up dir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BA6A-5884-4B76-A252-0E345F79427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orking with Quaternia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uaternion arithmetic works well for representing rotations around the orig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re is no simple way to convert a quaternion to a matrix representatio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ually copy elements back and forth between quaternions and matri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use directly without rotation matrices in the virtual trackbal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uaternion shaders are simp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B4CA-67A5-4AB9-8445-5AD7D022405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cremental and </a:t>
            </a:r>
            <a:br>
              <a:rPr sz="3700"/>
            </a:b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Quaternion Rot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CBA1-B0C2-4FD1-A0B7-70350DBCF75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CDE0-474C-4421-939D-791AA77A424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is an optional lecture that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llustrates the difference between using direction angles and Euler ang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ders issues with incremental ro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es quaternions as an alternate to rotation matr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pecifying a Rot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178920" indent="-178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e 3.1 OpenGL had a function glRotate (theta, dx, dy dz) which incrementally changed the current rotation matrix by a rotation with fixed point of the origin about a vector in the direction (dx, dy, dz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implemented rotate in MV.j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mplementations of Rotate often decompose the general rotation into a sequence of rotations about the coordinate axes as in Chapter 4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FA4A-D48D-4521-AF15-F5D954DCAD8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uler from Direction Angl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7" name="Content Placeholder 5" descr="AN03F55.jpg"/>
          <p:cNvPicPr/>
          <p:nvPr/>
        </p:nvPicPr>
        <p:blipFill>
          <a:blip r:embed="rId1"/>
          <a:srcRect l="-43349" t="0" r="-43349" b="0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6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C511-7EE0-4B66-A572-8648BA0989A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191120" y="3581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648320" y="44956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410080" y="396252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724280" y="2971800"/>
                <a:ext cx="228600" cy="1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029200" y="2971800"/>
                <a:ext cx="228600" cy="1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410080" y="2971800"/>
                <a:ext cx="228600" cy="1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733920" y="5486400"/>
                <a:ext cx="4179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Footer Placeholder 11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fficienc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4BEF-C3C5-4C16-9BF2-76B37952579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057400" y="1981080"/>
                <a:ext cx="4179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884320" y="3200400"/>
                <a:ext cx="2525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" name="TextBox 7"/>
          <p:cNvSpPr/>
          <p:nvPr/>
        </p:nvSpPr>
        <p:spPr>
          <a:xfrm>
            <a:off x="1752480" y="2514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able to writ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1289520" y="3886200"/>
            <a:ext cx="694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knew the angles, we could use RotateX, Rotat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otateZ from mat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1398600" y="5181480"/>
            <a:ext cx="46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s this an efficient metho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we can do better with quater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8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cremental Rot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44FE-906A-454C-A028-E79C2B18855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286000" y="1981080"/>
                <a:ext cx="3678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8" name="TextBox 5"/>
          <p:cNvSpPr/>
          <p:nvPr/>
        </p:nvSpPr>
        <p:spPr>
          <a:xfrm>
            <a:off x="1143000" y="2819520"/>
            <a:ext cx="5562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mall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mall ang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Content Placeholder 6"/>
              <p:cNvSpPr txBox="1"/>
              <p:nvPr/>
            </p:nvSpPr>
            <p:spPr>
              <a:xfrm>
                <a:off x="3505320" y="3352680"/>
                <a:ext cx="1066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q</m:t>
                        </m:r>
                        <m:r>
                          <m:t xml:space="preserve">»</m:t>
                        </m:r>
                        <m:r>
                          <m:t xml:space="preserve">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q</m:t>
                        </m:r>
                        <m:r>
                          <m:t xml:space="preserve">»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916280" y="4410000"/>
                <a:ext cx="4572000" cy="15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r>
                      <m:t xml:space="preserve">»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1" name="Footer Placeholder 7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reat Circl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9E93-5FD9-45DC-A697-07FA923EB6A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4"/>
          <p:cNvSpPr/>
          <p:nvPr/>
        </p:nvSpPr>
        <p:spPr>
          <a:xfrm>
            <a:off x="2590920" y="2590920"/>
            <a:ext cx="2666880" cy="2666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2590920" y="3200400"/>
            <a:ext cx="2666880" cy="129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Straight Arrow Connector 9"/>
          <p:cNvCxnSpPr/>
          <p:nvPr/>
        </p:nvCxnSpPr>
        <p:spPr>
          <a:xfrm flipV="1">
            <a:off x="3959640" y="2134440"/>
            <a:ext cx="3960" cy="1677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Oval 10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1"/>
          <p:cNvSpPr/>
          <p:nvPr/>
        </p:nvSpPr>
        <p:spPr>
          <a:xfrm>
            <a:off x="4572000" y="43434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9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otation and Great Circl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ortest path between two points on a sphere is the great circle passing through the two poi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rresponding to each great circle is vector normal to the circ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otation about this vector carries us from the first point to the seco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E02F-0CB9-400E-9856-FD6627AE617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20:58:20Z</dcterms:created>
  <dc:creator>Ed Angel</dc:creator>
  <dc:description/>
  <dc:language>en-US</dc:language>
  <cp:lastModifiedBy>Ed Angel</cp:lastModifiedBy>
  <dcterms:modified xsi:type="dcterms:W3CDTF">2014-03-31T18:03:38Z</dcterms:modified>
  <cp:revision>134</cp:revision>
  <dc:subject/>
  <dc:title>PowerPoint Presentation</dc:title>
</cp:coreProperties>
</file>