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2DFDC-41FD-4A53-8D98-739D1D55A2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54730-4574-46C0-912C-ED865B7239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55AAE-3442-4741-B125-30643EA7A5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208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5F33A-4EF9-4A34-80F6-1537EB2A0F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208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5FEEB-C7D4-4B8F-A15F-87C76547D7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208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17DF7-D878-490F-BAA4-5DCAEEB7D3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208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09CDD-6957-4A8D-96E6-4024E40120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208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9B957-37BA-4199-91D4-BA2C4A024A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208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68D56-1684-4F26-82D1-A750A90017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0676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652E5-644A-428A-AD1A-2DDA587A99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0676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0676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EF6C1-E9C8-446D-B6F6-4173EF6521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5998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5998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0676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0676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0676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316CE-5DFE-4100-8307-F0F247D4E83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9C5F7-02E4-4E16-84D7-0FDE1E45DA5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7C763-B272-41D3-9720-D11CB7E95B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45673-32E2-4B69-9588-07A03B73D1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A4ABA-4123-42A6-AAD8-814EBFD871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624852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97577-7E2B-4D14-AE80-D9B0D5EDE1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0676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52382-B7AE-47C5-A318-3CCE7A5CD5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0676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7BC0C-B543-404F-80CB-AFCBD951A5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0676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12E3F-0647-4ECC-876B-C9CA8896A3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774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774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077320" y="6324120"/>
            <a:ext cx="38088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17939-8132-47BA-8FEF-7508056B3381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1447920"/>
            <a:ext cx="61722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" name=""/>
          <p:cNvGraphicFramePr/>
          <p:nvPr/>
        </p:nvGraphicFramePr>
        <p:xfrm>
          <a:off x="152280" y="228600"/>
          <a:ext cx="1371600" cy="990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228600"/>
                    <a:ext cx="13716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00440"/>
            <a:ext cx="65530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62B67-7C96-44D4-8BBC-1D41BC10ECBC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Introduction to Computer Graphics with WebGL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543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d Ang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fessor Emeritus of Computer Scienc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nding Director, Arts, Research, Technology and Science Laborator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University of New Mexic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ooter Placeholder 4"/>
          <p:cNvSpPr/>
          <p:nvPr/>
        </p:nvSpPr>
        <p:spPr>
          <a:xfrm>
            <a:off x="457200" y="6400800"/>
            <a:ext cx="6553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A Checkerboard Image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D17FE-88AD-4A88-AADB-AFFA9E9DC640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Box 4"/>
          <p:cNvSpPr/>
          <p:nvPr/>
        </p:nvSpPr>
        <p:spPr>
          <a:xfrm>
            <a:off x="304920" y="159372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 image1 = new Uint8Array(4*texSize*texSiz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( var i = 0; i &lt; texSize; i++ 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( var j = 0; j &lt;texSize; j++ 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 patchx = Math.floor(i/(texSize/numChecks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 patchy = Math.floor(j/(texSize/numChecks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(patchx%2 ^ patchy%2) c = 255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se c =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/c = 255*(((i &amp; 0x8) == 0) ^ ((j &amp; 0x8)  == 0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age1[4*i*texSize+4*j] = c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age1[4*i*texSize+4*j+1] = c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age1[4*i*texSize+4*j+2] = c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age1[4*i*texSize+4*j+3] = 255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Footer Placeholder 4"/>
          <p:cNvSpPr/>
          <p:nvPr/>
        </p:nvSpPr>
        <p:spPr>
          <a:xfrm>
            <a:off x="457200" y="6400800"/>
            <a:ext cx="6553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Using a GIF image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800D2-11A6-4B54-A14F-CDC5C34A2EDB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Box 4"/>
          <p:cNvSpPr/>
          <p:nvPr/>
        </p:nvSpPr>
        <p:spPr>
          <a:xfrm>
            <a:off x="380880" y="1593720"/>
            <a:ext cx="84582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/ specify image in JS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 image = new Image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age.onload = function(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eTexture( image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age.src = "SA2011_black.gif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/ or specify image in HTML file with &lt;img&gt; t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/ &lt;img id = "texImage" src = "SA2011_black.gif"&gt;&lt;/img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 image = document.getElementById("texImage”)     window.onload = configureTexture( image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Footer Placeholder 4"/>
          <p:cNvSpPr/>
          <p:nvPr/>
        </p:nvSpPr>
        <p:spPr>
          <a:xfrm>
            <a:off x="457200" y="6400800"/>
            <a:ext cx="6553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556E3-FFD4-4318-895E-2FC7A036983C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d on parametric texture coordin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fy as a 2D vertex attrib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Group 3"/>
          <p:cNvGrpSpPr/>
          <p:nvPr/>
        </p:nvGrpSpPr>
        <p:grpSpPr>
          <a:xfrm>
            <a:off x="1378080" y="4052880"/>
            <a:ext cx="1811160" cy="1805040"/>
            <a:chOff x="1378080" y="4052880"/>
            <a:chExt cx="1811160" cy="1805040"/>
          </a:xfrm>
        </p:grpSpPr>
        <p:sp>
          <p:nvSpPr>
            <p:cNvPr id="132" name="Rectangle 4"/>
            <p:cNvSpPr/>
            <p:nvPr/>
          </p:nvSpPr>
          <p:spPr>
            <a:xfrm>
              <a:off x="1378080" y="4959360"/>
              <a:ext cx="898560" cy="898560"/>
            </a:xfrm>
            <a:prstGeom prst="rect">
              <a:avLst/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Rectangle 5"/>
            <p:cNvSpPr/>
            <p:nvPr/>
          </p:nvSpPr>
          <p:spPr>
            <a:xfrm>
              <a:off x="2295360" y="4962600"/>
              <a:ext cx="893880" cy="89064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6"/>
            <p:cNvSpPr/>
            <p:nvPr/>
          </p:nvSpPr>
          <p:spPr>
            <a:xfrm>
              <a:off x="1380960" y="4052880"/>
              <a:ext cx="1808280" cy="8906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" name="Rectangle 7"/>
          <p:cNvSpPr/>
          <p:nvPr/>
        </p:nvSpPr>
        <p:spPr>
          <a:xfrm>
            <a:off x="1378080" y="4044960"/>
            <a:ext cx="1815840" cy="1816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8"/>
          <p:cNvSpPr/>
          <p:nvPr/>
        </p:nvSpPr>
        <p:spPr>
          <a:xfrm>
            <a:off x="1371600" y="3581280"/>
            <a:ext cx="0" cy="22860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Line 9"/>
          <p:cNvSpPr/>
          <p:nvPr/>
        </p:nvSpPr>
        <p:spPr>
          <a:xfrm>
            <a:off x="1371600" y="5867280"/>
            <a:ext cx="2362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10"/>
          <p:cNvSpPr/>
          <p:nvPr/>
        </p:nvSpPr>
        <p:spPr>
          <a:xfrm>
            <a:off x="1371600" y="4952880"/>
            <a:ext cx="1828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11"/>
          <p:cNvSpPr/>
          <p:nvPr/>
        </p:nvSpPr>
        <p:spPr>
          <a:xfrm>
            <a:off x="2286000" y="4952880"/>
            <a:ext cx="0" cy="914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12"/>
          <p:cNvSpPr/>
          <p:nvPr/>
        </p:nvSpPr>
        <p:spPr>
          <a:xfrm>
            <a:off x="3416760" y="5851440"/>
            <a:ext cx="331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13"/>
          <p:cNvSpPr/>
          <p:nvPr/>
        </p:nvSpPr>
        <p:spPr>
          <a:xfrm>
            <a:off x="996480" y="3413160"/>
            <a:ext cx="294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14"/>
          <p:cNvSpPr/>
          <p:nvPr/>
        </p:nvSpPr>
        <p:spPr>
          <a:xfrm>
            <a:off x="2971080" y="3611520"/>
            <a:ext cx="6116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1,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15"/>
          <p:cNvSpPr/>
          <p:nvPr/>
        </p:nvSpPr>
        <p:spPr>
          <a:xfrm>
            <a:off x="685080" y="3840120"/>
            <a:ext cx="6116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0,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16"/>
          <p:cNvSpPr/>
          <p:nvPr/>
        </p:nvSpPr>
        <p:spPr>
          <a:xfrm>
            <a:off x="989640" y="5897520"/>
            <a:ext cx="6116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0,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17"/>
          <p:cNvSpPr/>
          <p:nvPr/>
        </p:nvSpPr>
        <p:spPr>
          <a:xfrm>
            <a:off x="2894760" y="5897520"/>
            <a:ext cx="6116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1,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Freeform 18"/>
          <p:cNvSpPr/>
          <p:nvPr/>
        </p:nvSpPr>
        <p:spPr>
          <a:xfrm>
            <a:off x="5486400" y="4038480"/>
            <a:ext cx="1830240" cy="175428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Line 19"/>
          <p:cNvSpPr/>
          <p:nvPr/>
        </p:nvSpPr>
        <p:spPr>
          <a:xfrm>
            <a:off x="6124680" y="4776840"/>
            <a:ext cx="1033200" cy="403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Line 20"/>
          <p:cNvSpPr/>
          <p:nvPr/>
        </p:nvSpPr>
        <p:spPr>
          <a:xfrm flipH="1">
            <a:off x="6210000" y="4965840"/>
            <a:ext cx="398520" cy="591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Freeform 21"/>
          <p:cNvSpPr/>
          <p:nvPr/>
        </p:nvSpPr>
        <p:spPr>
          <a:xfrm>
            <a:off x="1739880" y="4356000"/>
            <a:ext cx="979560" cy="979560"/>
          </a:xfrm>
          <a:prstGeom prst="pie">
            <a:avLst/>
          </a:prstGeom>
          <a:noFill/>
          <a:ln cap="rnd" w="12600">
            <a:solidFill>
              <a:srgbClr val="969696"/>
            </a:solidFill>
            <a:custDash>
              <a:ds d="899000" sp="20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Line 22"/>
          <p:cNvSpPr/>
          <p:nvPr/>
        </p:nvSpPr>
        <p:spPr>
          <a:xfrm flipV="1">
            <a:off x="3195720" y="4038120"/>
            <a:ext cx="3662280" cy="2192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Line 23"/>
          <p:cNvSpPr/>
          <p:nvPr/>
        </p:nvSpPr>
        <p:spPr>
          <a:xfrm>
            <a:off x="3195720" y="5362560"/>
            <a:ext cx="2290680" cy="475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Line 24"/>
          <p:cNvSpPr/>
          <p:nvPr/>
        </p:nvSpPr>
        <p:spPr>
          <a:xfrm>
            <a:off x="2743200" y="5029200"/>
            <a:ext cx="457200" cy="85680"/>
          </a:xfrm>
          <a:prstGeom prst="line">
            <a:avLst/>
          </a:prstGeom>
          <a:ln w="1260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25"/>
          <p:cNvSpPr/>
          <p:nvPr/>
        </p:nvSpPr>
        <p:spPr>
          <a:xfrm>
            <a:off x="5878080" y="3611520"/>
            <a:ext cx="197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(s, t) = (0.2, 0.8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26"/>
          <p:cNvSpPr/>
          <p:nvPr/>
        </p:nvSpPr>
        <p:spPr>
          <a:xfrm>
            <a:off x="4432320" y="4983120"/>
            <a:ext cx="11937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(0.4, 0.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27"/>
          <p:cNvSpPr/>
          <p:nvPr/>
        </p:nvSpPr>
        <p:spPr>
          <a:xfrm>
            <a:off x="6794640" y="5821200"/>
            <a:ext cx="11937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(0.8, 0.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28"/>
          <p:cNvSpPr/>
          <p:nvPr/>
        </p:nvSpPr>
        <p:spPr>
          <a:xfrm>
            <a:off x="6912360" y="3916440"/>
            <a:ext cx="348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29"/>
          <p:cNvSpPr/>
          <p:nvPr/>
        </p:nvSpPr>
        <p:spPr>
          <a:xfrm>
            <a:off x="5234760" y="5516640"/>
            <a:ext cx="35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30"/>
          <p:cNvSpPr/>
          <p:nvPr/>
        </p:nvSpPr>
        <p:spPr>
          <a:xfrm>
            <a:off x="7371000" y="5516640"/>
            <a:ext cx="3466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31"/>
          <p:cNvSpPr/>
          <p:nvPr/>
        </p:nvSpPr>
        <p:spPr>
          <a:xfrm>
            <a:off x="1437840" y="4098960"/>
            <a:ext cx="328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Book Antiqua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32"/>
          <p:cNvSpPr/>
          <p:nvPr/>
        </p:nvSpPr>
        <p:spPr>
          <a:xfrm>
            <a:off x="1887120" y="5288040"/>
            <a:ext cx="342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33"/>
          <p:cNvSpPr/>
          <p:nvPr/>
        </p:nvSpPr>
        <p:spPr>
          <a:xfrm>
            <a:off x="2590560" y="4983120"/>
            <a:ext cx="307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34"/>
          <p:cNvSpPr/>
          <p:nvPr/>
        </p:nvSpPr>
        <p:spPr>
          <a:xfrm>
            <a:off x="1464480" y="3192480"/>
            <a:ext cx="16495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xture 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35"/>
          <p:cNvSpPr/>
          <p:nvPr/>
        </p:nvSpPr>
        <p:spPr>
          <a:xfrm>
            <a:off x="5560920" y="3192480"/>
            <a:ext cx="15354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 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Freeform 36"/>
          <p:cNvSpPr/>
          <p:nvPr/>
        </p:nvSpPr>
        <p:spPr>
          <a:xfrm>
            <a:off x="5489640" y="4781520"/>
            <a:ext cx="1111320" cy="777960"/>
          </a:xfrm>
          <a:prstGeom prst="pie">
            <a:avLst/>
          </a:prstGeom>
          <a:solidFill>
            <a:srgbClr val="3333cc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Freeform 37"/>
          <p:cNvSpPr/>
          <p:nvPr/>
        </p:nvSpPr>
        <p:spPr>
          <a:xfrm>
            <a:off x="6210360" y="4968720"/>
            <a:ext cx="1106280" cy="820800"/>
          </a:xfrm>
          <a:prstGeom prst="pie">
            <a:avLst/>
          </a:prstGeom>
          <a:solidFill>
            <a:srgbClr val="00cc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Freeform 38"/>
          <p:cNvSpPr/>
          <p:nvPr/>
        </p:nvSpPr>
        <p:spPr>
          <a:xfrm>
            <a:off x="6130800" y="4046400"/>
            <a:ext cx="1022400" cy="1122480"/>
          </a:xfrm>
          <a:prstGeom prst="pie">
            <a:avLst/>
          </a:pr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Line 39"/>
          <p:cNvSpPr/>
          <p:nvPr/>
        </p:nvSpPr>
        <p:spPr>
          <a:xfrm flipV="1">
            <a:off x="1752480" y="4262400"/>
            <a:ext cx="1447920" cy="85680"/>
          </a:xfrm>
          <a:prstGeom prst="line">
            <a:avLst/>
          </a:prstGeom>
          <a:ln w="1260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Line 40"/>
          <p:cNvSpPr/>
          <p:nvPr/>
        </p:nvSpPr>
        <p:spPr>
          <a:xfrm>
            <a:off x="3200400" y="5110200"/>
            <a:ext cx="4110120" cy="6811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Line 41"/>
          <p:cNvSpPr/>
          <p:nvPr/>
        </p:nvSpPr>
        <p:spPr>
          <a:xfrm>
            <a:off x="2133720" y="5329080"/>
            <a:ext cx="1057320" cy="33480"/>
          </a:xfrm>
          <a:prstGeom prst="line">
            <a:avLst/>
          </a:prstGeom>
          <a:ln w="1260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Mapping a Texture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1" name="Footer Placeholder 43"/>
          <p:cNvSpPr/>
          <p:nvPr/>
        </p:nvSpPr>
        <p:spPr>
          <a:xfrm>
            <a:off x="457200" y="6400800"/>
            <a:ext cx="6553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69FB3-05D8-4301-9F0A-75F820D64DA5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ube Example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9000"/>
          </a:bodyPr>
          <a:p>
            <a:pPr marL="150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texCoord = [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0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c2(0, 0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0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c2(0, 1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0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c2(1, 1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0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c2(1, 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0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0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0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 quad(a, b, c, d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0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intsArray.push(vertices[a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0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sArray.push(vertexColors[a]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0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xCoordsArray.push(texCoord[0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0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0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intsArray.push(vertices[b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0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sArray.push(vertexColors[a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0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xCoordsArray.push(texCoord[1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0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/ et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ooter Placeholder 4"/>
          <p:cNvSpPr/>
          <p:nvPr/>
        </p:nvSpPr>
        <p:spPr>
          <a:xfrm>
            <a:off x="457200" y="6400800"/>
            <a:ext cx="6553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80FBA-3C14-44C5-AC3B-8C875C791647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Interpolation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ebGL uses interpolation to find proper texels from specified texture coordinat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an be distorti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5" descr="AN07F26"/>
          <p:cNvPicPr/>
          <p:nvPr/>
        </p:nvPicPr>
        <p:blipFill>
          <a:blip r:embed="rId1"/>
          <a:stretch/>
        </p:blipFill>
        <p:spPr>
          <a:xfrm>
            <a:off x="533520" y="4038480"/>
            <a:ext cx="7640640" cy="206856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6"/>
          <p:cNvSpPr/>
          <p:nvPr/>
        </p:nvSpPr>
        <p:spPr>
          <a:xfrm>
            <a:off x="459000" y="3200400"/>
            <a:ext cx="258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se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tex coordin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7"/>
          <p:cNvSpPr/>
          <p:nvPr/>
        </p:nvSpPr>
        <p:spPr>
          <a:xfrm>
            <a:off x="3354480" y="3200400"/>
            <a:ext cx="258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or se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tex coordin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8"/>
          <p:cNvSpPr/>
          <p:nvPr/>
        </p:nvSpPr>
        <p:spPr>
          <a:xfrm>
            <a:off x="6233040" y="2514600"/>
            <a:ext cx="2904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ure stretch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 trapezoi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wing effects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linear interp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Footer Placeholder 8"/>
          <p:cNvSpPr/>
          <p:nvPr/>
        </p:nvSpPr>
        <p:spPr>
          <a:xfrm>
            <a:off x="457200" y="6400800"/>
            <a:ext cx="6553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WebGL Texture Mapping I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09120" y="3276720"/>
            <a:ext cx="815364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d Ang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fessor Emeritus of Computer Scienc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University of New Mexic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2E38D-0AEC-4A27-80D0-3AE71A740944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Footer Placeholder 4"/>
          <p:cNvSpPr/>
          <p:nvPr/>
        </p:nvSpPr>
        <p:spPr>
          <a:xfrm>
            <a:off x="457200" y="6400800"/>
            <a:ext cx="6553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91EB7-01E0-4C5C-AB0F-CFCA64CC8480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Objective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ntroduce WebGL texture mapping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wo-dimensional texture map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ssigning texture coordina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rming texture imag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457200" y="6400800"/>
            <a:ext cx="6553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1461C-CF35-4ED3-B217-A532FD00BE85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Basic Stragegy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9040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ree steps to applying a textur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pecify the tex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601"/>
              </a:spcBef>
              <a:buClr>
                <a:srgbClr val="96969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or generate im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601"/>
              </a:spcBef>
              <a:buClr>
                <a:srgbClr val="96969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ign to tex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601"/>
              </a:spcBef>
              <a:buClr>
                <a:srgbClr val="96969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able textu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sign texture coordinates to verti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er mapping function is left to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pecify texture paramet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601"/>
              </a:spcBef>
              <a:buClr>
                <a:srgbClr val="96969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apping, filt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Footer Placeholder 4"/>
          <p:cNvSpPr/>
          <p:nvPr/>
        </p:nvSpPr>
        <p:spPr>
          <a:xfrm>
            <a:off x="457200" y="6400800"/>
            <a:ext cx="6553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Slide Number Placeholder 2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646E0-81F4-4321-9799-911FFE6A5473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Texture Mapping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1838160" y="4540320"/>
            <a:ext cx="1901880" cy="15508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4"/>
          <p:cNvSpPr/>
          <p:nvPr/>
        </p:nvSpPr>
        <p:spPr>
          <a:xfrm>
            <a:off x="5948280" y="1893960"/>
            <a:ext cx="2471760" cy="1324080"/>
          </a:xfrm>
          <a:prstGeom prst="parallelogram">
            <a:avLst>
              <a:gd name="adj" fmla="val 46669"/>
            </a:avLst>
          </a:prstGeom>
          <a:blipFill rotWithShape="0">
            <a:blip r:embed="rId2"/>
            <a:srcRect/>
            <a:stretch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Group 5"/>
          <p:cNvGrpSpPr/>
          <p:nvPr/>
        </p:nvGrpSpPr>
        <p:grpSpPr>
          <a:xfrm>
            <a:off x="1260000" y="3795480"/>
            <a:ext cx="2629440" cy="2739600"/>
            <a:chOff x="1260000" y="3795480"/>
            <a:chExt cx="2629440" cy="2739600"/>
          </a:xfrm>
        </p:grpSpPr>
        <p:sp>
          <p:nvSpPr>
            <p:cNvPr id="71" name="Line 6"/>
            <p:cNvSpPr/>
            <p:nvPr/>
          </p:nvSpPr>
          <p:spPr>
            <a:xfrm flipV="1">
              <a:off x="1822320" y="3795480"/>
              <a:ext cx="0" cy="232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Line 7"/>
            <p:cNvSpPr/>
            <p:nvPr/>
          </p:nvSpPr>
          <p:spPr>
            <a:xfrm>
              <a:off x="1839960" y="6108840"/>
              <a:ext cx="2049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Text Box 8"/>
            <p:cNvSpPr/>
            <p:nvPr/>
          </p:nvSpPr>
          <p:spPr>
            <a:xfrm>
              <a:off x="2418120" y="6075360"/>
              <a:ext cx="29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Text Box 9"/>
            <p:cNvSpPr/>
            <p:nvPr/>
          </p:nvSpPr>
          <p:spPr>
            <a:xfrm>
              <a:off x="1260000" y="4805280"/>
              <a:ext cx="26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" name="Group 10"/>
          <p:cNvGrpSpPr/>
          <p:nvPr/>
        </p:nvGrpSpPr>
        <p:grpSpPr>
          <a:xfrm>
            <a:off x="1113840" y="1860120"/>
            <a:ext cx="1875240" cy="2119680"/>
            <a:chOff x="1113840" y="1860120"/>
            <a:chExt cx="1875240" cy="2119680"/>
          </a:xfrm>
        </p:grpSpPr>
        <p:sp>
          <p:nvSpPr>
            <p:cNvPr id="76" name="Line 11"/>
            <p:cNvSpPr/>
            <p:nvPr/>
          </p:nvSpPr>
          <p:spPr>
            <a:xfrm flipV="1">
              <a:off x="1797120" y="1860120"/>
              <a:ext cx="0" cy="146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Line 12"/>
            <p:cNvSpPr/>
            <p:nvPr/>
          </p:nvSpPr>
          <p:spPr>
            <a:xfrm>
              <a:off x="1788840" y="3332160"/>
              <a:ext cx="1200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Line 13"/>
            <p:cNvSpPr/>
            <p:nvPr/>
          </p:nvSpPr>
          <p:spPr>
            <a:xfrm flipH="1">
              <a:off x="1157040" y="3340080"/>
              <a:ext cx="640080" cy="63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Text Box 14"/>
            <p:cNvSpPr/>
            <p:nvPr/>
          </p:nvSpPr>
          <p:spPr>
            <a:xfrm>
              <a:off x="2156040" y="32367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Text Box 15"/>
            <p:cNvSpPr/>
            <p:nvPr/>
          </p:nvSpPr>
          <p:spPr>
            <a:xfrm>
              <a:off x="1351080" y="2168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Text Box 16"/>
            <p:cNvSpPr/>
            <p:nvPr/>
          </p:nvSpPr>
          <p:spPr>
            <a:xfrm>
              <a:off x="1113840" y="32194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" name="Oval 17"/>
          <p:cNvSpPr/>
          <p:nvPr/>
        </p:nvSpPr>
        <p:spPr>
          <a:xfrm>
            <a:off x="2278080" y="4724280"/>
            <a:ext cx="87120" cy="87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Oval 18"/>
          <p:cNvSpPr/>
          <p:nvPr/>
        </p:nvSpPr>
        <p:spPr>
          <a:xfrm>
            <a:off x="6880320" y="2065320"/>
            <a:ext cx="87120" cy="87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AutoShape 19"/>
          <p:cNvCxnSpPr/>
          <p:nvPr/>
        </p:nvCxnSpPr>
        <p:spPr>
          <a:xfrm flipH="1" flipV="1" rot="5400000">
            <a:off x="3262680" y="1127160"/>
            <a:ext cx="2647080" cy="4632840"/>
          </a:xfrm>
          <a:prstGeom prst="curvedConnector5">
            <a:avLst>
              <a:gd name="adj1" fmla="val 23027"/>
              <a:gd name="adj2" fmla="val 50000"/>
              <a:gd name="adj3" fmla="val 23027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5" name="AutoShape 20"/>
          <p:cNvSpPr/>
          <p:nvPr/>
        </p:nvSpPr>
        <p:spPr>
          <a:xfrm>
            <a:off x="2001960" y="2192400"/>
            <a:ext cx="1376280" cy="887400"/>
          </a:xfrm>
          <a:prstGeom prst="parallelogram">
            <a:avLst>
              <a:gd name="adj" fmla="val 38773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21"/>
          <p:cNvSpPr/>
          <p:nvPr/>
        </p:nvSpPr>
        <p:spPr>
          <a:xfrm>
            <a:off x="4041720" y="5083200"/>
            <a:ext cx="9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22"/>
          <p:cNvSpPr/>
          <p:nvPr/>
        </p:nvSpPr>
        <p:spPr>
          <a:xfrm>
            <a:off x="3188880" y="3429000"/>
            <a:ext cx="13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23"/>
          <p:cNvSpPr/>
          <p:nvPr/>
        </p:nvSpPr>
        <p:spPr>
          <a:xfrm>
            <a:off x="6324840" y="3395520"/>
            <a:ext cx="106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p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" name="AutoShape 24"/>
          <p:cNvCxnSpPr>
            <a:stCxn id="90" idx="6"/>
            <a:endCxn id="83" idx="2"/>
          </p:cNvCxnSpPr>
          <p:nvPr/>
        </p:nvCxnSpPr>
        <p:spPr>
          <a:xfrm flipV="1">
            <a:off x="2579760" y="2109240"/>
            <a:ext cx="4301280" cy="315000"/>
          </a:xfrm>
          <a:prstGeom prst="curvedConnector5">
            <a:avLst>
              <a:gd name="adj1" fmla="val 50154"/>
              <a:gd name="adj2" fmla="val 50000"/>
              <a:gd name="adj3" fmla="val 50154"/>
            </a:avLst>
          </a:prstGeom>
          <a:ln w="12600">
            <a:solidFill>
              <a:srgbClr val="ccccff"/>
            </a:solidFill>
            <a:miter/>
            <a:tailEnd len="med" type="triangle" w="med"/>
          </a:ln>
        </p:spPr>
      </p:cxnSp>
      <p:sp>
        <p:nvSpPr>
          <p:cNvPr id="90" name="Oval 25"/>
          <p:cNvSpPr/>
          <p:nvPr/>
        </p:nvSpPr>
        <p:spPr>
          <a:xfrm>
            <a:off x="2492280" y="2379600"/>
            <a:ext cx="87480" cy="87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ooter Placeholder 26"/>
          <p:cNvSpPr/>
          <p:nvPr/>
        </p:nvSpPr>
        <p:spPr>
          <a:xfrm>
            <a:off x="457200" y="6400800"/>
            <a:ext cx="6553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ADBC2-73ED-4C85-90DD-49B9EAF6A0FF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Texture Example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500364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e texture (below) is a 256 x 256 image that has been mapped to a rectangular polygon which is viewed in perspectiv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F:\SIGGRAPH\SIGGRAPH 2000\tex.jpg"/>
          <p:cNvPicPr/>
          <p:nvPr/>
        </p:nvPicPr>
        <p:blipFill>
          <a:blip r:embed="rId1"/>
          <a:stretch/>
        </p:blipFill>
        <p:spPr>
          <a:xfrm>
            <a:off x="5937120" y="1600200"/>
            <a:ext cx="2432160" cy="4681440"/>
          </a:xfrm>
          <a:prstGeom prst="rect">
            <a:avLst/>
          </a:prstGeom>
          <a:ln w="0">
            <a:noFill/>
          </a:ln>
        </p:spPr>
      </p:pic>
      <p:sp>
        <p:nvSpPr>
          <p:cNvPr id="96" name="Footer Placeholder 5"/>
          <p:cNvSpPr/>
          <p:nvPr/>
        </p:nvSpPr>
        <p:spPr>
          <a:xfrm>
            <a:off x="457200" y="6400800"/>
            <a:ext cx="6553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2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8624A-419F-4248-9882-C64B6FD4C24F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Texture Mapping and the WebGL Pipeline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99" name="Group 3"/>
          <p:cNvGrpSpPr/>
          <p:nvPr/>
        </p:nvGrpSpPr>
        <p:grpSpPr>
          <a:xfrm>
            <a:off x="1278720" y="4287960"/>
            <a:ext cx="6645960" cy="1605960"/>
            <a:chOff x="1278720" y="4287960"/>
            <a:chExt cx="6645960" cy="1605960"/>
          </a:xfrm>
        </p:grpSpPr>
        <p:sp>
          <p:nvSpPr>
            <p:cNvPr id="100" name="Rectangle 4"/>
            <p:cNvSpPr/>
            <p:nvPr/>
          </p:nvSpPr>
          <p:spPr>
            <a:xfrm>
              <a:off x="6629400" y="4876560"/>
              <a:ext cx="1295280" cy="91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Rectangle 5"/>
            <p:cNvSpPr/>
            <p:nvPr/>
          </p:nvSpPr>
          <p:spPr>
            <a:xfrm>
              <a:off x="3154320" y="4287960"/>
              <a:ext cx="2347920" cy="464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Text Box 6"/>
            <p:cNvSpPr/>
            <p:nvPr/>
          </p:nvSpPr>
          <p:spPr>
            <a:xfrm>
              <a:off x="3135600" y="4306680"/>
              <a:ext cx="239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geometry pipeli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Text Box 7"/>
            <p:cNvSpPr/>
            <p:nvPr/>
          </p:nvSpPr>
          <p:spPr>
            <a:xfrm>
              <a:off x="1278720" y="4314600"/>
              <a:ext cx="1131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ertic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Rectangle 8"/>
            <p:cNvSpPr/>
            <p:nvPr/>
          </p:nvSpPr>
          <p:spPr>
            <a:xfrm>
              <a:off x="3173400" y="5429160"/>
              <a:ext cx="2347920" cy="464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exel pipeli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Text Box 9"/>
            <p:cNvSpPr/>
            <p:nvPr/>
          </p:nvSpPr>
          <p:spPr>
            <a:xfrm>
              <a:off x="1474560" y="5349600"/>
              <a:ext cx="92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Text Box 10"/>
            <p:cNvSpPr/>
            <p:nvPr/>
          </p:nvSpPr>
          <p:spPr>
            <a:xfrm>
              <a:off x="6553080" y="4952880"/>
              <a:ext cx="1371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ragmentprocess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Line 11"/>
            <p:cNvSpPr/>
            <p:nvPr/>
          </p:nvSpPr>
          <p:spPr>
            <a:xfrm>
              <a:off x="5518080" y="4489200"/>
              <a:ext cx="998280" cy="579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Line 12"/>
            <p:cNvSpPr/>
            <p:nvPr/>
          </p:nvSpPr>
          <p:spPr>
            <a:xfrm flipV="1">
              <a:off x="5518080" y="5216400"/>
              <a:ext cx="1006200" cy="437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Line 13"/>
            <p:cNvSpPr/>
            <p:nvPr/>
          </p:nvSpPr>
          <p:spPr>
            <a:xfrm>
              <a:off x="2487600" y="4532040"/>
              <a:ext cx="66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Line 14"/>
            <p:cNvSpPr/>
            <p:nvPr/>
          </p:nvSpPr>
          <p:spPr>
            <a:xfrm>
              <a:off x="2539800" y="5627520"/>
              <a:ext cx="612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mages and geometry flow through separate pipelines that join during fragment processing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lex” textures do not affect geometric complex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ooter Placeholder 16"/>
          <p:cNvSpPr/>
          <p:nvPr/>
        </p:nvSpPr>
        <p:spPr>
          <a:xfrm>
            <a:off x="457200" y="6400800"/>
            <a:ext cx="6553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8A39B-7C03-41DA-B1A0-AE6671E81ECE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80520" y="1828800"/>
            <a:ext cx="815364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-190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efine a texture image from an array of 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texels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(texture elements) in CPU memor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Use an image in a standard format such as JPE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550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anned im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550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nerate by application co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ebGL supports only 2 dimensional texture map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550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 need to enable as in desktop OpenG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550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sktop OpenGL supports 1-4 dimensional texture ma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Specifying a Texture Image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6" name="Footer Placeholder 4"/>
          <p:cNvSpPr/>
          <p:nvPr/>
        </p:nvSpPr>
        <p:spPr>
          <a:xfrm>
            <a:off x="457200" y="6400800"/>
            <a:ext cx="6553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87B4A-8727-4971-B68A-45BE56883747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33cc"/>
                </a:solidFill>
                <a:latin typeface="Arial"/>
              </a:rPr>
              <a:t>Define  Image as a Texture</a:t>
            </a:r>
            <a:endParaRPr b="1" lang="en-US" sz="33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lTexImage2D( target, level, components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w, h, border, format, type, texel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arget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 of texture, e.g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GL_TEXTURE_2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evel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mipmapping (discussed la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ponents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s per tex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, h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dth and height o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texel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pix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order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smoothing (discussed la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mat and type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ex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exels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er to texel arr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lTexImage2D(GL_TEXTURE_2D, 0, 3, 512, 512, 0, GL_RGB, GL_UNSIGNED_BYTE, my_texels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Footer Placeholder 4"/>
          <p:cNvSpPr/>
          <p:nvPr/>
        </p:nvSpPr>
        <p:spPr>
          <a:xfrm>
            <a:off x="457200" y="6400800"/>
            <a:ext cx="6553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3T18:17:46Z</dcterms:created>
  <dc:creator>Ed Angel</dc:creator>
  <dc:description/>
  <dc:language>en-US</dc:language>
  <cp:lastModifiedBy>Ed Angel</cp:lastModifiedBy>
  <dcterms:modified xsi:type="dcterms:W3CDTF">2014-03-31T17:53:33Z</dcterms:modified>
  <cp:revision>209</cp:revision>
  <dc:subject/>
  <dc:title>PowerPoint Presentation</dc:title>
</cp:coreProperties>
</file>