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1BC8-55C4-4F4F-B898-4561767B9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A72E-2012-4380-80C7-1373218CD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0380-BF88-470F-8ACB-B795FC102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6436-BF7F-4EA0-95F8-E3323D5A2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5034-C93E-4E93-AF06-1C21DB68E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C6B6-30C8-4061-8E6B-3E3FF0921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867F-16D9-4B4E-921C-49C53E4824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6505-7911-4786-B4B0-51952B1EF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B71B-5682-4CA4-82DF-803DFABD4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BC57-CD09-4B75-A3C1-C02BDD45A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0DC6-2B6D-451F-89D5-D9092EDC8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6931-CAD5-4FE3-83FD-690392709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92E4-2A75-4788-8424-7326CEB27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4D08-8297-4D78-94B7-48FC029DC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709A-4B8C-4EF0-8678-1C194CC50FD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E40F-AFAA-4226-96A7-B874585EAE0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ploring the Mandelbrot Se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interesting parts are centered near (-0.5, 0.0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lly interesting parts are where we are uncertain if points are in or out of the s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peated magnification these regions reveals complex and beautiful patter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use color maps to enhance the detai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F21-1C3D-492E-BC07-327A9EFF931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AECA-C00D-4BC3-B61C-C5D563AEF2D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ndelbrot Se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419720" cy="4395600"/>
          </a:xfrm>
          <a:prstGeom prst="rect">
            <a:avLst/>
          </a:prstGeom>
          <a:ln w="0">
            <a:noFill/>
          </a:ln>
        </p:spPr>
      </p:pic>
      <p:sp>
        <p:nvSpPr>
          <p:cNvPr id="101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ing in the JS File 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m a texture map of the set and map to a rectang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63CE-DB00-41E0-8311-2F4929E56EC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" y="27432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height = 0.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size of window in complex pl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width = 0.5;var cx = -0.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enter of window in complex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cy = 0.5;var max = 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number of interations per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n = 5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m =5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texImage = new Uint8Array(4*n*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ing in JS File 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7866-7E1F-4F9E-A2FE-AEE392CD97B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33520" y="16002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 var i = 0; i &lt; n; i+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 var j = 0; j &lt; m; j++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x = i * ( width / (n - 1) ) + cx - width /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y = j * ( height / ( m - 1 ) ) + cy - height /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c = [ 0.0, 0.0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p =  [ x, y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 var k = 0; k &lt; max; k++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mpute c = c^2 +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[c[0]*c[0]-c[1]*c[1], 2*c[0]*c[1]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[c[0]+p[0],  c[1]+p[1]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c[0]*c[0]+c[1]*c[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 v &gt; 4.0 ) break;      /* assume not in set if mag &gt; 2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ing in JS File I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t up two triangles to define a rectang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t up texture object with the set as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nder the triang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8291-7384-4C2A-A659-ABC8D75F0F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7200" y="11430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ssign gray level to point based on its magnitud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 v &gt; 1.0 ) v = 1.0;        /* clamp if &gt; 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Image[4*i*m+4*j] = 255*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Image[4*i*m+4*j+1]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5*( 0.5* (Math.sin( v*Math.PI/180 ) + 1.0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Image[4*i*m+4*j+2] = 255*(1.0 - v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Image[4*i*m+4*j+3] = 2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Content Placeholder 4" descr="mandelbrot.tiff"/>
          <p:cNvPicPr/>
          <p:nvPr/>
        </p:nvPicPr>
        <p:blipFill>
          <a:blip r:embed="rId1"/>
          <a:srcRect l="-32096" t="0" r="-32096" b="0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726C-F8F0-4EEA-BE18-C48F066EAF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ur first implementation is incredibly inefficient and makes no use of the power of the fragment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e calculation is “embarrassingly parallel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ation for the color of each fragment is completely independ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not have each fragment compute membership for itself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fragment would then determine its own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BF78-1956-4C80-B360-6CB7D2A2F75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eractive Progra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S file sends window parameters obtained from sliders to the fragment shader as unifor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ly geometry is a rectang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need for a texture map since shader will work on individual pix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993-91D1-4BB4-B754-2A4768CCA0F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 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39AB-D947-4473-A483-5DA0A8806A3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57200" y="16002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mediump flo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float c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float 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float sca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he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wid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 int max = 100;           /* number of iterations per poin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 float PI = 3.1415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n = 100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m = 100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 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0A55-9329-4BE8-BDA7-606D1117774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304920" y="14479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x = gl_FragCoord.x  /(n*scale) + cx - 1.0 / (2.0*sca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y = gl_FragCoord.y/(m*scale) + cy - 1.0 / (2.0*sca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ax=0.0, ay=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bx, b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 int k = 0; k &lt; max; k++ ) {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mpute c = c^2 +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x  = ax*ax-ay*a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= 2.0*ax*a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 = bx+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 = by+y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ax*ax+ay*a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 v &gt; 4.0 ) break;      // assume not in set if mag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ing the Mandelbrot Se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31237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AF9B-6BC9-47F2-A0B8-F964238EA14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428B-25E1-4D6F-8DC2-0E5D4406BFC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457200" y="167652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ssign gray level to point based on its magnitude 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lamp if  &gt; 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min(v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.r = 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.g = 0.5* sin( 3.0*PI*v) +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.b = 1.0-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.b = 0.5* cos( 19.0*PI*v) +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.a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nalysi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mplementation will use as many fragment processors as are available concurrent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at if an iteration ends early, the GPU will use that processor to work on another frag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also the absence of loops over x and 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ill not using the full parallelism since we are really computing a luminance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C42A-EE93-4A2E-BD0E-6C32C79666A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7AEC-96C2-4222-9B59-8AA74202ED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most famous fractal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about fractal curves and surfaces l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aging calcul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compute value for each pixel on dis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power of fragment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7D96-655E-440A-B793-4F8D4BDA01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erpinski Gaske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74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le based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peat n times. As n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→∞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→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imeter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→∞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a normal geometric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re about fractal curves and surfaces la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1600200" y="2590920"/>
            <a:ext cx="4257720" cy="914400"/>
            <a:chOff x="1600200" y="2590920"/>
            <a:chExt cx="4257720" cy="914400"/>
          </a:xfrm>
        </p:grpSpPr>
        <p:sp>
          <p:nvSpPr>
            <p:cNvPr id="66" name="AutoShape 4"/>
            <p:cNvSpPr/>
            <p:nvPr/>
          </p:nvSpPr>
          <p:spPr>
            <a:xfrm>
              <a:off x="1600200" y="25909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5"/>
            <p:cNvSpPr/>
            <p:nvPr/>
          </p:nvSpPr>
          <p:spPr>
            <a:xfrm>
              <a:off x="4800600" y="25909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6"/>
            <p:cNvSpPr/>
            <p:nvPr/>
          </p:nvSpPr>
          <p:spPr>
            <a:xfrm rot="10800000">
              <a:off x="5029200" y="3048120"/>
              <a:ext cx="533520" cy="45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2895480" y="312444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Footer Placeholder 9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lex Arithmetic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lex number defined by two scala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 = x 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z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0E2E-9D46-4A73-ACC2-EADD7883649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A537-F85C-40A9-B126-B8F052AE165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Iteration in the Complex Plane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572000" cy="4425840"/>
          </a:xfrm>
          <a:prstGeom prst="rect">
            <a:avLst/>
          </a:prstGeom>
          <a:ln w="0">
            <a:noFill/>
          </a:ln>
        </p:spPr>
      </p:pic>
      <p:sp>
        <p:nvSpPr>
          <p:cNvPr id="79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4C60-290E-4868-A96A-3F8A6DD62D7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ndelbrot Se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182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erate on z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z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 z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= 0 +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 cases as k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→∞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→∞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emains fini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If for a given c, |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| remains fini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, then c belongs to the Mandelbrot s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ing the Mandelbrot Se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ck a rectangular reg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p each pixel to a value in this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 an iterative calculation for each pix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magnitude is greater than 2, we know sequence will diverge and point does not belong to the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p after a fixed number of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s with small magnitudes should be in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each point based on its magnit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690F-F67B-45CF-AF21-175A4C4AB80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70A6-AE45-4364-B9B4-10AF7D70AA1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ndelbrot Se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629240" cy="495288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4:21:48Z</dcterms:created>
  <dc:creator>Ed Angel</dc:creator>
  <dc:description/>
  <dc:language>en-US</dc:language>
  <cp:lastModifiedBy>Ed Angel</cp:lastModifiedBy>
  <dcterms:modified xsi:type="dcterms:W3CDTF">2014-03-31T17:55:07Z</dcterms:modified>
  <cp:revision>31</cp:revision>
  <dc:subject/>
  <dc:title>PowerPoint Presentation</dc:title>
</cp:coreProperties>
</file>