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7FF0-5050-4B45-8F1E-B0BD8C751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4751-5506-44A0-A247-F594A16DC63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B58BF4-955C-4667-94C4-A58C04294D4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76D74-57B7-48B1-8524-EE789620193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46401-F3C6-4033-80C9-9E01720CE46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2F8C4-9E9B-479E-B218-3D7B482BBF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E5083-6837-4A83-8734-E87CEF03F22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2BD25-FD04-40A1-A619-8A2071D5E1F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CABE5-749D-4C1D-883A-5C2BA4323BC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E9FB5-6F55-4175-B5D6-00F8BC4AEA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CA550E-EB04-43AC-9CCE-DD80B86A6D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602768-03A7-49D9-8EE0-74F8516E1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7AA6-1FAA-48CB-858A-71C347FE15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88FCFB-B788-4613-BF86-F0E3499BC59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6166CB-47B1-4F7D-8971-37725C4927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0E68B1-58E5-4D5A-830B-189DC46B77F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A8C05C-B044-4917-BDE0-ADDD7768367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6D1900-78CD-4D19-858A-AE859757CA5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475E25-6E7E-4304-A3F1-76DD54742E0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F296B9-8287-4CB6-8576-0859A8EB977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DCCF34-805C-4110-8DB9-55520D95CA0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1426CA-FE91-4DB8-836B-4846186442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244D47-1B4C-485E-90A4-4C58AAAA4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6925-E16C-4F7D-93B9-ED3F669C976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890EBB-B18A-473E-A3A0-CB9C3E275A9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BBF9-7CBF-4544-BD0B-DC9990CF2C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8191B-D8D0-4AEF-BBD6-5C429FA215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B4D87-79B9-49C9-BBDA-A01BBF60E0D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5EE03-FF30-447A-982F-D2D5482DBC3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A7CB2-816E-4115-A36D-3C91A73924F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9019A-6DC4-4815-A3E6-4CDD96385B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F8312-2F59-4CEE-BB48-9C760AF5A79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87488-341B-48C8-9506-5E5B5E1D4FC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D1750-8605-4A9A-9F65-0BA9AB7C8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34E-742D-4C9F-B7EB-679D9E4F874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56C7E-5A43-4C7E-B320-1FB60C1D8A7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9DD4F-4A19-43CA-AC39-62A6620D23B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83DFD-7C5E-4020-8B9D-56291E5BA34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7C5EE7-4A91-47A9-865D-99FFFB18B9D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79B01F-164A-4785-8888-3B61247C5E7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CEDA4F-9480-434A-828F-CA9C7C989F2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083B46-E3FA-4749-A88C-5C1D9B03B2C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DA6C9-7E00-452A-BD1E-C0C2966F1FC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EC3C7-CDFC-4070-97F3-06F81E04BBB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E71C7B-8F41-4B2F-9112-2302AC6CB3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397-818B-4233-AA7D-D33F2E12A2A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A3C324-59FF-4EED-9A76-A63EFE5232D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53868-96DD-4BCA-AE0D-D4D5CCEE4E8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985794-A87E-4DEB-BEC3-9EDDC5B6081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3D4B60-1B35-4B21-833C-8E65D33707B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1E4500-1A41-4802-A038-4088402B86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07D-B640-400C-A545-E86B32926E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FE2-568B-414E-84B7-334D0A5F33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9D8-9E6E-4ECE-8B70-DF7056E158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47E-FC8C-47A9-83B7-806B9EAED2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25F-A72D-40A4-AF71-8C840497B9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14FB-0A69-4CA0-8270-1774AE14B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4F8-4642-4DCD-8F52-24AA2D9CC3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907-36A6-43D4-80A4-C5C4B5BB03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14B-05D3-4762-A314-D20D65ADD2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0AA-E6CB-45DA-9742-5179A82AB0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60D-D923-45DD-B474-1657518313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DAFB0-33F6-4658-9944-0E174465CC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07CAF-3BEF-479F-8B1A-86BAB8E536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AFCC0-AC39-4A54-8208-8D00819303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D1144-5321-4110-9FAE-1BBA4BDE88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ECA26-01C9-499B-A187-54BBCE2AB1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D7B5-64A0-47D5-8D44-54F9E30A14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85C94-1F19-4F72-9E36-1696E6A54C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361AC-05CD-43FB-A9FB-72F8F1E3A4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7CC15-1B4F-4F6F-889C-568C25D2D6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147CA-95BC-4511-8E59-577CEEE5CD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0B91B-8D66-43EB-90A9-2897D54144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B722F-1EB1-41FB-82A4-B0DE009EDD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9BB54-CBD3-488E-ABEB-5100836FD7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9F03B0-C941-4C3D-8060-DA945C67F4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7815A7-ACD3-4994-9E41-038C95AAED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18C65A-1DA7-41DD-85B7-7BB70CCEE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B6DD-C02A-4ED5-BD9C-EDE9B68B77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885E50-C5D1-4AAC-8D1E-36409DBB05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600DD4-AD5D-40B6-B7F2-F69FA1031F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AF5AE-7341-412D-A562-3D650D08DD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911E95-499E-4C13-AE69-712B7416BC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CC3CA-7552-4546-9366-22F2086E11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43F17-1AEC-4009-8279-A0F037CD49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613C79-B3D7-4136-B6D5-6E10D61E82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EDF3A-BE67-4273-8E75-416B24A08A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5C628A-8617-4F64-9EEC-D4F6F297DA5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885E-28E1-4FC9-BEFC-D7544FAF3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2401-122E-4ACA-B71C-214C32B6F88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5DEF-F570-4FE6-8A24-6BE0BA9F722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D884-2942-4373-941F-C759EBC82D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EA6E-2DBA-407C-B8EB-6BF13463AD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0C5E3-DB3C-45DE-880B-9E185318FF6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86FD-37C3-4C5C-A5D9-9406E59FA02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6EDB-E2AD-4738-B174-6BDEEBF8C05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973F1-9D7B-434C-AF72-500D8369B9D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5269-BDAD-4AB6-9BD3-C892539CCA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F882-3453-4DDB-8883-5E021933241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CBF3-F0A9-4459-A355-35E82DDBC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F4DD-ECA4-4041-8E37-3F5884E189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7D3D-5379-4EF3-9C63-96155644C00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C6DAE-70BE-4B46-B8E7-3AB22B69FD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E39E1-B8F4-4A64-AB45-1EAC4E1AE92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104AB-C121-4DE2-B40B-E066671D8CE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852D7-6501-4FC8-8220-0CFAD7F4229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E99A7-5056-4D1F-9E1B-6BC55EAD67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1D040-D8F7-4D69-9A1F-6EA1A2A073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CAA3B0-8A39-402D-A8A1-1D6551CC80A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F3D5B-9E0D-4EC4-91F5-8B37E910E9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C688A-61A2-4498-A712-8E31725B0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EC73-4F4C-439D-91CA-E42DC14DF07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0D16A-16E2-4E8F-A8CA-640BB838D0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15F51-4CD7-4BDC-BB47-53890E9CCD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D2058-7A91-4925-9047-72708384165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38AF2D-ADC3-471D-8BC2-95E030D6926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632B2E-8331-4713-AB0F-ADA43AF3BF8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461D09-9FCA-42D5-8BCD-608516C6FB5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6619AA-B221-42FC-9EE5-A475B7F7D4B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26939-9174-404F-8055-70D0E40C01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DB13D0-4B16-45FB-89D5-45636E5A94A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31A6E8-63A0-49F9-8F53-25C325BC8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178F-7EF8-4FA3-B7B8-CA72B82BBC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66224-6D14-4C28-AEAA-A95F999880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5F9FF2-1460-4424-B55B-3BDF580C696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0E7010-FCAA-4371-B1FF-AB15185101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121893-3536-4F94-85FC-E5EB9BB126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DB2F13-735F-445C-9FEA-C20BA1C15C8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7992E-E42F-467D-9763-B52305C935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F310E-AEE3-43A2-A0E5-5FE73B7B04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F7F2B-8D69-4642-9E15-BB053B10911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6B10B-AD8D-4817-9EBD-3C35705B8A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4BFCB-6F46-40E6-9D82-22804519B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7F20-4C54-486C-82AD-C648441343F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6B62F-23B0-41A4-8E52-C76F9D74894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3C7E-0D13-4FD5-86FB-0387C0D671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A030-DCCF-488B-8E01-8202EC9F082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BE842-AEE9-4448-954B-7E4AE3A14A4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FD881-2216-492B-836B-497995EA2B9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1ADA-C40F-4AAD-B6CF-0CD77B7702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8E0B1-2DE6-4075-98C7-EBDBFF8FE7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3EBD8-1B68-4432-82D7-4CF817DFB65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C6429-6EC8-401B-9EE8-25D145929C0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B1673-36D1-43B6-859F-927A2433F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8C15-1DD4-4499-920C-7458FF9DE2D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F6DF-623F-4D5B-BED5-108F7271FCD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8826-1AA0-4073-9451-A9A5D0FBEFC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80D4-1745-4CEC-B330-676DB28D7D2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6334-85D6-44C1-B3DD-11B77045C4E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7B20-59A5-4EF1-9E4C-600D8D1348A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BE5C-F2DB-46B7-8801-487DAD82326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A7CA-6933-48D4-B012-8D31E3D2C85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5745-AA3E-49C8-8B20-44A95C998C1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718F-B781-4975-8F80-0DB735A3257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8DC7-746B-4127-8480-B33E1D4C278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3F6F-1862-4646-908D-590078F1AC8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s.unm.edu/~angel/WebGL/7E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9F91-D661-47B2-A898-BA129881040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ok websit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cs.unm.edu/~angel/WebGL/7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739D-FC77-49D8-BB73-B2DE80B7A22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ideo 1.2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rse 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s a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www.cs.unm.edu/~angel/WebGL/7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B5BB-2ACD-40DC-9592-F47DA5353EC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F538-2114-4483-8C47-D08E5BE5143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utline: Part 1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: Chapter 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Computer Graphic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s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 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12EB-82A8-4DC7-96A8-290994D3225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utline: Part 2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sic WebGL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: Chapter 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eks 2-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 programs in two and three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shaders and GLS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utline: Part 3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: Chapter 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-driven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Liste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nus, Buttons, Sli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 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78F2-DDE8-4E67-A7C3-3C5B4F58120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27BC-3262-4B2F-BDAA-F34CCFD772E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utline: Part 4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ree-Dimensional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: Chapters 4-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eks 6-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geneous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ing and Sh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30A5-F108-462C-9AA2-5B04471147B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utline: Part 5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crete Metho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: Chapter 7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eks 10-1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xel M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ure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ting and Transpar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-Screen Rend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12DA-D686-4574-A72A-125B2A1E3CA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utline: Part 6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erarchy and Procedural Metho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: Chapters 9-1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eks 13-1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ee Structured Mod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versal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ene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le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 Based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1DE8-67C4-4BEB-90C3-21219670098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utline: Part 7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vanced Rend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: Chapter 1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ek 1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14:17:33Z</dcterms:created>
  <dc:creator>Ed Angel</dc:creator>
  <dc:description/>
  <dc:language>en-US</dc:language>
  <cp:lastModifiedBy>Ed Angel</cp:lastModifiedBy>
  <dcterms:modified xsi:type="dcterms:W3CDTF">2014-03-31T17:37:24Z</dcterms:modified>
  <cp:revision>54</cp:revision>
  <dc:subject/>
  <dc:title>PowerPoint Presentation</dc:title>
</cp:coreProperties>
</file>