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ED1E-AE9A-4B04-AE47-ECAD66793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E7D6-3660-4D66-ACB6-1744ED822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BC6CF-565B-4933-B0FB-013B8E2AA9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C15EF-543C-41E4-956F-71DA6EE2BE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CB49E-A37B-4CCF-8FE5-A23191D4A2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31924-567B-4126-A69C-4C483173E2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3C861-6542-497A-9D1B-97D36484CA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D3498-1C68-47E1-B00D-C4A9B1C836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5F985-D45B-4610-AB5A-815B6EC92E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F1119-804B-4CF5-8F1D-E5AD545E0C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020E7-ED9B-4340-A24E-5ED3E1DBA1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D5FAA-ADE4-48CA-9C95-D7DF0676C0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A80C5-83E9-4364-A655-87C6516BA6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85755-C903-4315-97C3-5F9F35AE29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140E-5BE3-4AF0-B454-59DC959BEBA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00440"/>
            <a:ext cx="7010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06BD-093F-46BE-96E6-FF58908EFDB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3AB3-26F5-4569-AF8E-8FD7592487B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ylindrical Mapp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75120" y="171612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etric cyl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905120" y="2286000"/>
            <a:ext cx="186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r cos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r sin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= v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62160" y="3579840"/>
            <a:ext cx="609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s rectangle in u,v space to cyl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radius r and height h in world coord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982520" y="4495680"/>
            <a:ext cx="7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609840" y="5486400"/>
            <a:ext cx="35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s from textur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8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8C4A-DE8E-4FA5-ADC8-3ECAB5B0B40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pherical Map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5562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can use a parametric sphe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814040" y="2473200"/>
            <a:ext cx="27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r cos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r sin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 cos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= r sin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 sin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709920" y="3822840"/>
            <a:ext cx="64353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a similar manner to the cylind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t have to decide where to pu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distor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pheres are used in environmental map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ooter Placeholder 6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0378-DCA0-44CD-95F2-13BF788CE5A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Box Mapp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asy to use with simple orthographic proje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so used in environment map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AN07F21"/>
          <p:cNvPicPr/>
          <p:nvPr/>
        </p:nvPicPr>
        <p:blipFill>
          <a:blip r:embed="rId1"/>
          <a:stretch/>
        </p:blipFill>
        <p:spPr>
          <a:xfrm>
            <a:off x="1676520" y="3352680"/>
            <a:ext cx="5900760" cy="2603520"/>
          </a:xfrm>
          <a:prstGeom prst="rect">
            <a:avLst/>
          </a:prstGeom>
          <a:ln w="0">
            <a:noFill/>
          </a:ln>
        </p:spPr>
      </p:pic>
      <p:sp>
        <p:nvSpPr>
          <p:cNvPr id="123" name="Footer Placeholder 5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1652-4A8A-480E-B547-226B3EA8361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econd Mapp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p from intermediate object to actual obje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rmals from intermediate to act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rmals from actual to intermedi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ctors from center of intermedia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AN07F22"/>
          <p:cNvPicPr/>
          <p:nvPr/>
        </p:nvPicPr>
        <p:blipFill>
          <a:blip r:embed="rId1"/>
          <a:stretch/>
        </p:blipFill>
        <p:spPr>
          <a:xfrm>
            <a:off x="838080" y="4038480"/>
            <a:ext cx="7524720" cy="2206800"/>
          </a:xfrm>
          <a:prstGeom prst="rect">
            <a:avLst/>
          </a:prstGeom>
          <a:ln w="0">
            <a:noFill/>
          </a:ln>
        </p:spPr>
      </p:pic>
      <p:sp>
        <p:nvSpPr>
          <p:cNvPr id="128" name="Line 6"/>
          <p:cNvSpPr/>
          <p:nvPr/>
        </p:nvSpPr>
        <p:spPr>
          <a:xfrm flipH="1">
            <a:off x="2895480" y="4038480"/>
            <a:ext cx="609840" cy="381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2867040" y="366876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914400" y="3962520"/>
            <a:ext cx="609480" cy="685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381600" y="35812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ooter Placeholder 9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8B50-C1DC-45EF-9321-2C78E2F7848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lias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int sampling of the texture can lead to aliasing erro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AN07F18"/>
          <p:cNvPicPr/>
          <p:nvPr/>
        </p:nvPicPr>
        <p:blipFill>
          <a:blip r:embed="rId1"/>
          <a:stretch/>
        </p:blipFill>
        <p:spPr>
          <a:xfrm>
            <a:off x="1523880" y="3124080"/>
            <a:ext cx="5570640" cy="27464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5488920" y="2743200"/>
            <a:ext cx="295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samples in u,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r x,y,z)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704880" y="5867280"/>
            <a:ext cx="42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samples in textur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3048120" y="3352680"/>
            <a:ext cx="152280" cy="1371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 flipH="1">
            <a:off x="2590920" y="3352680"/>
            <a:ext cx="380880" cy="1371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"/>
          <p:cNvSpPr/>
          <p:nvPr/>
        </p:nvSpPr>
        <p:spPr>
          <a:xfrm flipH="1">
            <a:off x="1828800" y="3352680"/>
            <a:ext cx="990720" cy="1371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1831680" y="281952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 blue str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oter Placeholder 11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BFEA-5F46-4E87-83F0-4ACEA97A73E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rea Averag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better but slower option is to us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rea averag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AN07F17"/>
          <p:cNvPicPr/>
          <p:nvPr/>
        </p:nvPicPr>
        <p:blipFill>
          <a:blip r:embed="rId1"/>
          <a:stretch/>
        </p:blipFill>
        <p:spPr>
          <a:xfrm>
            <a:off x="838080" y="2133720"/>
            <a:ext cx="7105680" cy="31701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688680" y="5562720"/>
            <a:ext cx="51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im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ixel is cu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7"/>
          <p:cNvSpPr/>
          <p:nvPr/>
        </p:nvSpPr>
        <p:spPr>
          <a:xfrm flipH="1" flipV="1">
            <a:off x="7162920" y="3352320"/>
            <a:ext cx="304560" cy="1219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7166160" y="45720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710600" y="47242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0"/>
          <p:cNvSpPr/>
          <p:nvPr/>
        </p:nvSpPr>
        <p:spPr>
          <a:xfrm flipH="1" flipV="1">
            <a:off x="4190760" y="3962520"/>
            <a:ext cx="990360" cy="838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ooter Placeholder 10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exture Mapp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00FE-A478-40C8-9A8D-549FDB2649B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F8EB-27CD-4673-A050-102D7CF32B3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asic mapping strateg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ward vs backward map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int sampling vs area averag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992B-E892-4ACD-878F-47B6801CB77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s it simple?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though the idea is simple---map an image to a surface---there are 3 or 4 coordinate systems involv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AN07F15"/>
          <p:cNvPicPr/>
          <p:nvPr/>
        </p:nvPicPr>
        <p:blipFill>
          <a:blip r:embed="rId1"/>
          <a:stretch/>
        </p:blipFill>
        <p:spPr>
          <a:xfrm>
            <a:off x="2514600" y="3505320"/>
            <a:ext cx="4267080" cy="2097000"/>
          </a:xfrm>
          <a:prstGeom prst="rect">
            <a:avLst/>
          </a:prstGeom>
          <a:ln w="0">
            <a:noFill/>
          </a:ln>
        </p:spPr>
      </p:pic>
      <p:sp>
        <p:nvSpPr>
          <p:cNvPr id="66" name="Line 6"/>
          <p:cNvSpPr/>
          <p:nvPr/>
        </p:nvSpPr>
        <p:spPr>
          <a:xfrm>
            <a:off x="3429000" y="3733920"/>
            <a:ext cx="45720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1679760" y="480060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D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4812120" y="575460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8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048A-85BE-496A-9926-BC4581DEC6D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ordinate System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arametric coordina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 be used to model curves and su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xture coordina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d to identify points in the image to be mapp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bject or World Coordina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eptually, where the mapping takes pl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indow Coordina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re the final image is really produc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F2A6-DF93-4FDB-AEE4-C7839C4962B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exture Mapp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6" name="Picture 5" descr="AN07F16"/>
          <p:cNvPicPr/>
          <p:nvPr/>
        </p:nvPicPr>
        <p:blipFill>
          <a:blip r:embed="rId1"/>
          <a:stretch/>
        </p:blipFill>
        <p:spPr>
          <a:xfrm>
            <a:off x="762120" y="1219320"/>
            <a:ext cx="7993080" cy="52783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04760" y="213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ric coordin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457200" y="5486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ure coord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3733920" y="58672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 coord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6627960" y="57150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 coord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ooter Placeholder 8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D22B-FDEA-409D-9727-F399A7D3F00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Mapping Func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asic problem is how to find the map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sider mapping from texture coordinates to a point a surfac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ppear to need three func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x  = x(s,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 = y(s,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z = z(s,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But we really want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o go the other wa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AN07F15"/>
          <p:cNvPicPr/>
          <p:nvPr/>
        </p:nvPicPr>
        <p:blipFill>
          <a:blip r:embed="rId1"/>
          <a:stretch/>
        </p:blipFill>
        <p:spPr>
          <a:xfrm>
            <a:off x="4191120" y="3962520"/>
            <a:ext cx="4267080" cy="2097000"/>
          </a:xfrm>
          <a:prstGeom prst="rect">
            <a:avLst/>
          </a:prstGeom>
          <a:ln w="0">
            <a:noFill/>
          </a:ln>
        </p:spPr>
      </p:pic>
      <p:sp>
        <p:nvSpPr>
          <p:cNvPr id="86" name="Line 5"/>
          <p:cNvSpPr/>
          <p:nvPr/>
        </p:nvSpPr>
        <p:spPr>
          <a:xfrm>
            <a:off x="4419720" y="4114800"/>
            <a:ext cx="213336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 flipV="1">
            <a:off x="39625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8"/>
          <p:cNvSpPr/>
          <p:nvPr/>
        </p:nvSpPr>
        <p:spPr>
          <a:xfrm>
            <a:off x="3962520" y="48769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4270680" y="47656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3677760" y="40798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1"/>
          <p:cNvSpPr/>
          <p:nvPr/>
        </p:nvSpPr>
        <p:spPr>
          <a:xfrm flipH="1">
            <a:off x="6629400" y="3809880"/>
            <a:ext cx="53352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6782400" y="33526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13"/>
          <p:cNvSpPr/>
          <p:nvPr/>
        </p:nvSpPr>
        <p:spPr>
          <a:xfrm>
            <a:off x="4343400" y="41148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14"/>
          <p:cNvSpPr/>
          <p:nvPr/>
        </p:nvSpPr>
        <p:spPr>
          <a:xfrm>
            <a:off x="6553080" y="46483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ooter Placeholder 1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574A-2623-41D1-8C01-6329891B48C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Backward Mapp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90400" indent="-5904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really want to go backwar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9536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n a pixel, we want to know to which point on an object it correspo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9536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n a point on an object, we want to know to which point in the texture it correspo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a map of the form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s(x,y,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t(x,y,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ch functions are difficult to find in general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864D-DE7E-42DB-9417-0E25733AD6C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wo-part mapp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ne solution to the mapping problem is to first map the texture to a simple intermediate surfa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ample: map to cylind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AN07F20"/>
          <p:cNvPicPr/>
          <p:nvPr/>
        </p:nvPicPr>
        <p:blipFill>
          <a:blip r:embed="rId1"/>
          <a:stretch/>
        </p:blipFill>
        <p:spPr>
          <a:xfrm>
            <a:off x="1981080" y="3809880"/>
            <a:ext cx="3235320" cy="1995480"/>
          </a:xfrm>
          <a:prstGeom prst="rect">
            <a:avLst/>
          </a:prstGeom>
          <a:ln w="0">
            <a:noFill/>
          </a:ln>
        </p:spPr>
      </p:pic>
      <p:sp>
        <p:nvSpPr>
          <p:cNvPr id="104" name="Footer Placeholder 5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2T19:17:07Z</dcterms:created>
  <dc:creator>Ed Angel</dc:creator>
  <dc:description/>
  <dc:language>en-US</dc:language>
  <cp:lastModifiedBy>Ed Angel</cp:lastModifiedBy>
  <dcterms:modified xsi:type="dcterms:W3CDTF">2014-03-31T17:53:18Z</dcterms:modified>
  <cp:revision>197</cp:revision>
  <dc:subject/>
  <dc:title>PowerPoint Presentation</dc:title>
</cp:coreProperties>
</file>