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071-6238-48C0-A58C-3CEE0DD9D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A431-834B-46AD-A572-7EE097FE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CDA-9064-43E1-B58D-D4C1E942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DAF0-1BE0-4D3B-99A5-2261F0CB7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393-CBF0-4A2D-A40A-E3158612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0CA2-E2DD-47F0-B757-58E48DA6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2896-32BF-4ADB-B115-7D3978D60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5290-AA6E-407D-9CB6-19F6CB2D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7E4-4702-4E6B-A2A3-5C99599D4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D36-541C-4DAF-9EB4-CC8FD3B4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EA8D-86C1-4559-9E05-B6F6053E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DFD-5BEF-40CA-B762-4225534C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ABFC-BFAD-4FEF-B164-4D512457F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9954-097E-40A3-9DCE-CC9173B4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770-B438-4E5A-B28D-EA16E5C01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B830-C623-42D3-B4B7-5D0B26368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57DA-3181-4D60-B19A-1E3DBDF4D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AD6B-AF40-4540-B67C-DFA0E2484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5A97-55BF-40CF-82FA-515895F44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EAD0-23D1-48E9-B871-C08CE187A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F4E9-4860-4685-A515-0EA34DE9D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5E87-7DAF-4DF1-A801-389418D3A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575F-F639-4EB8-BD75-AB5088F66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A285-E17F-4DD1-A760-543895304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B24-A84F-4657-B016-FFD9808EFA0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BAC-0D45-4C38-BDB2-F6D61CCF1C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72B1-2AC0-432B-A72E-4626EBB12A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pping indices to 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2453400" y="1595520"/>
            <a:ext cx="292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indices =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0,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2,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3,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,6,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0,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,7,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,5,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2,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,5,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,7,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,4,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,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ing by Ele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indices to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by elem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n more efficient if we use triangle strips or triangle fa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6C7-418F-47D3-B4F1-0F1FED750A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" y="220968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Buffer = gl.createBuff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bindBuffer(gl.ELEMENT_ARRAY_BUFFER, i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bufferData(gl.ELEMENT_ARRAY_BUFF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Uint8Array(indices), gl.STATIC_DRA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3520" y="45720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drawElements( gl.TRIANGLES, numVerti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UNSIGNED_BYTE,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Buttons for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D142-3F1A-431B-9727-7A073AA515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33520" y="1600200"/>
            <a:ext cx="769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xAxi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yAxis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zAxis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xi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theta = [ 0, 0, 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theta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cument.getElementById( "xButton" ).onclick = function () {        axis = xAxis;    };    document.getElementById( "yButton" ).onclick = function () {        axis = yAxis;    };    document.getElementById( "zButton" ).onclick = function () {        axis = zAxis;   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248B-9F03-4096-BD69-00968A3684E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52280" y="1905120"/>
            <a:ext cx="876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rend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clear( gl.COLOR_BUFFER_BIT |gl.DEPTH_BUFFER_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ta[axis] += 2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uniform3fv(thetaLoc, the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drawArrays( gl.TRIANGLES, 0, numVertice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AnimFrame( rend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D8A-2F30-4FF7-BB97-72066F00C3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Rotating Squa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01A-8C97-4061-B808-ED4EA1E4A6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 everything together to display rotating cu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methods of 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arr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8AD-B82B-4FF1-B6D9-888F198059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ing a Cub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9220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vertices = 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-0.5, -0.5,  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-0.5,  0.5,  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 0.5,  0.5,  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 0.5, -0.5,  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-0.5, -0.5, -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-0.5,  0.5, -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 0.5,  0.5, -0.5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3(  0.5, -0.5, -0.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27600" y="167652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global array for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17B-8493-41A2-A15E-BA4F50897A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760" y="243828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vertexColors =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0.0, 0.0, 0.0, 1.0 ],  //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1.0, 0.0, 0.0, 1.0 ],  //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1.0, 1.0, 0.0, 1.0 ],  // 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0.0, 1.0, 0.0, 1.0 ],  //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0.0, 0.0, 1.0, 1.0 ],  //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1.0, 0.0, 1.0, 1.0 ],  // 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0.0, 1.0, 1.0, 1.0 ],  // cy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1.0, 1.0, 1.0, 1.0 ]   // 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6520" y="167652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global array for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F121-5B3C-4983-BD55-1CD19C06A1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raw cube from 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colorCube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3,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2,3,7,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4,7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1,2,6,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4,5,6,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1,5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5029200" y="2514600"/>
            <a:ext cx="1905120" cy="2286000"/>
            <a:chOff x="5029200" y="2514600"/>
            <a:chExt cx="1905120" cy="2286000"/>
          </a:xfrm>
        </p:grpSpPr>
        <p:sp>
          <p:nvSpPr>
            <p:cNvPr id="76" name="Rectangle 6"/>
            <p:cNvSpPr/>
            <p:nvPr/>
          </p:nvSpPr>
          <p:spPr>
            <a:xfrm>
              <a:off x="5029200" y="3352680"/>
              <a:ext cx="1447920" cy="1447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5486400" y="2514600"/>
              <a:ext cx="1447920" cy="1447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 flipH="1">
              <a:off x="5029200" y="251460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 flipH="1">
              <a:off x="5029200" y="396252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H="1">
              <a:off x="6477120" y="251460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H="1">
              <a:off x="6477120" y="396252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13"/>
          <p:cNvSpPr/>
          <p:nvPr/>
        </p:nvSpPr>
        <p:spPr>
          <a:xfrm>
            <a:off x="47260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3359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7012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1740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488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70120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650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477120" y="4800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43760" y="525636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vertices are ordered so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btain correct outward facing nor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quad generates two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20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itial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63B-1A6F-4322-939E-2F8F50E3A0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57200" y="1447920"/>
            <a:ext cx="84582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canvas, g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numVertices  = 3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points = 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colors = 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onload = function ini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vas = document.getElementById( "gl-canvas"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 = WebGLUtils.setupWebGL( canvas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Cube(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viewport( 0, 0, canvas.width, canvas.heigh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clearColor( 1.0, 1.0, 1.0,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enable(gl.DEPTH_T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st of initialization and html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ame as previous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FF7-0993-4379-BAC3-2620B9C800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quad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t position and color data for two triangles from a list of indices into the array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ert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04920" y="2438280"/>
            <a:ext cx="82296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quad(a, b, c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ndices = [ a, b, c, a, c, d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var i = 0; i &lt; indices.length; ++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.push( vertices[indices[i]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s.push( vertexColors[indices[i]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or solid colored faces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lors.push(vertexColors[a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F7C-DD95-4B73-B35D-A16E554763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52280" y="19051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rend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clear( gl.COLOR_BUFFER_BIT |gl.DEPTH_BUFFER_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drawArrays( gl.TRIANGLES, 0, numVertice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AnimFrame( rend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23:34:20Z</dcterms:created>
  <dc:creator>Ed Angel</dc:creator>
  <dc:description/>
  <dc:language>en-US</dc:language>
  <cp:lastModifiedBy>Ed Angel</cp:lastModifiedBy>
  <dcterms:modified xsi:type="dcterms:W3CDTF">2014-03-31T17:48:43Z</dcterms:modified>
  <cp:revision>126</cp:revision>
  <dc:subject/>
  <dc:title>PowerPoint Presentation</dc:title>
</cp:coreProperties>
</file>