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E5C9-F367-4545-BBE5-C89F1593D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82F1-1551-4037-87F1-05F06BE1B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614-BFED-42B9-BC41-A2B3975DD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2475-5880-445E-BAA1-EF9BEBEE9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0820-50B2-4129-A8BB-4C2FD18C0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6AF5-629C-466B-9364-9EA267FD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047-E602-46EA-8F45-C39BAE76A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5D64-C04A-4977-9747-CDEE4E4E8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93DD-0F93-4F96-B5B2-983286E5B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93ED-7477-431C-BD8E-DD4B80149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819C-4742-4076-BF7B-74D436774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D55B-90D5-4150-9EEA-4E4D0916F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AC6C-EAB8-4DC5-94B2-A3333CC9F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4571-7E7E-40C5-8049-C27A8979E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F6B1-930D-48F8-8FDE-1F67DEBAC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7A89-E518-4769-9A05-812F9BF4F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39A3-D3C3-4E9C-BC09-0603D37F6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5703-3661-41C9-BFE7-944252854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6DC2-9E3F-45FC-9724-64154EE73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C4F9-C70B-4C6F-A6F8-3CE0A1FE0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FE5B-7007-47D8-B07D-AC4EB0CC57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5015F-74CE-4159-9AED-4414A3EB4E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41118-4C36-4B67-9E1A-22A7C6DACA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E1A48-C426-45A6-9623-310DFD6975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6CAAF-338B-4843-83C5-99C5CB678F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A5A40-5437-4812-AA8A-54F34C5FD5D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C5408-415E-4703-8E1B-676CD338F77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AEC8C-813A-4393-825A-8BCE9C8A10A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FB489-A168-4CAB-8D12-FB9276BB80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59E07-3DC6-4946-B66F-BF5AD27258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E09CD7-2735-4ACA-B7ED-4CABFB3AF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620B-D2E3-4742-8930-FAF13A38074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EDF32B-04CD-4AAC-8F18-3B540741275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17098-A442-465D-A820-41FB402647E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B5001-CEF9-4A2F-89AC-4B56543D669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870D8D-CCDF-4C41-8D01-D22C27985DB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876EE1-F619-47D6-9D64-8818B3AD96E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FEFAAB-4024-4813-A825-115DED5C3DA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5F6D0C-F853-46C7-ADF9-2FA3E4EAF20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623EE7-F5CD-40E4-8A8E-44C47348F10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86DAAD-CC99-4FBC-9296-3151C6058D7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EEDC73-9F4E-4532-8A18-6497F6A96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1A70-A9D0-484C-94C8-5E24D537609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5FA93F-7039-4A32-9813-09D3F5F17EC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193B4-317E-41B4-82B5-EC95F4DC2FA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7960D-EB7C-4496-A669-418E9FBF33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3DAD-2948-48B2-BFEB-DBE373C3AA1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831B4-D690-4784-9CB6-D52F01C9F09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9F30-6FAC-48CF-9E44-FF4964EEFE9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74EFC-D391-47F4-B702-17BAC08DF77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B3C22-E996-47E3-A590-27DC703D32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3E009-E6D0-4784-AE93-B82550A8C4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2F1A-A93A-4A15-9A70-4BB34C2EE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E3A-291E-494D-B2A4-28694BAA784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29A17-5CEE-450D-83D2-82C2077F1D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F9C0A-63C8-4467-B44F-BF917E56B2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75061-39AD-4B40-BE7A-BE05A56197E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9B587-8D13-4A69-A24D-573DAC9E388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8652FB-E916-43D6-A0AC-2F4BC57C6EF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C510C3-AAAE-4268-98F0-56DD009FA55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EB1D7A-7766-4F68-A6A6-DDB90EAE50C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E7AF10-1379-4C55-AB62-E758FAAF91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69FE9E-9853-435E-9829-71D94D351A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ED059C-A226-4B51-B1FA-763C19F26E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03F-1ACE-46AD-BBF3-FF96CEB415A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70CCD-29FB-4842-956D-CB835A01E9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1171A-ABD9-477C-A5EC-8A375633A8E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B39B6-D55C-440A-A81A-810BB5ECC5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95A530-C505-4E83-98A9-7DCA9955C0B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134876-E1A8-4F37-ABDA-DB97692434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B45-77B5-4908-847B-27A67F077E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1F2-7384-4854-A0B5-ADA9200176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B56-3A82-4245-991C-91FF257760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3B2-4066-4513-88C4-E56763DE5B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AD7-D6FB-4EE9-A4FB-6279744A9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33E3-E92F-442C-A315-43EF9AFDD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4C0-4858-4DA9-A6B8-78E0D923D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4DB-9260-417C-A2FF-C82101E634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66B-C702-45D2-B097-A257851C22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266-ACFF-45D4-B927-1E09B15795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277-9DEF-4F41-AB1F-9437231650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B7D01-A75B-415F-BED5-B5CEE18FE3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9069B-4DFC-475A-A300-328EBCA22D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65F77-1846-428A-B966-48C567A451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A5E05-D0ED-4A51-A8BF-F0C12F4BE1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A76C9-4384-4A6A-8C5A-6FA4AE36E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84E7-7882-4634-ACF3-11E7F99359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BA511-DDB2-43D4-BE1A-A91683AEBD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AC94C-26F4-437C-A014-1B55EA0701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50180-DAB6-4D2E-BA1D-9C6EEF7D3A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2A157-77A4-43FD-85C3-BBB5B04DC8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E2D12-0BFC-44A4-8D87-1540167046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2AA45-0309-46CF-B0CB-2335DECF1B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E2A05-A357-477E-8873-D4E28C015A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73BD0-0FE7-422B-998A-B251199E0A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EB0054-3718-4D12-93B4-16B4003C42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FDE4C-3244-43D8-830E-B675100A5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46C3-8F49-4EB6-83E3-5C33656043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CB3A96-51CD-4A3D-A6B8-B61CCE4BAE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3EC94-D8C0-44BC-B972-7A5745FC3A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DB12BA-34A2-4245-9104-44CC1A51CD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0382F-77D0-4363-A808-7CE31F8A63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2B4A1-B9A5-445E-A0F8-4B14525E40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2924D-1FCE-4C64-B77B-8F8DF3438B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7E6FDE-5396-466D-8A20-FBD7F6F2AB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7715B-49EB-41EA-A4DD-3AC5765B71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2CCF9-8149-48C6-BF0D-2CC51489F4E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0448-AADC-4DEF-840D-089E92AE6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3AF2-BB12-41F5-856D-5340BE7E08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DBFF-C7ED-45CF-A785-3376AEDDC6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4A67-0E30-491D-9582-83E626E5E9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FAC83-602A-434B-9403-5EDBE7108D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B0BB-F4F1-43E8-A93B-E9AD5758AF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28CD-91B7-4FD9-8B68-669AFC2740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0A84-F166-4368-9EDA-0F1AB47C017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AFD87-2389-4535-9126-2F12736F657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7F73-1DD2-4906-9FA6-0C42366BAD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D811-2576-4880-B93F-BEC8574CFA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D865-88A6-4F68-851A-D5A9BE418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57C5-EE5F-48B2-8664-7360F37FB4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CAC5-EE42-4E39-B15F-749AE56A104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CDD18-65A4-4D3F-8C01-05EE27D29B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85AA4-6111-41B0-8A37-5CC2FF2648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DDB16-7AC1-4402-924A-51C1AC88A7A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183DB-81ED-4982-86F5-D8538C6474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6FB3D-31EE-414D-8688-C57E2EC6528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14672-8570-4281-AA11-2586CC2857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58A34-E4ED-44D2-84DD-C072F82E95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50121-221E-4BD4-B962-E22CFDC153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6B1F7-9F6E-4A80-979C-E07C41812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6D11-363E-41B4-B09F-1F6A08D11D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89862-07EB-4EB1-A10C-283CDC8C3F4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90C42-D0A5-4890-BBDD-E5A31A9F6B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24630-5D15-4F0E-9937-BC6C9164DF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43CEC7-EFCE-4745-9671-47CAC61417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63C48-951D-4B03-BE16-51F9579E95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55577A-DB1F-42C8-B2AB-EC14AE5A55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68C305-3AA7-44C7-BD91-7023482E9B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F880B-54D3-48B5-B6F9-860FE94763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2A087D-006C-4102-B143-9BA1BFA8FC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48E44F-476A-4043-BD68-7B70C8A17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4A16-0731-4037-84B9-31B0304169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A1706B-3949-4158-A073-A6CCEFFD10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9157C8-C72B-4119-8118-7E27576A6D3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03F705-0CC0-474F-88DD-9C8D6ED0225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5D984-22B7-43F1-A440-8099BA9954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CC20C-ED34-47F5-9FEA-27D793DA03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D973D-6E0C-4736-9017-F2E37964B8F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9CA7B-DEDE-4D70-AAD6-89D4CDCACF3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53B14-BE9F-4F44-B43B-D37C0A49D7D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5901-547D-4310-8315-5B0B6F61E3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B9ADE-98ED-485A-8048-4C47E1FCC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F5AC-1A32-4BD6-983E-65A093FB63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8B8BD-7FFF-47EF-B890-8AD31EF59C8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21198-FABE-4E83-9125-781C1584307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E849-5A72-4F67-A30B-CDEE684EDB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B721D-BC04-4149-8692-5F64B7C73D5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02140-D752-42CB-85FC-CDA9D29471F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2EB2-7D13-4B4F-8890-BC1EDD04FC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92ACD-3C74-4BB9-B4E2-3BAD8E035FD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040B0-6421-4A66-AA02-50D0519391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7422A-58C7-4698-BD42-462FAC3DD4A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3C5D9-F559-43BB-A6FE-3946485F8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54B-A4B2-4F43-9DF4-C3DDCA322BC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FD4B-1533-4C77-BFED-E67A192FAA0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08CB-24DA-4946-BD42-3DD313C15D2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0E83-26CB-44CA-BCB5-FC90F3187A7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6259-3E39-47AB-96D9-E5A96D0736C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38E1-3A39-4A7C-969D-31F85B8B57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3C1B-CEA0-4E8A-BC84-471E6877FBF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DF44-E33F-48E5-B008-BF25156A4BA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E24C-72EE-47BF-AA91-2BF4F1EC55B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A01F-4101-4836-8CE1-05DB6BE29C1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798A-5910-4DEF-AF98-26525258FC3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BAC0-E65F-4848-89AA-E1FF868B07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DD9F-3945-4249-B02F-585A2E02EB0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A558-DF77-4689-B419-34F0924EC9C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Halfway Vect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normalized vector halfway between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294000" cy="26780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6"/>
          <p:cNvSpPr/>
          <p:nvPr/>
        </p:nvSpPr>
        <p:spPr>
          <a:xfrm>
            <a:off x="2280960" y="27082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= ( l + v )/ | l +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69BA-440F-449A-8084-A18C076FCB7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the halfway vect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3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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by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3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is chosen to match shinin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Note that halfway angle is half of angle between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f vectors are coplan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ing model is known as the modified Phong or Phong-Blinn lighting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ed in OpenGL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E66C-F101-4844-8406-64C233B1C95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  <a:ea typeface="Times New Roman"/>
              </a:rPr>
              <a:t>Example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"/>
          <p:cNvPicPr/>
          <p:nvPr/>
        </p:nvPicPr>
        <p:blipFill>
          <a:blip r:embed="rId1"/>
          <a:srcRect l="0" t="3906" r="0" b="0"/>
          <a:stretch/>
        </p:blipFill>
        <p:spPr>
          <a:xfrm>
            <a:off x="3581280" y="1523880"/>
            <a:ext cx="4896000" cy="4924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730800" y="2971800"/>
            <a:ext cx="278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differenc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eapot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6B53-BF33-4EAD-BA2C-AC6B9A27CD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  <a:ea typeface="Times New Roman"/>
              </a:rPr>
              <a:t>Computation of Vectors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pecified by the 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an computer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is determining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For simple surfaces   is can be determined but how we determine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differs depending on underlying representation of surf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OpenGL leaves determination of normal to 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ception for GLU quadrics and Bezier surfaces was deprec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Reflection Dir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gle of incidence = angle of refl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rmal, light direction and reflection direction are coplan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nt all three to be unit lengt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6FB0-BC3E-4BBF-AA9C-1011009324A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63840" cy="24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295280" y="3809880"/>
                <a:ext cx="35956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l·n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0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5C3A-257B-4913-84F3-6CD5F93CAC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AN04F17"/>
          <p:cNvPicPr/>
          <p:nvPr/>
        </p:nvPicPr>
        <p:blipFill>
          <a:blip r:embed="rId1"/>
          <a:stretch/>
        </p:blipFill>
        <p:spPr>
          <a:xfrm>
            <a:off x="4800600" y="3276720"/>
            <a:ext cx="3276720" cy="26575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  <a:ea typeface="Times New Roman"/>
              </a:rPr>
              <a:t>Plane Norm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quation of plane: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x+by+cz+d =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om Chapter 4 we know that plane is determined by three point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r normal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rmal can be obtained b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1333440" y="4867200"/>
            <a:ext cx="297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F182-67D7-4007-A5E9-FFD3CD06730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  <a:ea typeface="Times New Roman"/>
              </a:rPr>
              <a:t>Normal to Sphe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plicit function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(x,y.z)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rmal given by gradi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here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f/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x,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/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y,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f/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z]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2743200" y="4267080"/>
            <a:ext cx="2590920" cy="1685880"/>
          </a:xfrm>
          <a:prstGeom prst="rect">
            <a:avLst/>
          </a:prstGeom>
          <a:ln w="0">
            <a:noFill/>
          </a:ln>
        </p:spPr>
      </p:pic>
      <p:sp>
        <p:nvSpPr>
          <p:cNvPr id="601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9B1E-8FE1-4ADC-BBE0-4AD6EC91085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metric Fo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sp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ngent plane determined by vect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rmal given by cross pro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1981080" y="2209680"/>
            <a:ext cx="27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x(u,v)=cos u sin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y(u,v)=cos u co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= z(u,v)=sin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1796760" y="3962520"/>
            <a:ext cx="396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∂u = [∂x/∂u, ∂y/∂u, ∂z/∂u]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∂v = [∂x/∂v, ∂y/∂v, ∂z/∂v]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2335680" y="560376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∂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∂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590560" cy="1685880"/>
          </a:xfrm>
          <a:prstGeom prst="rect">
            <a:avLst/>
          </a:prstGeom>
          <a:ln w="0">
            <a:noFill/>
          </a:ln>
        </p:spPr>
      </p:pic>
      <p:sp>
        <p:nvSpPr>
          <p:cNvPr id="609" name="Footer Placeholder 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433B-1E35-4C45-A852-5CFBC14AC60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al Cas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compute parametric normals for other simple ca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d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metric polynomial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er surface patches (Chapter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C56C-D665-4496-AA5A-E2D54C7A92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ing and Shading 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63A1-331B-49A2-9C3C-0D8ED6B5038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tinue discussion of shad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modified Phong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computation of required vect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390-4EA1-4076-B4C6-85CB8B0428C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mbient Ligh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bient light is the result of multiple interactions between (large) light sources and the objects in the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ount and color depend on both the color of the light(s) and the material properties of the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 diffuse and specular ter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 flipH="1" flipV="1">
            <a:off x="1980720" y="5181480"/>
            <a:ext cx="228600" cy="60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11960" y="579132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 co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6"/>
          <p:cNvSpPr/>
          <p:nvPr/>
        </p:nvSpPr>
        <p:spPr>
          <a:xfrm flipH="1" flipV="1">
            <a:off x="2514600" y="5181120"/>
            <a:ext cx="13716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3245760" y="583236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 of ambient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C6E1-5424-4D07-87BD-6FA2893CA2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tance Ter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light from a point source that reaches a surface is inversely proportional to the square of the distance between th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add a factor of th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m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/(a + bd +cd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iffuse and specula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nstant and linear terms soften the effect of the point 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AN06F01"/>
          <p:cNvPicPr/>
          <p:nvPr/>
        </p:nvPicPr>
        <p:blipFill>
          <a:blip r:embed="rId1"/>
          <a:stretch/>
        </p:blipFill>
        <p:spPr>
          <a:xfrm>
            <a:off x="5867280" y="2971800"/>
            <a:ext cx="2808360" cy="2155680"/>
          </a:xfrm>
          <a:prstGeom prst="rect">
            <a:avLst/>
          </a:prstGeom>
          <a:ln w="0">
            <a:noFill/>
          </a:ln>
        </p:spPr>
      </p:pic>
      <p:sp>
        <p:nvSpPr>
          <p:cNvPr id="547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E4B2-90A1-48EF-95FC-0D5449717C3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 Sour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the Phong Model, we add the results from each light 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ch light source has separate diffuse, specular, and ambient terms to allow for maximum flexibility even though this form does not have a physical justif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parate red, green and blue compon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nce, 9 coefficients for each point 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d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s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55ED-214A-4E90-ADBB-6792E5752AA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terial Properti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erial properties match light source proper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ne absorbtion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iness coefficien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79F-35DA-462B-9581-5F3DE2D4A49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AN06F13"/>
          <p:cNvPicPr/>
          <p:nvPr/>
        </p:nvPicPr>
        <p:blipFill>
          <a:blip r:embed="rId1"/>
          <a:stretch/>
        </p:blipFill>
        <p:spPr>
          <a:xfrm>
            <a:off x="5105520" y="3657600"/>
            <a:ext cx="3771720" cy="25351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ng up the Compon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light source and each color component, the Phong model can be written (without the distance terms)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3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each color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e add contribution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l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9690-67B8-48B6-AB77-050A160460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  <a:ea typeface="Times New Roman"/>
              </a:rPr>
              <a:t>Modified Phong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pecular term in the Phong model is problematic because it requires the calculation of a new reflection vector and view vector for each vert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linn suggested an approximation using the halfway vector that is more effici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57:32Z</dcterms:created>
  <dc:creator>Ed Angel</dc:creator>
  <dc:description/>
  <dc:language>en-US</dc:language>
  <cp:lastModifiedBy>Ed Angel</cp:lastModifiedBy>
  <dcterms:modified xsi:type="dcterms:W3CDTF">2014-03-31T17:51:22Z</dcterms:modified>
  <cp:revision>172</cp:revision>
  <dc:subject/>
  <dc:title>PowerPoint Presentation</dc:title>
</cp:coreProperties>
</file>