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7445-4117-4372-BE60-665C7E17E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1749-2590-4B52-8F46-B64BFF1E6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3194-062B-4A09-9D7E-FF45290CA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B8EC-2A2D-4518-A07D-2829DE862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0AEF-1F43-4890-82E3-376DBF39B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765D-6EE6-4F85-B46D-BF346733D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2AA0-9417-4526-9527-C68DD0A6F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E065-6264-4584-ADE0-DCB0AC0AA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BEF1-F2F8-40A7-88E2-AE14335FD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EEC5-47A5-4A15-8BCD-2C9EEE3F5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982E-21A9-464F-8BCD-68B94DBA1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6FAE-A965-4E48-A5EF-88774767F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0DC0-34BF-4A58-A52C-7EA5CA50D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3097-54EF-4A83-B738-1DFBA6B4B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F5A5-A21D-41A5-9E0C-E92770484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8A16-F63B-426C-990D-872579915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2250-2814-4CF0-AC98-BAE9E1D57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ABA4-5B8D-42C2-AD74-BF7EE3B10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1A4E-AE47-415E-A54A-D8A5E8F2D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9CDB-2A21-487C-BA6E-0EBB6DEF9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A1D3-B451-4B82-968E-AD1ADDA3A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B830-C89B-48AD-BDE0-6880DC3FB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6F6D-4594-436F-9D02-26427B582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ADDA9-D4DE-4FA2-9459-BC9ACA2A6D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D64EF-3235-4F04-9286-95CA03B67C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9CF81-13D5-495F-B04E-D3EB8B9E51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B4562-E8B2-45B8-86FC-AF7C79E6CE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B6482-9460-4DEB-A27D-2604407D75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C3A0B-C5BA-42F3-B75C-918E6612F5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C3F9C-EA4E-4F5E-832F-66E4CCE4FC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E316B-D782-401E-83DD-F978BD6275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820F5-981C-4A3B-9416-ED76886337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D3C4B-DCCB-484A-A38B-8847A5E377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F49A9-2928-46B7-8330-0F608C25CE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DE2E9-0E22-4764-B790-4964A4F410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A766-23A5-4B56-99C0-A196650F866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400440"/>
            <a:ext cx="6781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5667-00A5-40D3-AECA-1A7C4ACE2AA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Vertex Data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C831-5A36-4163-83FE-07FCED3DB44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380880" y="1447920"/>
            <a:ext cx="8382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( var n = 0; n &lt; numTeapotPatches; n++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data = new Array(numDivisions+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(var j = 0; j&lt;= numDivisions; j++) data[j] = new Array(numDivisions+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(var i=0; i&lt;=numDivisions; i++) for(var j=0; j&lt;= numDivisions; j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[i][j] = vec4(0,0,0,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u = i*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v = j*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t = new Array(4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(var ii=0; ii&lt;4; ii++) t[ii]=new Array(4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(var ii=0; ii&lt;4; ii++) for(var jj=0; jj&lt;4; jj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[ii][jj] = bezier(u)[ii]*bezier(v)[jj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(var ii=0; ii&lt;4; ii++) for(var jj=0; jj&lt;4; jj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 = vec4(patch[n][4*ii+jj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 = scale( t[ii][jj], tem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[i][j] = add(data[i][j], tem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Quad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177B-E4CF-4284-AA6D-058F42E6819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457200" y="1752480"/>
            <a:ext cx="8685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(var i=0; i&lt;numDivisions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(var j =0; j&lt;numDivisions; j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.push(data[i][j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.push(data[i+1][j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.push(data[i+1][j+1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.push(data[i][j]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.push(data[i+1][j+1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.push(data[i][j+1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+= 6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ecursive Subdivis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9" name="Content Placeholder 4" descr="teapot2.tiff"/>
          <p:cNvPicPr/>
          <p:nvPr/>
        </p:nvPicPr>
        <p:blipFill>
          <a:blip r:embed="rId1"/>
          <a:srcRect l="0" t="-10215" r="0" b="-10215"/>
          <a:stretch/>
        </p:blipFill>
        <p:spPr>
          <a:xfrm>
            <a:off x="685800" y="1600200"/>
            <a:ext cx="6629400" cy="40291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52C5-BEA1-41DA-BE49-6F8C05F5115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Divide Curv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853C-B2C8-4BAA-A3A4-3375C5CA1FC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380880" y="1752480"/>
            <a:ext cx="8610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Curve = function( c, r , l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divides c into left (l) and right ( r ) curve dat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mid = mix(c[1], c[2], 0.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[0] = vec4(c[0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[1] = mix(c[0], c[1], 0.5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[2] = mix(l[1], mid, 0.5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[3] = vec4(c[3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[2] = mix(c[2], c[3], 0.5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[1] = mix( mid, r[2], 0.5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[0] = mix(l[2], r[1], 0.5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[3] = vec4(r[0]);   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Divide Patch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B683-DFD8-4186-8F7C-BCEBC25F66B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533520" y="1828800"/>
            <a:ext cx="8001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idePatch = function (p, count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( count &gt; 0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a =  mat4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b =  mat4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t = mat4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q = mat4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r = mat4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s = mat4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subdivide curves in u direction, transpose results, div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in u direction again (equivalent to subdivision in 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( var k = 0; k &lt; 4; ++k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pp = p[k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aa = vec4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bb = vec4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Divide Patch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277B-FEC0-4DB4-94A8-E9B1EE5B24A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380880" y="1447920"/>
            <a:ext cx="80773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ideCurve( pp, aa, bb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[k] = vec4(a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[k] = vec4(bb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= transpose( a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= transpose( b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( var k = 0; k &lt; 4; ++k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pp = vec4(a[k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aa = vec4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bb = vec4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ideCurve( pp, aa, bb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[k] = vec4(a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[k] = vec4(bb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( var k = 0; k &lt; 4; ++k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pp = vec4(b[k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aa = vec4();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Divide Patch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108C-56F8-4426-B9C4-1753E56E0A8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380880" y="1828800"/>
            <a:ext cx="7925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bb = vec4();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ideCurve( pp, aa, bb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[k] = vec4(bb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recursive division of 4 resulting pat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idePatch( q, count - 1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idePatch( r, count - 1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idePatch( s, count - 1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idePatch( t, count - 1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Patch( p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Draw Patch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4C9A-5BB5-4882-806E-C93AA943896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380880" y="175248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Patch = function(p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Draw the quad (as two triangles) boun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  corners of the Bezier p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.push(p[0][0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.push(p[0][3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.push(p[3][3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.push(p[0][0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.push(p[3][3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.push(p[3][0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+=6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dding Shad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3" name="Content Placeholder 4" descr="teapot3.tiff"/>
          <p:cNvPicPr/>
          <p:nvPr/>
        </p:nvPicPr>
        <p:blipFill>
          <a:blip r:embed="rId1"/>
          <a:srcRect l="0" t="-12405" r="0" b="-12405"/>
          <a:stretch/>
        </p:blipFill>
        <p:spPr>
          <a:xfrm>
            <a:off x="762120" y="2362320"/>
            <a:ext cx="4136760" cy="2514600"/>
          </a:xfrm>
          <a:prstGeom prst="rect">
            <a:avLst/>
          </a:prstGeom>
          <a:ln w="0">
            <a:noFill/>
          </a:ln>
        </p:spPr>
      </p:pic>
      <p:sp>
        <p:nvSpPr>
          <p:cNvPr id="12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A144-1338-4971-AD72-6697CB2A24B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teapot4.tiff"/>
          <p:cNvPicPr/>
          <p:nvPr/>
        </p:nvPicPr>
        <p:blipFill>
          <a:blip r:embed="rId2"/>
          <a:stretch/>
        </p:blipFill>
        <p:spPr>
          <a:xfrm>
            <a:off x="4267080" y="2590920"/>
            <a:ext cx="4087800" cy="1981080"/>
          </a:xfrm>
          <a:prstGeom prst="rect">
            <a:avLst/>
          </a:prstGeom>
          <a:ln w="0">
            <a:noFill/>
          </a:ln>
        </p:spPr>
      </p:pic>
      <p:sp>
        <p:nvSpPr>
          <p:cNvPr id="126" name="Footer Placeholder 5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Using Face Normal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8D9B-99FB-4F5C-84A1-5A997FE84A3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304920" y="1523880"/>
            <a:ext cx="853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t1 = subtract(data[i+1][j], data[i][j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t2  =subtract(data[i+1][j+1], data[i][j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normal = cross(t1, 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= normalize(norma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[3] = 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.push(data[i][j]);            normals.push(norma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.push(data[i+1][j]);        normals.push(normal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.push(data[i+1][j+1]);    normals.push(normal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.push(data[i][j]);             normals.push(norma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.push(data[i+1][j+1]);    normals.push(normal);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.push(data[i][j+1]);        normals.push(norma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+= 6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endering the Teapo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37720" y="32767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5BA3-618C-4B8E-B2EC-2C4AD3793F9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xact Normal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9B73-9012-4ECE-AA7C-2BFEA9FC298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838080" y="2057400"/>
            <a:ext cx="7162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ezier = function(u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b = [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push(3*u*u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push(3*u*(2-3*u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push(3*(1-4*u+3*u*u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push(-3*(1-u)*(1-u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Geometry Shade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asic limitation on rasterization is that each execution of a vertex shader is triggered by one vertex and can output only one vert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eometry shaders allow a single vertex and other data to produce many verti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ample: send four control points to a geometry shader and it can produce as many points as needed for Bezier curv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1ECF-4A41-4E74-B3FC-C3B1CC6051F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essellation Shader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n take many data points and produce triangl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re complex since tessellation has to deal with inside/outside issues and topological issues such as hol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either geometry or tessellation shaders supported by 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S 3.1 (just announced) has compute shad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AC52-9810-4C5F-8CB2-D2A20DE742C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1163-6800-42A8-A343-0271846B64D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ok at rendering with WebG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e Utah teapot for exampl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ursive subdi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ynomial eval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ing ligh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8654-29BF-4748-8DDC-2FB2E326295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Utah Teapo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st famous data set in computer graph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dely available as a list of 306 3D vertices and the indices that define 32 Bezier patch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C:\BOOK\OpenGL\Paul Final\jpeg_new\AN10F40A.jpg"/>
          <p:cNvPicPr/>
          <p:nvPr/>
        </p:nvPicPr>
        <p:blipFill>
          <a:blip r:embed="rId1"/>
          <a:stretch/>
        </p:blipFill>
        <p:spPr>
          <a:xfrm>
            <a:off x="2057400" y="3200400"/>
            <a:ext cx="4800600" cy="2593800"/>
          </a:xfrm>
          <a:prstGeom prst="rect">
            <a:avLst/>
          </a:prstGeom>
          <a:ln w="0">
            <a:noFill/>
          </a:ln>
        </p:spPr>
      </p:pic>
      <p:sp>
        <p:nvSpPr>
          <p:cNvPr id="66" name="Footer Placeholder 5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vertices.j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1599840"/>
            <a:ext cx="7772400" cy="4724280"/>
          </a:xfrm>
          <a:prstGeom prst="rect">
            <a:avLst/>
          </a:prstGeom>
          <a:ln w="0">
            <a:noFill/>
          </a:ln>
        </p:spPr>
      </p:pic>
      <p:sp>
        <p:nvSpPr>
          <p:cNvPr id="6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F4C0-EEDC-43D1-9F96-FACC556821B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457200" y="198108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numTeapotVertices = 306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vertices = [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3(1.4 , 0.0 , 2.4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3(1.4 , -0.784 , 2.4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3(0.784 , -1.4 , 2.4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3(0.0 , -1.4 , 2.4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3(1.3375 , 0.0 , 2.53125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oter Placeholder 5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atches.j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5800" y="1599840"/>
            <a:ext cx="7772400" cy="4724280"/>
          </a:xfrm>
          <a:prstGeom prst="rect">
            <a:avLst/>
          </a:prstGeom>
          <a:ln w="0">
            <a:noFill/>
          </a:ln>
        </p:spPr>
      </p:pic>
      <p:sp>
        <p:nvSpPr>
          <p:cNvPr id="7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6321-D6D8-4222-8A78-B19D2508CF3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533520" y="1981080"/>
            <a:ext cx="822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numTeapotPatches = 3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indices = new Array(numTeapotPatch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es[0] = [0, 1, 2, 3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 5, 6, 7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, 9, 10, 1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, 13, 14,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es[1] = [3, 16, 17, 18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ooter Placeholder 5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valuation of Polynomial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8" name="Content Placeholder 4" descr="teapot1.tiff"/>
          <p:cNvPicPr/>
          <p:nvPr/>
        </p:nvPicPr>
        <p:blipFill>
          <a:blip r:embed="rId1"/>
          <a:srcRect l="-2957" t="0" r="-2957" b="0"/>
          <a:stretch/>
        </p:blipFill>
        <p:spPr>
          <a:xfrm>
            <a:off x="1676520" y="1676520"/>
            <a:ext cx="5641920" cy="342900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41A3-3EAA-4047-95EC-1392195B2EF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Bezier Func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5800" y="1599840"/>
            <a:ext cx="7772400" cy="4724280"/>
          </a:xfrm>
          <a:prstGeom prst="rect">
            <a:avLst/>
          </a:prstGeom>
          <a:ln w="0">
            <a:noFill/>
          </a:ln>
        </p:spPr>
      </p:pic>
      <p:sp>
        <p:nvSpPr>
          <p:cNvPr id="8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A2C0-F022-495D-B156-BEFA8762A98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533520" y="19810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zier = function(u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b = [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a = 1-u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push(u*u*u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push(3*a*u*u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push(3*a*a*u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push(a*a*a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ooter Placeholder 5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atch Indices to Data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8A93-CF49-4638-B09E-5BF31EA213F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457200" y="182880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h = 1.0/numDivision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ch = new Array(numTeapotPatch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(var i=0; i&lt;numTeapotPatches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ch[i] = new Array(16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(var i=0; i&lt;numTeapotPatches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(j=0; j&lt;16; j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ch[i][j] = vec4([vertices[indices[i][j]][0]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ices[indices[i][j]][2]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ices[indices[i][j]][1], 1.0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22:27:43Z</dcterms:created>
  <dc:creator>Ed Angel</dc:creator>
  <dc:description/>
  <dc:language>en-US</dc:language>
  <cp:lastModifiedBy>Ed Angel</cp:lastModifiedBy>
  <dcterms:modified xsi:type="dcterms:W3CDTF">2014-03-31T18:02:22Z</dcterms:modified>
  <cp:revision>356</cp:revision>
  <dc:subject/>
  <dc:title>PowerPoint Presentation</dc:title>
</cp:coreProperties>
</file>