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431A-AC45-4859-9BF4-FF449FACC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588E5-7055-4883-A65F-E95EB0FF4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1E53A-2C59-4D3F-A2C4-F020C7A93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E789-72F0-4CDB-BDA1-56AF0C193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BF1-4B50-41F3-8963-BA1007F158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0CF82-0084-4B99-8D9D-B2F276692A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2F82B-FD1F-4BB3-9915-111CECCA2F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783B9-8F86-46F6-965C-359C0EDD11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29B9A-50DF-4BE4-A3F8-DE74B2AB51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75FEA-38CB-4CB3-A8A5-A5FF619625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CEE84-A836-4AD4-BD96-B2FFDFE882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61E83-9678-47EC-B5CF-26307E32E0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5D892-C117-4B01-A5C5-89459DB5E7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DB4A0-CDA9-4C7B-A72C-C93F07E854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9476D-EA32-4313-AE4F-1811AF99A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44C6-D825-407B-B248-7ED836A5EAF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0FBE0-CFF3-4424-9E3E-7C5525E34D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059DE5-9537-4659-9F9E-272930B6B4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DCB9C-30D3-4568-9FEC-178C77B702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B02E63-16D1-405C-9C22-689C39F252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40D38-65C3-430F-834C-B39219B713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E4C23-BD80-4D89-A765-685B9405B5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EA036-DB1D-49C1-AA9A-9D9BFD07A0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6C7EAB-16BA-4445-9AAB-19A9641810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374DD-FB33-4B91-8BFE-CD9C712015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F5ED42-D2A5-4457-91EA-7C1817B72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F35D-F673-4439-9BF2-1C52A450A4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A2AAF-29A7-4078-8477-5BB796BCA47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283A-77E5-4AE7-8C0A-DF161F276EE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0D56-FC81-4A1B-A9E7-1FD1EA1983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3E7DE-63FD-4E28-8D3C-0515C554E0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FD4A-26E8-43CE-AB92-304F96FDA3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EC98-0A93-4AC2-83C0-3FC264982F1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0CF8-6B9E-416C-A31A-DFD0E79B4A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9F853-47A8-4C65-8D41-14CCA33B345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CA6D-32ED-438A-93C8-9C31DE68B35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30DF-E7F6-4DD1-BCDB-1A433BE70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07A-46C3-47DF-A684-84108E6DD2A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505AD-E145-4FAB-B265-FFBD77565C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5F59-C8AD-4792-8A3A-3C59840687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A09C-E7B2-4888-9B85-8300CF4ACD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F7E23-5500-4E84-8AFD-B35D9D925E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A5B89-B8B0-40D6-B7A6-190B77AC2E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AAE49-F9A2-4915-95DB-23C36ACD17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E749D-5BEB-42D5-AE74-53EC04D396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D8F07-BC34-4D4B-9625-532F9BE5836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38E4D-EB31-483C-9397-B4D4BBA3DB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F3EA0-349B-4AC0-BA22-1302ED823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44D-A67E-4789-AC7D-B57ECDA5F8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26C5A-56B7-401F-8F87-66F02CF8F4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48A4C-B165-4276-8A06-2D8B5000EC9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175D5-1C71-4C57-AA6C-36C3935F4F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2F169-0718-4BE1-8770-6ABE0A0552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B296B-6BC9-4174-BD47-3813E89B98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D86-01BD-4522-8E32-7061E7D27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0CB-4733-4C53-8CDA-BB008A42F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3D5-067C-45B0-8EE4-ED841DAE5A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3A7-7728-46B5-A923-18C4EEBF7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B05-7219-4B9C-806E-CAA18BBF3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0398-C31B-4419-B147-E6165CBAF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D13-3B3D-4CB6-B237-430BB1E3A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D91-814F-401C-A11D-C9D9FD3FF8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AD7-16CD-41FD-B087-514130C52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F58-9E2B-4C06-B004-9B46EB80C3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CD4-664E-45C6-9EE5-94A77F77E7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F17FA-F4E0-43C2-B43B-884D39D199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0EBF-5119-423A-9D7B-9D86BEDFB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ADDB0-CA15-4EB6-85B4-691654B05C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1408-AF07-4C02-9FF8-C614E2D05B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53615-1463-40B5-A664-9FDD5C793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BEC7-474D-4409-8AE2-83D5224536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DEB21-37D4-433A-87FB-425D590B0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71F6-769A-4736-A56A-F20F59B7B7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FD0BE-BAF9-4095-8A8B-AEDD313FF3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18C62-6160-4A2C-AC04-FB331B7DA0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07967-A362-460F-A918-085BA093E1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EB8E-E284-45FC-B0A8-4C3AD9EC4D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70AE-9A48-4C9C-BD47-39922475A8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DB041-820E-4190-8378-E60524B9DB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A3579-E1D9-4392-9047-7F87DD7F4C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31993-AB80-4E7A-A952-850DBB7A7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5048-AA7F-4AD9-BD86-0DA7F995B1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266E2-7AF3-4611-9755-88C012FFC1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C27C0-0260-4940-8669-AE1FF55C48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CBED5-2789-4D20-9FAB-A6C1612030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CD876-DBBA-4305-978F-4DDF9157E6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9C6EA-7963-40F4-949E-B179BE2DEF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C9F9E-7911-4A90-B865-A1D53C9608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D03AA-CC3C-4FA2-A720-39D21D3199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291BF-20BD-44FA-816E-819D223295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D37DA-75F8-4C53-957C-C077D5DA84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E9E2-3F25-434A-A70C-267233AED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0A0C-EA64-4DEB-BBFE-75B1E74BEA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DE15-83BC-48D3-BD04-AC53184EBA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2265-4D92-4C13-9294-B611EE2225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DDCF-A66D-4362-8803-215CD58516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3AE3-1B1F-4EBC-BC14-0A83A991D0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7142-9122-4707-A247-82E54A8F46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84A5-33C1-4B9A-B0C1-DAD1D3A85C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A85D-5C4B-414F-817E-F971D9582B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2B58-7079-4CEF-9B3F-A43DE2D2A5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505A-2E82-47FE-B6DF-77048268C5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677A-58EA-4E0B-AF27-DAB010008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AF38-19B1-41A9-AC7B-DB888FC6DA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4CF2-AAC3-45CE-BCE1-6F1F966C4C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43F53-84CC-43D7-A47D-93554D9A4C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F2AAE-0D2C-45E3-8D82-9A6CF256FA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5774C-ECBB-4B0F-8D91-5446D25B55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1044D-35B2-4FD3-8A8B-2547B20D90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1973A-F9FF-491F-9BD1-6DB2127E1E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102E6-47D2-491B-ADAF-3A209EEE9E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1116E-4DED-4689-939E-FB10EE4D5F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2730E-7131-463E-8DA1-FAB713DD80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6AD3D-CA22-4868-93D1-8D1EE549E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815F-A3E4-4999-9F8E-BCFC0C09E9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224F4-6134-43FB-9A6D-D93FE8CEC4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3B226-A591-4ED2-AB0C-599537EDDA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AFC6C-6D54-4468-A8E5-D15A364C1F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57A9D-0B9E-43E7-9DB4-C24E1DB008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99E46-217C-42C2-9889-852CD0B48C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F2DA7-EB3F-4CC7-888D-26927F47A0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798F41-F8FE-42B3-A6F6-69D82112A0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48D65-9B37-46AE-817C-5463E2E375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A7816-E16D-484B-B3B7-0A78FD9C37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5B67A-D4B1-41F5-9059-3AB52EDA3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8B0A-8CC9-44E2-865E-DB49BA8827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C1D58D-35B4-4BCD-A597-3433A2B298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D5B7E-4510-44AE-A58F-8310DB8A4D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60414-114D-471E-8715-2E2E3C154D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69C60D-F968-4474-9C4E-B59039AA71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C35AB6-C655-469E-B20E-FAAE9926D3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F154-4B9C-41EF-9378-44BA454457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49D9-8AB4-4A05-9BE7-793A5F5337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7CEB-D44C-4F02-A438-473386285C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4ECA-A218-4FB6-96F8-A9D66CA58B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5B42-9BDD-4FBD-9AA0-0C4BBEDC4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BCFD-EB1C-4640-8D00-5E5062F81A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DF6F-0FAE-4537-81DF-B5D447EC2F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BCCE-6AC4-439C-9D8A-8EBFA2CDD8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0C1C-FDB4-4478-9AF9-EB062D0A75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0D57-DB0E-4957-B2AF-068A9DA914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D084-7496-4F38-811B-7E95F6BB2E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E982-F18A-4FEB-8F04-6BF2DD0686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B9B4-1DD6-42A6-941C-35AE9ED1A4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BE5EB-B3CC-480A-B670-6F30AC2B205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6AC09-8010-4AF0-B28E-485A47EAAE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F8F5D-6983-4173-B95E-53C415021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E3A-08CA-4E43-A6B8-1034A9A788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C7E-9A90-4BDA-B874-92A20AC5DC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D37-3B0B-40ED-9E71-F6A70E7B4E1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B6F9-7986-4676-899E-C5A5E208B6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1819-8B6C-402D-A3E7-AF1C687F99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DAC5-7A20-4DF4-A25D-B448C6363D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4BFB-2273-4D0A-8444-EF217788CC9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968D-E3A8-447C-9273-BA20502EA1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DA5B-FA02-45D8-ADAB-64269DC240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D47B-7382-40C2-9A0C-2806037297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84A-FC20-4D55-82AA-AD50864892F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090-2CE0-48FD-9F07-BCBA70626E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1143000" y="632412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Open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2: Complete Progra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onlo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determines where to start execution when all code is load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vas gets WebGL context from HTML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ices use vec2 type in MV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array is not the same as a C or Java ar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with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es.length //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lues in clip coordin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.js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3" name="TextBox 4"/>
          <p:cNvSpPr/>
          <p:nvPr/>
        </p:nvSpPr>
        <p:spPr>
          <a:xfrm>
            <a:off x="266760" y="1295280"/>
            <a:ext cx="86104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 Configure WebG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viewport( 0, 0, canvas.width, canvas.height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clearColor( 0.0, 0.0, 0.0, 1.0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 Load shaders and initialize attribute buffer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program = initShaders( gl, "vertex-shader", "fragment-shader"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useProgram( program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oad the data into the GPU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bufferId = gl.createBuffer(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bindBuffer( gl.ARRAY_BUFFER, bufferId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bufferData( gl.ARRAY_BUFFER, flatten(vertices), gl.STATIC_DRAW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sociate out shader variables with our data buff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vPosition = gl.getAttribLocation( program, "vPosition"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vertexAttribPointer( vPosition, 2, gl.FLOAT, false, 0, 0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enableVertexAttribArray( vPosition );  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nitShad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used to load, compile and link shaders to form a program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ad data onto GPU by creating a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ertex buffer objec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the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use of flatten() to convert JS array to an array of float32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ally we must connect variable in program with variable in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name, type, location in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.js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266760" y="1295280"/>
            <a:ext cx="86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nder(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 render() {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clear( gl.COLOR_BUFFER_BIT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drawArrays( gl.TRIANGLE_FAN, 0, 4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Right Triangle 5"/>
          <p:cNvSpPr/>
          <p:nvPr/>
        </p:nvSpPr>
        <p:spPr>
          <a:xfrm rot="5400000">
            <a:off x="1371600" y="3886200"/>
            <a:ext cx="1828800" cy="16761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Right Triangle 9"/>
          <p:cNvSpPr/>
          <p:nvPr/>
        </p:nvSpPr>
        <p:spPr>
          <a:xfrm rot="16200000">
            <a:off x="1371600" y="3886200"/>
            <a:ext cx="1828800" cy="1676160"/>
          </a:xfrm>
          <a:prstGeom prst="rtTriangle">
            <a:avLst/>
          </a:prstGeom>
          <a:solidFill>
            <a:srgbClr val="2d2d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9144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Box 11"/>
          <p:cNvSpPr/>
          <p:nvPr/>
        </p:nvSpPr>
        <p:spPr>
          <a:xfrm>
            <a:off x="1066680" y="3581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TextBox 12"/>
          <p:cNvSpPr/>
          <p:nvPr/>
        </p:nvSpPr>
        <p:spPr>
          <a:xfrm>
            <a:off x="32767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3276720" y="5562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Footer Placeholder 10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les, Fans or Strip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266760" y="1295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drawArrays( gl.TRIANGLES, 0, 6 ); // 0, 1, 2, 0, 2, 3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Right Triangle 5"/>
          <p:cNvSpPr/>
          <p:nvPr/>
        </p:nvSpPr>
        <p:spPr>
          <a:xfrm rot="5400000">
            <a:off x="1371600" y="3353040"/>
            <a:ext cx="1828800" cy="16761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Right Triangle 9"/>
          <p:cNvSpPr/>
          <p:nvPr/>
        </p:nvSpPr>
        <p:spPr>
          <a:xfrm rot="16200000">
            <a:off x="1371600" y="3353040"/>
            <a:ext cx="1828800" cy="1676160"/>
          </a:xfrm>
          <a:prstGeom prst="rtTriangle">
            <a:avLst/>
          </a:prstGeom>
          <a:solidFill>
            <a:srgbClr val="2d2d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TextBox 10"/>
          <p:cNvSpPr/>
          <p:nvPr/>
        </p:nvSpPr>
        <p:spPr>
          <a:xfrm>
            <a:off x="990720" y="5029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9907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32767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3276720" y="5029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247680" y="6019920"/>
            <a:ext cx="86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drawArrays( gl.TRIANGLE_STRIP, 0, 4 ); // 0, 1, 3, 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266760" y="19051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.drawArrays( gl.TRIANGLE_FAN, 0, 4 ); // 0, 1 , 2, 3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Right Triangle 17"/>
          <p:cNvSpPr/>
          <p:nvPr/>
        </p:nvSpPr>
        <p:spPr>
          <a:xfrm>
            <a:off x="5410080" y="3352680"/>
            <a:ext cx="1828800" cy="167652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Right Triangle 18"/>
          <p:cNvSpPr/>
          <p:nvPr/>
        </p:nvSpPr>
        <p:spPr>
          <a:xfrm rot="10800000">
            <a:off x="5410080" y="3352320"/>
            <a:ext cx="1828800" cy="1676520"/>
          </a:xfrm>
          <a:prstGeom prst="rtTriangle">
            <a:avLst/>
          </a:prstGeom>
          <a:solidFill>
            <a:srgbClr val="2d2d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Box 19"/>
          <p:cNvSpPr/>
          <p:nvPr/>
        </p:nvSpPr>
        <p:spPr>
          <a:xfrm>
            <a:off x="5029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5029200" y="2971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Box 21"/>
          <p:cNvSpPr/>
          <p:nvPr/>
        </p:nvSpPr>
        <p:spPr>
          <a:xfrm>
            <a:off x="7315200" y="2971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TextBox 22"/>
          <p:cNvSpPr/>
          <p:nvPr/>
        </p:nvSpPr>
        <p:spPr>
          <a:xfrm>
            <a:off x="7315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Footer Placeholder 19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 a complete first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 a standard program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view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dimensional viewing as a special case of three-dimensional 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itialization steps and program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29" name="Content Placeholder 4" descr="square.tiff"/>
          <p:cNvPicPr/>
          <p:nvPr/>
        </p:nvPicPr>
        <p:blipFill>
          <a:blip r:embed="rId1"/>
          <a:srcRect l="-19016" t="0" r="-19016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530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ve ste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page (HTML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WebGL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in necessary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haders (HTML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done with a separate file (browser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or specify data (JS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data to GPU (JS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 data (JS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.htm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266760" y="1523880"/>
            <a:ext cx="8610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DOCTYPE html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id="vertex-shader" type="x-shader/x-vertex"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ribute vec4 vPosition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_Position = vPosition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id="fragment-shader" type="x-shader/x-fragment"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cision mediump floa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_FragColor = vec4( 1.0, 1.0, 1.0, 1.0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er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assign names to the shaders that we can use in the JS 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se are trivial pass-through (do nothing) shaders that which set the two required built-in vari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_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_Frag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both shaders are full progra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vector type vec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st set precision in fragment sha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.html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266760" y="1523880"/>
            <a:ext cx="8877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type="text/javascript" src="../Common/webgl-utils.js"&gt;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type="text/javascript" src="../Common/initShaders.js"&gt;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type="text/javascript" src="../Common/MV.js"&gt;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ript type="text/javascript" src="square.js"&gt;&lt;/script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anvas id="gl-canvas" width="512" height="512"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ps ... your browser doesn't support the HTML5 canvas ele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anvas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Fi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./Common/webgl-utils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 utilities for setting up WebGL context in Common directory on websi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./Common/initShaders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tains JS and WebGL code for reading, compiling and linking the sh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./Common/MV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ur matrix-vector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quare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applic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quare.j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304920" y="1600200"/>
            <a:ext cx="8610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gl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points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ndow.onload = function init(){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canvas = document.getElementById( "gl-canvas"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 = WebGLUtils.setupWebGL( canvas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!gl ) { alert( "WebGL isn't available" 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our Vertice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vertices = [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2( -0.5, -0.5 ),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2(  -0.5,  0.5 ),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2(  0.5, 0.5 ),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2( 0.5, -0.5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1143000" y="632448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45:44Z</dcterms:created>
  <dc:creator>Ed Angel</dc:creator>
  <dc:description/>
  <dc:language>en-US</dc:language>
  <cp:lastModifiedBy>Ed Angel</cp:lastModifiedBy>
  <dcterms:modified xsi:type="dcterms:W3CDTF">2014-03-31T17:41:12Z</dcterms:modified>
  <cp:revision>83</cp:revision>
  <dc:subject/>
  <dc:title>PowerPoint Presentation</dc:title>
</cp:coreProperties>
</file>