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9480" y="686880"/>
            <a:ext cx="4579920" cy="343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6AE6F1-D227-41F4-A29E-ED471ED1D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C7A598-7770-4671-AE6C-89AE804E5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72EBE5-569E-4DD8-A8B6-B84CCCDC1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CD73CA-E5CD-486D-9380-65134A762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55A9A8-F26F-483F-A392-0FF943492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502725-52BC-4795-987D-06A89CFF4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B378A4-5B9E-4B23-8BE3-A69D15328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8E3E14-27E6-4A16-AD68-C84CCD4E1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E35F5F-ACF4-494F-9D13-7EE096DC4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CD6AD2-8158-4F03-8A64-B7C85E90A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C89FEE-180A-4CCC-901E-115A3A1C0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030A9C-BA9F-4A32-AD03-F5C79B227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D08493-DDA6-4CE8-99FB-951F33C8B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2155D5-200E-4178-B416-9FACA843A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F581DE-62D6-4568-B267-D76649E7D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F93AFD-BF10-488A-ABBA-CEFB6B6D9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C5FC-43CF-4E35-92D1-572DA8CC4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2225-387D-45C9-9118-F802AC283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D2E9-F65A-40CF-B4EA-123869470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A37D-E920-41DB-B683-3088B83892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D54E-B0BB-446E-9E19-67D0A4A430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7A0F-3C01-4B36-8485-E45551922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978A-2C61-4DCF-96B9-BEB3FF54E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F1BB-06AB-4581-82D3-015C1A8F1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0907-B1D6-495C-AAC5-3889ED7FF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2E5A-CEFB-499B-8186-3F5B721BC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F66A-D6FC-4736-A6BA-DF2F9DC5E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0F52-5CCA-4E23-806A-5FAFE68AF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E539-DDC0-4725-90EE-4CB2F71CA63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781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2113-57A1-4F04-93D3-0810D4C5452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A406-07E5-4E1B-A7E0-CEA135C1B90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TM in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had a model-view and a projection matrix in the pipeline which were concatenated together to form the CT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will emulate this proces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:\BOOK\OpenGL\Paul Final\Art\jpeg\AN04F61.jpg"/>
          <p:cNvPicPr/>
          <p:nvPr/>
        </p:nvPicPr>
        <p:blipFill>
          <a:blip r:embed="rId1"/>
          <a:stretch/>
        </p:blipFill>
        <p:spPr>
          <a:xfrm>
            <a:off x="1143000" y="4114800"/>
            <a:ext cx="6188040" cy="153972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5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7B77-9CE1-48E5-A1D9-F22859DAD1E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the ModelView Matrix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ebGL, the model-view matrix is us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 the cam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done by rotations and translations but is often easier to use the lookAt function in MV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models of objec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jection matrix is used to define the view volume and to select a camera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these matrices are no longer part of the OpenGL state, it is usually a good strategy to create them in our own app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3124080" y="6095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= P*MV*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9909-DA76-4DFC-8F58-1D6C635A809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otation, Translation, Scal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365760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114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r = rotate(theta, vx, vy, v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 = mult(m, 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447920" y="533412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s = scale( sx, sy, s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t = translate(dx, dy, d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 = mult(s,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463040" y="2286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m = mat4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06480" y="167472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identity matri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2320" y="2743200"/>
            <a:ext cx="74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on right by rotation matrix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degre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x, vy, v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efine axis of 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101240" y="4495680"/>
            <a:ext cx="522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have rotateX, rotateY, rotat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same with translation and sca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9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3511-4EB1-4275-8FA0-44A8168FE6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otation about z axis by 30 degrees with a fixed point of (1.0, 2.0, 3.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ember that last matrix specified in the program is the first appl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62120" y="2743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m = mult(translate(1.0, 2.0, 3.0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otate(30.0, 0.0, 0.0, 1.0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 = mult(m, translate(-1.0, -2.0, -3.0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9F6B-77E3-4324-948E-E90C3D466D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rbitrary Matri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load and multiply by matrices defined in the application progr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trices are stored as one dimensional array of 16 elements by MV.js but can be treated as 4 x 4 matrices in row major or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wants column major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l.unifromMatrix4f has a parameter for automatic transpose by it must be set to fals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latten function converts to column major order which is required by WebGL fun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6B38-5E62-4C05-84B5-2CEF795B8FA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trix Stack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many situations we want to save transformation matrices for use la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versing hierarchical data structures (Chapter 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e 3.1 OpenGL maintained stacks for each type of matri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sy to create the same functionality in J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sh and pop are part of Array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 stack = [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ck.push(modelViewMatrix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ViewMatrix = stack.pop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FB36-07F0-46DA-9293-A21DA73C81C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ebGL Transform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276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0919-EEA5-4219-BD7C-A6E90EF5AEB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 how to carry out transformations in WebG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MV.js transform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-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EC43-BE2A-4748-8469-15CEB6A8550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e 3.1 OpenGL Matri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173160" indent="-1731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Pre 3.1 OpenGL matrices were part of the sta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ltiple typ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17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-View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_MODELVI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17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ion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_PROJ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17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ur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_TEXTU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17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_COL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ngle set of functions for manipul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lect which to manipulated b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17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MatrixMode(GL_MODELVIEW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17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MatrixMode(GL_PROJECTION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y Deprec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178920" indent="-178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unctions were based on carrying out the operations on the CPU as part of the fixed function pipe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urrent model-view and projection matrices were automatically applied to all vertices using CP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will use the notion of a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urrent transformation matrix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ith the understanding that it may be applied in the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2205-0A56-40A8-870B-FB9E2159DBB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B337-E5E4-4F34-A5D5-82E86CDFB52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urrent Transformation Matrix (CTM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ceptually there is a 4 x 4 homogeneous coordinate matrix, th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urrent transformation matri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CTM) that is part of the state and is applied to all vertices that pass down the pipel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TM is defined in the user program and loaded into a transformation un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7"/>
          <p:cNvGrpSpPr/>
          <p:nvPr/>
        </p:nvGrpSpPr>
        <p:grpSpPr>
          <a:xfrm>
            <a:off x="1676520" y="5334120"/>
            <a:ext cx="4267080" cy="685800"/>
            <a:chOff x="1676520" y="5334120"/>
            <a:chExt cx="4267080" cy="685800"/>
          </a:xfrm>
        </p:grpSpPr>
        <p:sp>
          <p:nvSpPr>
            <p:cNvPr id="74" name="Rectangle 4"/>
            <p:cNvSpPr/>
            <p:nvPr/>
          </p:nvSpPr>
          <p:spPr>
            <a:xfrm>
              <a:off x="2819520" y="5334120"/>
              <a:ext cx="1981080" cy="685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5"/>
            <p:cNvSpPr/>
            <p:nvPr/>
          </p:nvSpPr>
          <p:spPr>
            <a:xfrm>
              <a:off x="1676520" y="57153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6"/>
            <p:cNvSpPr/>
            <p:nvPr/>
          </p:nvSpPr>
          <p:spPr>
            <a:xfrm>
              <a:off x="4800600" y="57153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8"/>
          <p:cNvSpPr/>
          <p:nvPr/>
        </p:nvSpPr>
        <p:spPr>
          <a:xfrm>
            <a:off x="3430800" y="54864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56480" y="54864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6095160" y="54864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13552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107680" y="4952880"/>
            <a:ext cx="10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37339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888360" y="464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15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530C-E6D3-4CF4-94D3-A159336A3B1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CTM operations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TM can be altered either by loading a new CTM or by postmuti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086480" y="2384280"/>
            <a:ext cx="578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an identity matrix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an arbitrary matrix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a translation matrix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a rotation matrix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a scaling matrix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multiply by an arbitrary matrix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multiply by a translation matrix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multiply by a rotation matrix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multiply by a scaling matrix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6169-F95A-4FE8-9624-6505701B24C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otation about a Fixed Poin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identity matrix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fixed point to origin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fixed point back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T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 = TR T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wa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sult is a consequence of doing postmulti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1979-833C-4756-AD3A-431D63AB980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versing the Order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= T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e must do the operations in the following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T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peration corresponds to one function call in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e last operation specified is the first executed in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457200" y="64008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23:20:25Z</dcterms:created>
  <dc:creator>Ed Angel</dc:creator>
  <dc:description/>
  <dc:language>en-US</dc:language>
  <cp:lastModifiedBy>Ed Angel</cp:lastModifiedBy>
  <dcterms:modified xsi:type="dcterms:W3CDTF">2014-03-31T17:47:29Z</dcterms:modified>
  <cp:revision>127</cp:revision>
  <dc:subject/>
  <dc:title>PowerPoint Presentation</dc:title>
</cp:coreProperties>
</file>