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F9C3-722F-4FE2-8629-0DF15D7B3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72C4-7CD5-49EC-AA84-0E8A300B1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0D95-BB96-4014-8F51-CCEDF1A6E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C7BD-ECC8-482B-B953-CBA73421C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910E-9883-454B-8A34-7C1F7FBA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1873-A18A-45E4-B908-CC5A59370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63A6-0ED7-4811-A5FD-08D5B7A7B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7C25-2957-479C-8F0D-11006A6E8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5E04-C87C-451D-B315-E5EE226CA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2101-932C-4AFA-AFB1-E0492B0CF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44C7-1F7B-4042-B2B2-03730F91F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943E-8B19-4D13-9ECA-63E89520A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482F-317E-44BF-9CDF-CF7071C78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F833-5F58-481F-B984-BF57289C1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3D50-9FFD-45D3-B2E3-43508D4EE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8403-0D94-4528-A4B8-036C3FB6DE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5D6B-15C5-4B6A-9CFA-8223D86736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5182-24FD-4357-81E5-2873F67D9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428B-47A2-4875-8588-55316241E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19C8-D6DA-4114-83C9-D4164764D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5745-EA8F-422C-9A51-63631F735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E63A-C339-42E7-B7B7-2E49B55A9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5777-8D17-4EA8-96AB-876B829A1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7861-1E6D-424C-8E17-C906007FA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510D-5CB4-4415-9546-131866A8844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0E44-34CA-4AF8-A52C-64F1D0D0083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Lighting Shaders IV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C219-A421-4BAB-BF0F-7AFF4753485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718560" y="1828800"/>
            <a:ext cx="745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f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H = normalize( L + E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ambient = ambientProdu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Kd = max( dot(L, N), 0.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 diffuse = Kd*diffuseProdu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Ks = pow( max(dot(N, H), 0.0), shinines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 specular = Ks * specularProdu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 dot(L, N) &lt; 0.0 ) specular = vec4(0.0, 0.0, 0.0, 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olor = ambient + diffuse +specul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olor.a =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 = f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apot Exampl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1048-AC3A-4374-A8E9-F18F0BD3AC0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3759480" cy="2235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648320" y="1752480"/>
            <a:ext cx="3606840" cy="2184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4"/>
          <a:stretch/>
        </p:blipFill>
        <p:spPr>
          <a:xfrm>
            <a:off x="1295280" y="3962520"/>
            <a:ext cx="2159280" cy="21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5"/>
          <a:stretch/>
        </p:blipFill>
        <p:spPr>
          <a:xfrm>
            <a:off x="5181480" y="4038480"/>
            <a:ext cx="2171880" cy="2159280"/>
          </a:xfrm>
          <a:prstGeom prst="rect">
            <a:avLst/>
          </a:prstGeom>
          <a:ln w="0">
            <a:noFill/>
          </a:ln>
        </p:spPr>
      </p:pic>
      <p:sp>
        <p:nvSpPr>
          <p:cNvPr id="97" name="Footer Placeholder 8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er Vertex and Per Fragment Shad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240" y="32767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5DD7-EA1E-4752-9C1F-B8B20E6E199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Lighting Shaders 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55FC-1FAC-40E4-B45C-F5D5F04E04D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943560" y="1828800"/>
            <a:ext cx="7983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vertex sh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vec4 v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vec4 vNorm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4 f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vec4 ambientProduct, diffuseProduct, specularProdu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mat4 modelViewMatri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mat4 projectionMatri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vec4 light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float shinin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Lighting Shaders I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25A5-B5E9-43B3-887F-2869A6EFB59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940320" y="1600200"/>
            <a:ext cx="8321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pos = -(modelViewMatrix * vPosition).xy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light = lightPosition.xy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L = normalize( light - po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E = normalize( -po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H = normalize( L + E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ransform vertex normal into eye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N = normalize( (modelViewMatrix*vNormal).xy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mpute terms in the illuminatio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Lighting Shaders II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5F65-8C19-44A0-8108-21A2FC1029C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679680" y="1523880"/>
            <a:ext cx="730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mpute terms in the illuminatio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ambient = AmbientProdu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Kd = max( dot(L, N), 0.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 diffuse = Kd*DiffuseProdu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Ks = pow( max(dot(N, H), 0.0), Shinines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 specular = Ks * SpecularProdu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 dot(L, N) &lt; 0.0 )  specular = vec4(0.0, 0.0, 0.0, 1.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Position = Projection * ModelView * v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 = ambient + diffuse + specul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.a =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Lighting Shaders IV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5340-F760-4D1F-8F7D-ECFB705BB2F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609480" y="1752480"/>
            <a:ext cx="586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fragment sh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ion mediump flo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4 f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 = f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Lighting Shaders 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1DB8-8F7A-41C3-90A5-3A633F110DB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725760" y="1523880"/>
            <a:ext cx="426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vertex sha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vec4 v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vec4 vNorm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3 N, L, 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mat4 modelViewMatri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mat4 projectionMatri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vec4 light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Lighting Shaders I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3FBD-1841-4E55-AE50-5273FC84180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742320" y="1523880"/>
            <a:ext cx="8376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pos = -(modelViewMatrix * vPosition).xy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light = lightPosition.xy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normalize( light - po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 -p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normalize( (modelViewMatrix*vNormal).xy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Position = projectionMatrix * modelViewMatrix * v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Lighting Shaders II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66D3-7735-4B12-A2AE-A76AB5DBE35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702360" y="1828800"/>
            <a:ext cx="394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fragment sh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ion mediump flo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vec4 ambientProdu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vec4 diffuseProdu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vec4 specularProdu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float shinin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3 N, L, 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5:58:33Z</dcterms:created>
  <dc:creator>Ed Angel</dc:creator>
  <dc:description/>
  <dc:language>en-US</dc:language>
  <cp:lastModifiedBy>Ed Angel</cp:lastModifiedBy>
  <dcterms:modified xsi:type="dcterms:W3CDTF">2014-03-31T17:52:17Z</dcterms:modified>
  <cp:revision>197</cp:revision>
  <dc:subject/>
  <dc:title>PowerPoint Presentation</dc:title>
</cp:coreProperties>
</file>