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604B6-DB41-478F-B4C3-A51066C84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48335-7386-43D3-936E-0646406C7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51A34-E22F-4F4A-BEA8-3D0E20BCA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53A7-145A-471E-B9E6-17ED73EC2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0DF0-0920-44E1-A7AB-F697C1728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FD49-3F43-4247-A34F-3C24CCEDE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51B7-75D4-4831-B965-7CC3031A48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DC71-B440-490E-9068-1F71B9DFA8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BE05-63FB-4B98-91F9-349A62F73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91AE-A9F5-4788-9681-F267D5B7B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BC2B-A184-4788-9EDD-C9AD2F57B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CF4F-E9AE-4F59-A625-505918A1E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4FA1-7F43-459D-A0E2-9C31FAF1A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8E7E-ADCE-4E11-93CD-CC5D89462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39B9-9E9A-446D-BD3F-5C6A065AE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038D-2307-48D9-8AE3-F38F13C6A53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vent Listen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9392-EB43-484D-BBE0-5225B93B7C4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66760" y="159552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color[0]==2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color[1]==255) console.log("yellow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(color[2]==255) console.log("magenta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console.log("red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(color[1]==2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color[2]==255) console.log("cya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console.log("gree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(color[2]==255) console.log("blu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console.log("background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vent Listen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9788-E8F3-47FB-AFAC-C6A20BF7F32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66760" y="15955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return to default framebuffer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bindFramebuffer(gl.FRAMEBUFFER, 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send index 0 to fragment sh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1i(gl.getUniformLocation(program, "i")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normal 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clear( gl.COLOR_BUFFER_BIT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3fv(thetaLoc, the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drawArrays(gl.TRIANGLES, 0, 3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icking by Sel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ssible with render-to-tex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mouse clicked do a off screen rendering with new viewing conditions that render only a small area around mou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eep track of what gets rendered to this off screen buff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0C81-12A9-45D0-B24D-76D8D161D09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icking by Col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33523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off-screen rendering for pick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: rotating cube with shad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which face is clicked on with 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rendering uses vertex colors that are interpolated across each 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ex colors could be determined by lighting calculation or just assign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onsole log to indicate which face (or background) was click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7AE7-B36C-4A7F-8AE2-5836AB97EBE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lgorith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ign a unique color to each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the mouse is clicked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an off-screen render using these colors and no ligh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gl.readPixels to obtain the color of the pixel where the mouse is locat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p the color to the object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a normal render to the disp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C2C8-A834-4841-9EE8-D38A8F4A7B6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173160" indent="-173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ly need one program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rtex shader: same as in previous cube examp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1735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s rotation matr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1735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s angle as uniform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ragment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1735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s face colors for pi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1735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s vertex color for normal render from rasteri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nd uniform integer to fragment shader as index for desired col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687C-EF5F-46C3-84DF-63634B61FFA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2BAF-0823-49FE-9BBF-D5B8664F5DB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304920" y="144792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ion mediump flo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4 f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c[7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[0] = f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[1] = vec4(1.0, 0.0, 0.0, 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[2] = vec4(0.0, 1.0, 0.0, 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[3] = vec4(0.0, 0.0, 1.0, 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[4] = vec4(1.0, 1.0, 0.0, 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[5] = vec4(0.0, 1.0, 1.0, 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[6] = vec4(1.0, 0.0, 1.0, 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1A99-5FE1-453A-A625-1E5481E8DC4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57200" y="175248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no case statement in GL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i==0) gl_FragColor = c[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(i==1) gl_FragColor = c[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(i==2) gl_FragColor = c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(i==3) gl_FragColor = c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(i==4) gl_FragColor = c[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(i==5) gl_FragColor = c[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(i==6) gl_FragColor = c[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5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etup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4BA1-2756-4AE5-9C9E-5EC056A43CA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533520" y="190512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llocate a frame buff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buffer = gl.createFramebuffe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bindFramebuffer( gl.FRAMEBUFFER, framebuff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ttach color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framebufferTexture2D(gl.FRAMEBUFF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COLOR_ATTACHMENT0, gl.TEXTURE_2D, texture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bindFramebuffer(gl.FRAMEBUFFER, 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5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vent Listen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035E-8400-4AE8-89FA-9FF3821C394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04920" y="1676520"/>
            <a:ext cx="8610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.addEventListener("mousedown", function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bindFramebuffer(gl.FRAMEBUFFER, framebuff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clear( gl.COLOR_BUFFER_B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3fv(thetaLoc, the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var i=0; i&lt;6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1i(gl.getUniformLocation(program, "i"), i+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drawArrays( gl.TRIANGLES, 6*i, 6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x = event.client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y = canvas.height -event.clien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readPixels(x, y, 1, 1, gl.RGB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SIGNED_BYTE, colo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17:55:34Z</dcterms:created>
  <dc:creator>Ed Angel</dc:creator>
  <dc:description/>
  <dc:language>en-US</dc:language>
  <cp:lastModifiedBy>Ed Angel</cp:lastModifiedBy>
  <dcterms:modified xsi:type="dcterms:W3CDTF">2014-03-31T17:56:12Z</dcterms:modified>
  <cp:revision>154</cp:revision>
  <dc:subject/>
  <dc:title>PowerPoint Presentation</dc:title>
</cp:coreProperties>
</file>