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CD707-B912-4CE4-AC5A-DE0975704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DA826-39F3-44AE-B276-87BB969D0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6EB92-CE5B-437B-B216-F7F7AF582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CD22D-A55F-4CCC-A4FE-7CE30A7D0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FEA9F-A56A-4463-B02C-8256226D7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24E6F-0D4B-474B-8C1E-D83FF7743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75623-5361-4D45-B095-65A3EEA2C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F7754-3DAC-4CF5-83C9-A312FBF1F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A1FF0-0284-4081-90AA-E39B01C2D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5F78D-1892-42B6-8213-B49A53015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33A4D-EDBC-44CC-9E34-F842CC9AC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B6B7D-B52C-45C3-92B2-0858A9574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25563-457A-423E-BD54-0EBED4333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E4702-7EDA-4E00-8D2B-4A10E0F23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974D-1963-4339-8169-362A55C7F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A145-DC25-4CD2-99F6-34C648CD1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9530-2D6B-407A-9D84-468A2A327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594D-ACAB-4B87-86F7-203552CEA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E818-6FE3-43F4-9098-BD15DA3591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F5B2-7065-4BA6-B81B-91E809577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6A56-BD3F-410E-8DDB-52B27B352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4084-AE40-47F6-9966-4FBDECBAE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94F1-3923-4448-B522-286C94FEC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F99D-2737-4685-AFC8-83C49816C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DE27-BC4B-4E2A-B364-3C461CAA6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CFF9-A322-4827-A644-89D80CEA7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D777-A909-4F54-9363-EFBA9D90EEB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858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A507-06AE-42F1-8C8D-4C00147BC3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8798-AA78-40E2-877E-9BDA8CD32F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raw one triang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812960" y="280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display one triangle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ction triangle( a, b, c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ints.push( a, b, c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E8F2-64A9-44FB-8B2E-DE5B3F4564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iangle Subdivi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divideTriangle( a, b, c, count 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heck for end of recu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count === 0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angle( a, b, c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bisect the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 ab = mix( a, b, 0.5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 ac = mix( a, c, 0.5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 bc = mix( b, c, 0.5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count;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ree new tri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Triangle( a, ab, ac, count-1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Triangle( c, ac, bc, count-1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Triangle( b, bc, ab, count-1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A5D5-976F-41D5-A207-F6871EE10B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it(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program = initShaders( gl, "vertex-shader", "fragment-shader"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.useProgram( program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bufferId = gl.createBuffer();    gl.bindBuffer( gl.ARRAY_BUFFER, bufferId )    gl.bufferData( gl.ARRAY_BUFFER, flatten(points), gl.STATIC_DRAW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vPosition = gl.getAttribLocation( program, "vPosition"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.vertexAttribPointer( vPosition, 2, gl.FLOAT, false, 0, 0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.enableVertexAttribArray( vPosition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nd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3042-7B7F-4A0C-BBAF-CA5918ACE0D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nder Fun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render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clear( gl.COLOR_BUFFER_BIT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drawArrays( gl.TRIANGLES, 0, points.length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A670-CE19-4B85-AE53-471736D4C86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Web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6: Three Dimens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3C89-E4D2-4B55-9B14-651699E57D0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 a more sophisticated three-dimensional exa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erpinski gasket: a frac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hidden-surface remov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38AA-1507-418E-9CDE-0DA379ABB67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-dimensional Applic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WebGL, two-dimensional applications are a special case of three-dimensional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ing to 3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much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vec3, gl.uniform3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worry about the order in which primitives are rendered or use hidden-surface remo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E2D4-EE1E-4254-ABB5-BD46EF46AA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erpinski Gasket (2D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with a triang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nect bisectors of sides and remove central triang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2743200" y="1981080"/>
            <a:ext cx="1600200" cy="129564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Freeform 6"/>
          <p:cNvSpPr/>
          <p:nvPr/>
        </p:nvSpPr>
        <p:spPr>
          <a:xfrm>
            <a:off x="2666880" y="4343400"/>
            <a:ext cx="1600200" cy="129528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Freeform 7"/>
          <p:cNvSpPr/>
          <p:nvPr/>
        </p:nvSpPr>
        <p:spPr>
          <a:xfrm>
            <a:off x="3124080" y="4952880"/>
            <a:ext cx="762120" cy="685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Footer Placeholder 7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21D1-F9B9-4EA3-8247-923394F0A7D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Example 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ve subdivis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20436" t="19699" r="21418" b="30305"/>
          <a:stretch/>
        </p:blipFill>
        <p:spPr>
          <a:xfrm>
            <a:off x="2362320" y="2209680"/>
            <a:ext cx="4038480" cy="360216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5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3F34-D7DE-4B5B-99ED-1A1390797A3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gasket as a fract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he filled area (black) and the perimeter (the length of all the lines around the filled triangl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 we continue subdivid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rea goes to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 perimeter goes to infi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not an ordinary geometric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neither two- nor three-dimens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frac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fractional dimension)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asket Progra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TML fi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as in other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 through vertex sh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gment shader sets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in JS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DC54-9B70-4DB6-9903-3BF6F904898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7FD5-B351-49AD-AE87-3AE9B54403F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asket Progra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points = [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NumTimesToSubdivide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initial triangle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vertices =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2( -1, -1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2(  0,  1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2(  1, -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videTriangle( vertices[0],vertices[1]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tices[2], NumTimesToSubdivi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01:55:41Z</dcterms:created>
  <dc:creator>Ed Angel</dc:creator>
  <dc:description/>
  <dc:language>en-US</dc:language>
  <cp:lastModifiedBy>Ed Angel</cp:lastModifiedBy>
  <dcterms:modified xsi:type="dcterms:W3CDTF">2014-03-31T17:43:08Z</dcterms:modified>
  <cp:revision>75</cp:revision>
  <dc:subject/>
  <dc:title>PowerPoint Presentation</dc:title>
</cp:coreProperties>
</file>