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723D-A58F-438A-A226-795B044BC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1C90-DF4B-4A59-AB5E-ACB1905F7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BCD7-90EF-477C-9D05-FBBFAA1E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BDF1-18E3-44CD-9978-84E4B0159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016F-F72A-4F2E-8BD6-9D49DC150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9517-9B56-463B-B10E-2868533A3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058-2D99-4B61-85A3-558BA520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3D3-E356-4DFF-A8D0-DDEB9939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9D67-1BAB-4BCF-95C0-C0240B416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F8A1-5E74-4650-B520-C2A3E1AF0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C3E1-DCEB-41B3-B40D-0907D5067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70A-0B4E-4E69-99B0-D58773FDD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BB8-EE38-4156-A663-1BB779A041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06F-9E2C-4856-A33F-B4E63C72F8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3F2-D1AB-4E85-AD83-F652972FF64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Representing One Frame in Terms of the Other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4191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30"/>
          <p:cNvSpPr/>
          <p:nvPr/>
        </p:nvSpPr>
        <p:spPr>
          <a:xfrm>
            <a:off x="691560" y="160020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what we did with change of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1"/>
          <p:cNvSpPr/>
          <p:nvPr/>
        </p:nvSpPr>
        <p:spPr>
          <a:xfrm>
            <a:off x="839880" y="373392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 4 x 4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09880" y="4038480"/>
                <a:ext cx="2971800" cy="229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Text Box 1033"/>
          <p:cNvSpPr/>
          <p:nvPr/>
        </p:nvSpPr>
        <p:spPr>
          <a:xfrm>
            <a:off x="3048840" y="4952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8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019D-EDD6-4F22-A9CA-ADFB88F0BD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orking with Represent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in the two frames any point or vector has a representation of the same 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first 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second 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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points a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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vectors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atrix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4 x 4 and specifies an affine transformation in homogeneous coordina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7508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45080" y="449568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3BD-519B-45AE-9485-2F345F7823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ffine Transform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ry linear transformation is equivalent to a change in fra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ry affine transformation preserves 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, an affine transformation has only 12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ecause 4 of the elements in the matrix are fixed and are a subset of all possible 4 x 4 linear transfor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9ABB-D475-4004-855A-084E2FF66BF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World and Camera Fram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we work with representations, we work with n-tuples or arrays of scal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frame are then defined by 4 x 4 matr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penGL, the base frame that we start with is the world fram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tually we represent entities in the camera frame by changing the world representation using the model-view matri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lly these frames are the same 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0B73-51CB-4BB0-B38F-9A6E0D00D6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ving the Camera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objects are on both sides of z=0, we must move camera 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04f26"/>
          <p:cNvPicPr/>
          <p:nvPr/>
        </p:nvPicPr>
        <p:blipFill>
          <a:blip r:embed="rId1"/>
          <a:stretch/>
        </p:blipFill>
        <p:spPr>
          <a:xfrm>
            <a:off x="1600200" y="2362320"/>
            <a:ext cx="6264360" cy="387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48120" y="2332080"/>
                <a:ext cx="1523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2248560" y="28954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7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C1E-BAE8-476C-9A03-B7BFBEC35C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omogeneous Coordina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CBB-2BA2-41D5-9C7E-9DF5A3207EF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homogeneous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change of representation for both vectors and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33FE-CC82-4B02-B3F4-0DC69707F2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Single Representation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defin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 =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n we can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obtain the four-dimension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eous coord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4D5-3F4A-4FA5-B68B-E117838E54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omogeneous Coordinates and Computer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mogeneous coordinates are key to all computer graphics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standard transformations (rotation, translation, scaling) can be implemented with matrix multiplications using 4 x 4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pipeline works with 4 dimensional repres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orthographic viewing, we can maintai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vectors 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=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perspective we ne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erspective 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DD2-CC2E-4EF6-8A26-7E3DF549BA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hange of 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wo representations of a the same vector with respect to two different bases. The representations ar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88000" y="4572000"/>
            <a:ext cx="60422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846880" y="3124080"/>
            <a:ext cx="20656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819520" y="3581280"/>
            <a:ext cx="2058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145880" y="41911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8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DBF-4189-4547-9683-70B2E8126B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ing second basis in terms of firs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of the basis vectors, u1,u2, u3, are vectors that can be represented in terms of the first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14400" y="3657600"/>
            <a:ext cx="2827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AN04F24"/>
          <p:cNvPicPr/>
          <p:nvPr/>
        </p:nvPicPr>
        <p:blipFill>
          <a:blip r:embed="rId1"/>
          <a:stretch/>
        </p:blipFill>
        <p:spPr>
          <a:xfrm>
            <a:off x="4952880" y="2514600"/>
            <a:ext cx="284328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Line 10"/>
          <p:cNvSpPr/>
          <p:nvPr/>
        </p:nvSpPr>
        <p:spPr>
          <a:xfrm flipV="1">
            <a:off x="6095880" y="3429000"/>
            <a:ext cx="76212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8439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8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DA26-C15E-453C-B1B0-F3A44C4B09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Matrix Form 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s define a 3 x 3 matri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the bases can be relat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text for numerical 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668760" y="4648320"/>
            <a:ext cx="13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29000" y="1981080"/>
                <a:ext cx="24382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Text Box 6"/>
          <p:cNvSpPr/>
          <p:nvPr/>
        </p:nvSpPr>
        <p:spPr>
          <a:xfrm>
            <a:off x="2667960" y="2666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7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60D-1709-4544-B800-353692E550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hange of Fram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apply a similar process in homogeneous coordinates to the representations of both points and ve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 point or vector can be represented in either fr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repres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02320" y="2944800"/>
            <a:ext cx="3138840" cy="14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sider two fram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5334120" y="3276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33412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4724280" y="4267080"/>
            <a:ext cx="60984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772520" y="3765600"/>
            <a:ext cx="5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54920" y="391788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087880" y="277488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202280" y="457200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7162920" y="2590920"/>
            <a:ext cx="685800" cy="8380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 flipH="1" flipV="1">
            <a:off x="6248520" y="2971800"/>
            <a:ext cx="9144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7162920" y="3429000"/>
            <a:ext cx="75960" cy="1143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609240" y="3276720"/>
            <a:ext cx="578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259680" y="251460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8012160" y="236232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7402680" y="4267080"/>
            <a:ext cx="491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19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3:19Z</dcterms:created>
  <dc:creator>Ed Angel</dc:creator>
  <dc:description/>
  <dc:language>en-US</dc:language>
  <cp:lastModifiedBy>Ed Angel</cp:lastModifiedBy>
  <dcterms:modified xsi:type="dcterms:W3CDTF">2014-03-31T17:46:46Z</dcterms:modified>
  <cp:revision>103</cp:revision>
  <dc:subject/>
  <dc:title>PowerPoint Presentation</dc:title>
</cp:coreProperties>
</file>