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64FE-98D4-4586-93D6-7DDA0E529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C3EA2-102B-4C8A-8E3A-545CA9CB6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F938F-20E5-4D36-A6DB-589C06AC3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B2AE-8A4C-430F-B30A-CD181885D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DC33-18F2-44A8-AC17-AF81B4659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CE2C-40D9-4E18-B928-002AF7143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DBF3-FF20-4A85-AA6C-062A9B427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FB28-EFDD-4A02-8576-DB803429CB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496C-5923-4BB3-A8E1-991C5D4D1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A2A9-EE5A-4C5D-BFE7-0EDFA3EFB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D57B-2308-4658-BE62-5F8099198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2D9F-6E6D-4442-8ACF-CA14FFF9B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AE0A-2B74-4C9B-A69F-3675A1325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8348-3F08-4226-B842-1BD1477B9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8411-7E7E-4EB6-BFE5-958B292F4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E03F-13DA-4ECE-B39F-F3FFFC6E806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0322-3054-4E23-8789-117CC5223D7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nte Carlo Method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ing equation cannot be solved analytical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approach to take a probabilistic (Monte Carlo) approach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y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ton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h tr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522-D256-4D55-BEA2-293CCFD698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5B4A-F8D9-4975-9917-E0C6ABE69BA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ac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llow rays of light from a point 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account for reflection and transmi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g12f21.jpg"/>
          <p:cNvPicPr/>
          <p:nvPr/>
        </p:nvPicPr>
        <p:blipFill>
          <a:blip r:embed="rId1"/>
          <a:stretch/>
        </p:blipFill>
        <p:spPr>
          <a:xfrm>
            <a:off x="2362320" y="2743200"/>
            <a:ext cx="3860640" cy="386064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A9C-027F-4A77-BB3A-03D976519E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Cas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y rays that reach the eye ma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verse direction and cast 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t least one ray per pix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n11f02.jpg"/>
          <p:cNvPicPr/>
          <p:nvPr/>
        </p:nvPicPr>
        <p:blipFill>
          <a:blip r:embed="rId1"/>
          <a:stretch/>
        </p:blipFill>
        <p:spPr>
          <a:xfrm>
            <a:off x="2590920" y="3429000"/>
            <a:ext cx="3352680" cy="2712960"/>
          </a:xfrm>
          <a:prstGeom prst="rect">
            <a:avLst/>
          </a:prstGeom>
          <a:ln w="0">
            <a:noFill/>
          </a:ln>
        </p:spPr>
      </p:pic>
      <p:sp>
        <p:nvSpPr>
          <p:cNvPr id="110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th Trac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2" name="Content Placeholder 4" descr="ang12f22.jpg"/>
          <p:cNvPicPr/>
          <p:nvPr/>
        </p:nvPicPr>
        <p:blipFill>
          <a:blip r:embed="rId1"/>
          <a:srcRect l="-32251" t="0" r="-32251" b="0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0B0E-3914-42B4-A80A-CE5240CE7C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ng Ray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ic limitation of ray tracing is the number of rays we can tr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 more 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tisam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chas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2428-19E1-4ADD-8628-9E128658B3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oton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stead of tracing rays trace phot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nd out stream of phot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photons strike surface, they can b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or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off in multiple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tal number of photons limited by compute time requir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f line and stochast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C8E-C949-4C98-B8E5-47C019BDF7A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obal Rende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C19-5534-4DFA-A627-09D9BE203C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F1E-D7D7-488D-8421-43F4C5533E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is based on a pipeline model in which primitives are rendered one at ti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hadows (except by tricks or multiple rendering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ultiple refl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obal approaches based on the rendering equ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y tr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ton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h Tr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Rendering Equ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physical reasoning based on conservation of ener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in a closed environment, the energy entering a surface must equal the energy lea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ergy leaving in a given direction depends on the energy arriving from all dire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7E74-D0CF-4E93-A3C5-25C24B7661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Equation (Kajia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04AB-8D8B-4C1F-BAEE-A6A71D019A4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Content Placeholder 4"/>
              <p:cNvSpPr txBox="1"/>
              <p:nvPr/>
            </p:nvSpPr>
            <p:spPr>
              <a:xfrm>
                <a:off x="1371600" y="1752480"/>
                <a:ext cx="6858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9" name="Picture 6" descr="ang12f14.eps"/>
          <p:cNvPicPr/>
          <p:nvPr/>
        </p:nvPicPr>
        <p:blipFill>
          <a:blip r:embed="rId1"/>
          <a:stretch/>
        </p:blipFill>
        <p:spPr>
          <a:xfrm>
            <a:off x="3733920" y="4711680"/>
            <a:ext cx="2655720" cy="214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90720" y="3078000"/>
                <a:ext cx="9954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90720" y="3429000"/>
                <a:ext cx="1022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" y="3809880"/>
                <a:ext cx="14796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90720" y="2666880"/>
                <a:ext cx="9414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Box 11"/>
          <p:cNvSpPr/>
          <p:nvPr/>
        </p:nvSpPr>
        <p:spPr>
          <a:xfrm>
            <a:off x="2159280" y="3733920"/>
            <a:ext cx="662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directional reflection distribution function (BR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 from reflections from all othe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2133720" y="3352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lusion term = 0 or 1/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133720" y="2590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 from p arriving at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133720" y="29671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from p arriving at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13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RDF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BRDF characterizes the 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ization of reflection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case requires is a 9 variable function at given frequenc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on of three v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al cases lead to familiar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D3AA-32CD-4FD1-A026-A34A561B343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diosit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me all surfaces are perfectly diff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is scattered equally in all dire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vide space into small patch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D394-49BC-4571-8A89-DA22016238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ang12f20.jpg"/>
          <p:cNvPicPr/>
          <p:nvPr/>
        </p:nvPicPr>
        <p:blipFill>
          <a:blip r:embed="rId1"/>
          <a:stretch/>
        </p:blipFill>
        <p:spPr>
          <a:xfrm>
            <a:off x="3276720" y="365760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orm Fact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to compute the form factor between each pair of patches which describes effect of light from one patch onto the oth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D978-B72D-4905-BEC9-6D080C6972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ang12f16.jpg"/>
          <p:cNvPicPr/>
          <p:nvPr/>
        </p:nvPicPr>
        <p:blipFill>
          <a:blip r:embed="rId1"/>
          <a:stretch/>
        </p:blipFill>
        <p:spPr>
          <a:xfrm>
            <a:off x="2819520" y="3657600"/>
            <a:ext cx="2641320" cy="264168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diosity Rende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ce the form factors are computer each patch is a small diffuse pat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al render now uses only diffuse te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 long as geometry is unchanges, subsequent renderings use same form fa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5911-0F05-4968-BDF6-A7C6A5B403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0:51:22Z</dcterms:created>
  <dc:creator>Ed Angel</dc:creator>
  <dc:description/>
  <dc:language>en-US</dc:language>
  <cp:lastModifiedBy>Ed Angel</cp:lastModifiedBy>
  <dcterms:modified xsi:type="dcterms:W3CDTF">2014-03-31T18:02:45Z</dcterms:modified>
  <cp:revision>167</cp:revision>
  <dc:subject/>
  <dc:title>PowerPoint Presentation</dc:title>
</cp:coreProperties>
</file>