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CF19-E587-46F2-9C34-C513F18FA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4D69-709F-4076-B507-D696EF288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C9DA-E5DC-4D4D-8AA2-B2CCC15AA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B8E9-D26D-4545-B2FD-A80BC34F9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CC9A-D22D-430C-88B2-7F1150727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BD83E-F01A-4414-AF2C-9D8E531CE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54D3-CFEB-4457-BF2C-627870C049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332B-2AF5-4494-9614-7DD4112EC5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B4F1-F0A1-4116-8290-A4289DAAD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E3C1-00AA-4D1B-8525-2D39FC9AD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3D6C-7FCF-46B9-B38E-DA6F0E344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FEC9-AB3C-4E7A-9D19-17C3DFC05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5183-AFE1-4F4D-8AD3-590D2EB4E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7D3D-F6CD-4D87-B60E-85248CB22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66C2-CAD7-458F-893A-E37601016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6FAE-B8D7-4DC3-8F25-63BB7EB8B4E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6705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D3C3-9527-4CDE-A102-93C8DEC532C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ounding box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usually determine accept/reject based only on bounding bo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BOOK\OpenGL\Paul Final\jpeg_new\AN08F20.jpg"/>
          <p:cNvPicPr/>
          <p:nvPr/>
        </p:nvPicPr>
        <p:blipFill>
          <a:blip r:embed="rId1"/>
          <a:stretch/>
        </p:blipFill>
        <p:spPr>
          <a:xfrm>
            <a:off x="2819520" y="3048120"/>
            <a:ext cx="2687400" cy="2992320"/>
          </a:xfrm>
          <a:prstGeom prst="rect">
            <a:avLst/>
          </a:prstGeom>
          <a:ln w="0">
            <a:noFill/>
          </a:ln>
        </p:spPr>
      </p:pic>
      <p:sp>
        <p:nvSpPr>
          <p:cNvPr id="97" name="Line 6"/>
          <p:cNvSpPr/>
          <p:nvPr/>
        </p:nvSpPr>
        <p:spPr>
          <a:xfrm flipH="1">
            <a:off x="4495320" y="3276720"/>
            <a:ext cx="1143000" cy="152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7"/>
          <p:cNvSpPr/>
          <p:nvPr/>
        </p:nvSpPr>
        <p:spPr>
          <a:xfrm>
            <a:off x="1523880" y="4038480"/>
            <a:ext cx="152424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5638320" y="4572000"/>
            <a:ext cx="76212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714280" y="29718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066680" y="35812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6169320" y="4038480"/>
            <a:ext cx="220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deta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1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12AB-D445-4F5D-9050-BD0613C55D8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11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pping and Visibilit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pping has much in common with hidden-surface remov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both cases, we are trying to remove objects that are not visible to the camer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ften we can use visibility or occlusion testing early in the process to eliminate as many polygons as possible before going through the entire pipe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263F-89C3-4A28-8B32-27DEA599D27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Hidden Surface Remova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bject-space approach: use pairwise testing between polygons (object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orst case complexity O(n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 for n polyg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C:\BOOK\OpenGL\Paul Final\jpeg_new\AN08F28.jpg"/>
          <p:cNvPicPr/>
          <p:nvPr/>
        </p:nvPicPr>
        <p:blipFill>
          <a:blip r:embed="rId1"/>
          <a:srcRect l="0" t="0" r="0" b="14275"/>
          <a:stretch/>
        </p:blipFill>
        <p:spPr>
          <a:xfrm>
            <a:off x="838080" y="2743200"/>
            <a:ext cx="7086600" cy="1295280"/>
          </a:xfrm>
          <a:prstGeom prst="rect">
            <a:avLst/>
          </a:prstGeom>
          <a:ln w="0">
            <a:noFill/>
          </a:ln>
        </p:spPr>
      </p:pic>
      <p:sp>
        <p:nvSpPr>
          <p:cNvPr id="112" name="Line 5"/>
          <p:cNvSpPr/>
          <p:nvPr/>
        </p:nvSpPr>
        <p:spPr>
          <a:xfrm flipH="1" flipV="1">
            <a:off x="2057040" y="4114800"/>
            <a:ext cx="304920" cy="533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 flipV="1">
            <a:off x="2819520" y="4114800"/>
            <a:ext cx="45720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377000" y="480060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obsc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"/>
          <p:cNvSpPr/>
          <p:nvPr/>
        </p:nvSpPr>
        <p:spPr>
          <a:xfrm flipH="1" flipV="1">
            <a:off x="5866920" y="4038480"/>
            <a:ext cx="304920" cy="533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 flipV="1">
            <a:off x="6629400" y="4038480"/>
            <a:ext cx="45720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213160" y="480060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draw independ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1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E633-0BB5-4E3D-A87C-4B0F059BE73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11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C:\BOOK\OpenGL\Paul Final\jpeg_new\AN08F33.jpg"/>
          <p:cNvPicPr/>
          <p:nvPr/>
        </p:nvPicPr>
        <p:blipFill>
          <a:blip r:embed="rId1"/>
          <a:srcRect l="0" t="0" r="0" b="15217"/>
          <a:stretch/>
        </p:blipFill>
        <p:spPr>
          <a:xfrm>
            <a:off x="1600200" y="2743200"/>
            <a:ext cx="5638680" cy="1600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inter’s Algorith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nder polygons a back to front order so that polygons behind others are simply painted ov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53760" y="464652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behind A as seen by vie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174720" y="457200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B the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9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C948-21E2-43AC-B27A-AB3981E4826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7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epth Sor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quires ordering of polygons first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(n log n) calculation for ord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every polygon is either in front or behind all other polyg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der polygons and deal with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asy cases first, harder l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BOOK\OpenGL\Paul Final\jpeg_new\AN08F34.jpg"/>
          <p:cNvPicPr/>
          <p:nvPr/>
        </p:nvPicPr>
        <p:blipFill>
          <a:blip r:embed="rId1"/>
          <a:stretch/>
        </p:blipFill>
        <p:spPr>
          <a:xfrm>
            <a:off x="5638680" y="3581280"/>
            <a:ext cx="2819520" cy="2598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1494720" y="533232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gons sort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from C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 flipV="1">
            <a:off x="4572000" y="5257800"/>
            <a:ext cx="914400" cy="533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9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8050-D103-48F8-8037-245485AD0B1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7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asy Cas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lies behind all other polyg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r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lygons overlap in z but not in either x or 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render independ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C:\BOOK\OpenGL\Paul Final\jpeg_new\AN08F34.jpg"/>
          <p:cNvPicPr/>
          <p:nvPr/>
        </p:nvPicPr>
        <p:blipFill>
          <a:blip r:embed="rId1"/>
          <a:stretch/>
        </p:blipFill>
        <p:spPr>
          <a:xfrm>
            <a:off x="6705720" y="1600200"/>
            <a:ext cx="1600200" cy="147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BOOK\OpenGL\Paul Final\jpeg_new\AN08F35a.jpg"/>
          <p:cNvPicPr/>
          <p:nvPr/>
        </p:nvPicPr>
        <p:blipFill>
          <a:blip r:embed="rId2"/>
          <a:srcRect l="0" t="0" r="0" b="11903"/>
          <a:stretch/>
        </p:blipFill>
        <p:spPr>
          <a:xfrm>
            <a:off x="1828800" y="4264200"/>
            <a:ext cx="1828800" cy="1374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BOOK\OpenGL\Paul Final\jpeg_new\AN08F35b.jpg"/>
          <p:cNvPicPr/>
          <p:nvPr/>
        </p:nvPicPr>
        <p:blipFill>
          <a:blip r:embed="rId3"/>
          <a:srcRect l="0" t="0" r="0" b="18880"/>
          <a:stretch/>
        </p:blipFill>
        <p:spPr>
          <a:xfrm>
            <a:off x="5562720" y="4267080"/>
            <a:ext cx="1981080" cy="1371600"/>
          </a:xfrm>
          <a:prstGeom prst="rect">
            <a:avLst/>
          </a:prstGeom>
          <a:ln w="0">
            <a:noFill/>
          </a:ln>
        </p:spPr>
      </p:pic>
      <p:sp>
        <p:nvSpPr>
          <p:cNvPr id="139" name="Slide Number Placeholder 9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ED05-CC7B-4ABB-9B41-A1B27DE2F3F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7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Hard Cas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42" name="Picture 4" descr="C:\BOOK\OpenGL\Paul Final\jpeg_new\AN08F37.jpg"/>
          <p:cNvPicPr/>
          <p:nvPr/>
        </p:nvPicPr>
        <p:blipFill>
          <a:blip r:embed="rId1"/>
          <a:stretch/>
        </p:blipFill>
        <p:spPr>
          <a:xfrm>
            <a:off x="5791320" y="1752480"/>
            <a:ext cx="1587240" cy="157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BOOK\OpenGL\Paul Final\jpeg_new\AN08F36.jpg"/>
          <p:cNvPicPr/>
          <p:nvPr/>
        </p:nvPicPr>
        <p:blipFill>
          <a:blip r:embed="rId2"/>
          <a:stretch/>
        </p:blipFill>
        <p:spPr>
          <a:xfrm>
            <a:off x="762120" y="1905120"/>
            <a:ext cx="2514600" cy="172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BOOK\OpenGL\Paul Final\jpeg_new\AN08F38.jpg"/>
          <p:cNvPicPr/>
          <p:nvPr/>
        </p:nvPicPr>
        <p:blipFill>
          <a:blip r:embed="rId3"/>
          <a:stretch/>
        </p:blipFill>
        <p:spPr>
          <a:xfrm>
            <a:off x="5715000" y="4114800"/>
            <a:ext cx="1828800" cy="1330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350640" y="3808440"/>
            <a:ext cx="334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p in all di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n one is fully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ide of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736600" y="350352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ic 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943600" y="563724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11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9CD4-6D02-40A8-920A-4D5270355DF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9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C:\BOOK\OpenGL\Paul Final\jpeg_new\AN08F30.jpg"/>
          <p:cNvPicPr/>
          <p:nvPr/>
        </p:nvPicPr>
        <p:blipFill>
          <a:blip r:embed="rId1"/>
          <a:stretch/>
        </p:blipFill>
        <p:spPr>
          <a:xfrm>
            <a:off x="5257800" y="1143000"/>
            <a:ext cx="3124080" cy="25621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ack-Face Removal (Culling)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14840" y="228564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146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07080" y="1981080"/>
            <a:ext cx="419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is visible i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9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298080" y="3733920"/>
            <a:ext cx="7284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 of face has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x + by +cz +d 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fter norm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 0 0 1 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only test the sign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penGL we can simply enable cu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ay not work correctly if we have nonconvex ob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9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2CD0-2B52-476C-8676-7AD44DD5DAE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7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C:\BOOK\OpenGL\Paul Final\jpeg_new\AN08F29.jpg"/>
          <p:cNvPicPr/>
          <p:nvPr/>
        </p:nvPicPr>
        <p:blipFill>
          <a:blip r:embed="rId1"/>
          <a:stretch/>
        </p:blipFill>
        <p:spPr>
          <a:xfrm>
            <a:off x="4114800" y="3139920"/>
            <a:ext cx="4114800" cy="2603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mage Space Approach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ok at each projector (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for an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frame buffer) and find closest of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polyg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lexity O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mk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y tracing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-buff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7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D23B-B82E-4E59-B02B-4EC4EE50269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ooter Placeholder 5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AN08F31"/>
          <p:cNvPicPr/>
          <p:nvPr/>
        </p:nvPicPr>
        <p:blipFill>
          <a:blip r:embed="rId1"/>
          <a:stretch/>
        </p:blipFill>
        <p:spPr>
          <a:xfrm>
            <a:off x="4952880" y="4191120"/>
            <a:ext cx="2667240" cy="221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z-Buffer Algorith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a buffer called the z or depth buffer to store the depth of the closest object at each pixel found so f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 we render each polygon, compare the depth of each pixel to depth in z buf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less, place shade of pixel in color buffer and update z buf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7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4ADB-A7BF-496B-9DF2-68522E7E6E3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5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olygon Render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3BAF-21A7-4A71-91E6-60FA14A5F9B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fficienc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we work scan line by scan line as we move across a scan line, the depth changes satisfy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x+b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y+c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z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C:\BOOK\OpenGL\Paul Final\jpeg_new\AN08F32.jpg"/>
          <p:cNvPicPr/>
          <p:nvPr/>
        </p:nvPicPr>
        <p:blipFill>
          <a:blip r:embed="rId1"/>
          <a:stretch/>
        </p:blipFill>
        <p:spPr>
          <a:xfrm>
            <a:off x="4572000" y="3276720"/>
            <a:ext cx="3882960" cy="29318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1680840" y="3809880"/>
            <a:ext cx="232956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ng scan 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y = 0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z = -    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819520" y="4572000"/>
                <a:ext cx="382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Text Box 10"/>
          <p:cNvSpPr/>
          <p:nvPr/>
        </p:nvSpPr>
        <p:spPr>
          <a:xfrm>
            <a:off x="459000" y="5562720"/>
            <a:ext cx="35398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creen sp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x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10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9E61-C3E0-48AB-923C-7C80E0038BC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8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can-Line Algorith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combine shading and hsr through scan line algorith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C:\BOOK\OpenGL\Paul Final\jpeg_new\AN08F39.jpg"/>
          <p:cNvPicPr/>
          <p:nvPr/>
        </p:nvPicPr>
        <p:blipFill>
          <a:blip r:embed="rId1"/>
          <a:stretch/>
        </p:blipFill>
        <p:spPr>
          <a:xfrm>
            <a:off x="762120" y="3048120"/>
            <a:ext cx="308448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4264920" y="2665440"/>
            <a:ext cx="41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line i: no need for dep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, can only be in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one polyg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4491360" y="4495680"/>
            <a:ext cx="346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line j: need dep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only whe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one polyg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7"/>
          <p:cNvSpPr/>
          <p:nvPr/>
        </p:nvSpPr>
        <p:spPr>
          <a:xfrm flipH="1" flipV="1">
            <a:off x="2895480" y="3886200"/>
            <a:ext cx="990720" cy="1447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 flipH="1" flipV="1">
            <a:off x="1981080" y="3885840"/>
            <a:ext cx="190512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11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027A-DBDE-4530-87DF-C7A3FDD1CFB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ooter Placeholder 9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mplement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a data structure to sto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ag for each polygon (inside/outsi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mental structure for scan lines that stores which edges are encounter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meters for pla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6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F9DE-8A32-4A75-A74C-684095B42AC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isibility Test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many realtime applications, such as games, we want to eliminate as many objects as possible within the appli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 burden on pipe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 traffic on b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tition space with Binary Spatial Partition (BSP) Tre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C:\BOOK\OpenGL\Paul Final\jpeg_new\AN09F25.jpg"/>
          <p:cNvPicPr/>
          <p:nvPr/>
        </p:nvPicPr>
        <p:blipFill>
          <a:blip r:embed="rId1"/>
          <a:stretch/>
        </p:blipFill>
        <p:spPr>
          <a:xfrm>
            <a:off x="1828800" y="5181480"/>
            <a:ext cx="4998960" cy="129240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7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3AFB-0FCE-4580-ABC8-07A4DA3121A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ooter Placeholder 5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imple Examp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94" name="Picture 4" descr="C:\BOOK\OpenGL\Paul Final\jpeg_new\AN09F26.jpg"/>
          <p:cNvPicPr/>
          <p:nvPr/>
        </p:nvPicPr>
        <p:blipFill>
          <a:blip r:embed="rId1"/>
          <a:stretch/>
        </p:blipFill>
        <p:spPr>
          <a:xfrm>
            <a:off x="2590920" y="3352680"/>
            <a:ext cx="2941560" cy="21337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2137680" y="2935440"/>
            <a:ext cx="39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6 parallel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C:\BOOK\OpenGL\Paul Final\jpeg_new\AN09F25.jpg"/>
          <p:cNvPicPr/>
          <p:nvPr/>
        </p:nvPicPr>
        <p:blipFill>
          <a:blip r:embed="rId2"/>
          <a:stretch/>
        </p:blipFill>
        <p:spPr>
          <a:xfrm>
            <a:off x="1676520" y="1600200"/>
            <a:ext cx="4998960" cy="12924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9"/>
          <p:cNvSpPr/>
          <p:nvPr/>
        </p:nvSpPr>
        <p:spPr>
          <a:xfrm>
            <a:off x="5992200" y="42656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890640" y="5560920"/>
            <a:ext cx="70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ne of A separates B and C from D, E and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10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3E7A-9AAC-43C1-BB43-7F9DB8E7A9B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8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SP Tre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continue recursively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e of C separates B from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e of D separates E and 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put this information in a BSP tre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for visibility and occlusion test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C:\BOOK\OpenGL\Paul Final\jpeg_new\AN09F27.jpg"/>
          <p:cNvPicPr/>
          <p:nvPr/>
        </p:nvPicPr>
        <p:blipFill>
          <a:blip r:embed="rId1"/>
          <a:stretch/>
        </p:blipFill>
        <p:spPr>
          <a:xfrm>
            <a:off x="2971800" y="4179960"/>
            <a:ext cx="3200400" cy="1776240"/>
          </a:xfrm>
          <a:prstGeom prst="rect">
            <a:avLst/>
          </a:prstGeom>
          <a:ln w="0">
            <a:noFill/>
          </a:ln>
        </p:spPr>
      </p:pic>
      <p:sp>
        <p:nvSpPr>
          <p:cNvPr id="204" name="Slide Number Placeholder 7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F34A-2E0B-437D-ACE8-6D534DB99E7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clipping algorithms for polyg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rvey hidden-surface algorith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6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E07A-6E1E-416D-9DDD-9DC3D9B23E4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olygon Clip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 as simple as line segment clipp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a line segment yields at most one line seg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a polygon can yield multiple polyg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ever, clipping a convex polygon can yield at most one other polyg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BOOK\OpenGL\Paul Final\jpeg_new\AN08F11A.jpg"/>
          <p:cNvPicPr/>
          <p:nvPr/>
        </p:nvPicPr>
        <p:blipFill>
          <a:blip r:embed="rId1"/>
          <a:srcRect l="0" t="0" r="0" b="20975"/>
          <a:stretch/>
        </p:blipFill>
        <p:spPr>
          <a:xfrm>
            <a:off x="2286000" y="3657600"/>
            <a:ext cx="1400040" cy="1219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BOOK\OpenGL\Paul Final\jpeg_new\AN08F11B.jpg"/>
          <p:cNvPicPr/>
          <p:nvPr/>
        </p:nvPicPr>
        <p:blipFill>
          <a:blip r:embed="rId2"/>
          <a:srcRect l="0" t="0" r="0" b="20710"/>
          <a:stretch/>
        </p:blipFill>
        <p:spPr>
          <a:xfrm>
            <a:off x="5257800" y="3809880"/>
            <a:ext cx="115236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8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8E95-B3C4-4E9D-884A-A03E28E2A13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ooter Placeholder 6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essellation and Convexit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e strategy is to replace nonconvex 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oncav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polygons with a set of triangular polygons (a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tessell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so makes fill easi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ssellation through tesselllation shad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BOOK\OpenGL\Paul Final\jpeg_new\AN08F13.jpg"/>
          <p:cNvPicPr/>
          <p:nvPr/>
        </p:nvPicPr>
        <p:blipFill>
          <a:blip r:embed="rId1"/>
          <a:stretch/>
        </p:blipFill>
        <p:spPr>
          <a:xfrm>
            <a:off x="1600200" y="4114800"/>
            <a:ext cx="5737320" cy="2136600"/>
          </a:xfrm>
          <a:prstGeom prst="rect">
            <a:avLst/>
          </a:prstGeom>
          <a:ln w="0">
            <a:noFill/>
          </a:ln>
        </p:spPr>
      </p:pic>
      <p:sp>
        <p:nvSpPr>
          <p:cNvPr id="71" name="Slide Number Placeholder 7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AD3F-6325-49B6-AC5F-9672B4A01E3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ooter Placeholder 5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pping as a Black Box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consider line segment clipping as a process that takes in two vertices and produces either no vertices or the vertices of a clipped line seg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BOOK\OpenGL\Paul Final\jpeg_new\AN08F15.jpg"/>
          <p:cNvPicPr/>
          <p:nvPr/>
        </p:nvPicPr>
        <p:blipFill>
          <a:blip r:embed="rId1"/>
          <a:srcRect l="0" t="0" r="0" b="10739"/>
          <a:stretch/>
        </p:blipFill>
        <p:spPr>
          <a:xfrm>
            <a:off x="914400" y="3809880"/>
            <a:ext cx="7315200" cy="2124360"/>
          </a:xfrm>
          <a:prstGeom prst="rect">
            <a:avLst/>
          </a:prstGeom>
          <a:ln w="0">
            <a:noFill/>
          </a:ln>
        </p:spPr>
      </p:pic>
      <p:sp>
        <p:nvSpPr>
          <p:cNvPr id="76" name="Slide Number Placeholder 7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E450-FD2A-4818-8154-6616601E707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ooter Placeholder 5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ipeline Clipping of Line Segmen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pping against each side of window is independent of other s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four independent clippers in a pipe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BOOK\OpenGL\Paul Final\jpeg_new\AN08F17.jpg"/>
          <p:cNvPicPr/>
          <p:nvPr/>
        </p:nvPicPr>
        <p:blipFill>
          <a:blip r:embed="rId1"/>
          <a:srcRect l="12693" t="0" r="23869" b="45039"/>
          <a:stretch/>
        </p:blipFill>
        <p:spPr>
          <a:xfrm>
            <a:off x="2743200" y="3124080"/>
            <a:ext cx="3429000" cy="1764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BOOK\OpenGL\Paul Final\jpeg_new\AN08F17.jpg"/>
          <p:cNvPicPr/>
          <p:nvPr/>
        </p:nvPicPr>
        <p:blipFill>
          <a:blip r:embed="rId2"/>
          <a:srcRect l="0" t="61076" r="0" b="5350"/>
          <a:stretch/>
        </p:blipFill>
        <p:spPr>
          <a:xfrm>
            <a:off x="1752480" y="4876920"/>
            <a:ext cx="5943600" cy="118584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8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8659-6108-4F70-B4DD-75222F94A7D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6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ipeline Clipping of Polyg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ree dimensions: add front and back clipp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rategy used in SGI Geometry Eng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mall increase in laten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C:\BOOK\OpenGL\Paul Final\jpeg_new\AN08F18.jpg"/>
          <p:cNvPicPr/>
          <p:nvPr/>
        </p:nvPicPr>
        <p:blipFill>
          <a:blip r:embed="rId1"/>
          <a:stretch/>
        </p:blipFill>
        <p:spPr>
          <a:xfrm>
            <a:off x="1447920" y="1752480"/>
            <a:ext cx="5913360" cy="191772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7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F604-D5BA-4260-8A46-76B6F8EAD64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ounding Box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ther than doing clipping on a complex polygon, we can use an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xis-aligned bounding bo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ext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llest rectangle aligned with axes that encloses the polyg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e to compute: max and min of x and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C:\BOOK\OpenGL\Paul Final\jpeg_new\AN08F19.jpg"/>
          <p:cNvPicPr/>
          <p:nvPr/>
        </p:nvPicPr>
        <p:blipFill>
          <a:blip r:embed="rId1"/>
          <a:srcRect l="46723" t="0" r="21167" b="64779"/>
          <a:stretch/>
        </p:blipFill>
        <p:spPr>
          <a:xfrm>
            <a:off x="2133720" y="4343400"/>
            <a:ext cx="3657600" cy="182880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7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7FA0-BBCE-4D71-9375-2FD333D735B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22:17:13Z</dcterms:created>
  <dc:creator>Ed Angel</dc:creator>
  <dc:description/>
  <dc:language>en-US</dc:language>
  <cp:lastModifiedBy>Ed Angel</cp:lastModifiedBy>
  <dcterms:modified xsi:type="dcterms:W3CDTF">2014-03-31T17:58:49Z</dcterms:modified>
  <cp:revision>237</cp:revision>
  <dc:subject/>
  <dc:title>PowerPoint Presentation</dc:title>
</cp:coreProperties>
</file>