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55C18-2D69-4A34-9BE1-5378E315DF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0FA4B-8FD4-4396-B4FB-F443A725C7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57F8E-9C1A-4998-9226-AACA4EA5BD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7D6D1-982C-4356-B678-6EF7162F1C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28939-A120-4EFF-B0E7-12F55E8727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F07C7-DAA2-4808-B658-CF12F5800F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BB901-309F-49D9-850B-FD081CB40A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CBA3E-83A3-4E77-87F9-AC54F29097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0FA77-3475-4AF6-B92D-54CE3EA72F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6D780-6D88-418B-A244-8E5A952A00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55279-BEC5-400D-A778-58F5784B82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D582F-3ABD-4FBD-B4F1-71D0047B1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5F152-339F-4113-82BB-90101C9AE6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ACB0E-2590-40ED-BFDB-993A799504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0A7F2-7A1B-4A8D-9F26-AEB681D1B9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B2239-A7A0-4193-B61B-0155D435E9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A08A2-15AD-4C61-B008-28F9E2E9C4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11A4D-507C-4842-BABD-D951713CB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952F1-8E83-481E-9DE4-87349777BA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02137-3F17-480D-B822-69C5EF19F5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B5200-70FD-44B6-9E5C-60BD932892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F7366-1B89-4CCD-B3C3-DA6B6E4E09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6621C-4F4A-4D24-9AB8-8B3F5C8827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35A0-A22A-43D0-AD9D-22302680D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E71D-ABB3-4E9D-A28E-DAB23AC88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3311-BF73-4639-8ACA-B63F88532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72545-FC91-4421-BA2B-31704CFA34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9D68-AC72-4EA6-8B49-B3FD9C5C35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31F9-FD09-4A12-8AB4-58D567468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8E81D-B54A-4DDB-8DD7-F013E4E48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8739-B86C-4C29-A6E2-863BC68A6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FFFB-D7C6-4F0A-90EC-7AAA16168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DF0AB-25E0-4E2A-B0D2-01123B49C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2CD9-6326-4DCE-853C-BEE6359B5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F214-6920-4559-9698-8C90253D7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024F-31FA-4492-A5AA-8FEE48588D4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476760"/>
            <a:ext cx="6858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FCBF-7940-46C9-96C9-CAA153DD29A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83808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0ED4-BB03-4244-A4CF-721877749E7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ectors Lack Posi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vectors are iden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length and magnitu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ctors spaces insufficient for 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04F02"/>
          <p:cNvPicPr/>
          <p:nvPr/>
        </p:nvPicPr>
        <p:blipFill>
          <a:blip r:embed="rId1"/>
          <a:stretch/>
        </p:blipFill>
        <p:spPr>
          <a:xfrm>
            <a:off x="2286000" y="2590920"/>
            <a:ext cx="2317680" cy="2479680"/>
          </a:xfrm>
          <a:prstGeom prst="rect">
            <a:avLst/>
          </a:prstGeom>
          <a:ln w="0">
            <a:noFill/>
          </a:ln>
        </p:spPr>
      </p:pic>
      <p:sp>
        <p:nvSpPr>
          <p:cNvPr id="104" name="Footer Placeholder 5"/>
          <p:cNvSpPr/>
          <p:nvPr/>
        </p:nvSpPr>
        <p:spPr>
          <a:xfrm>
            <a:off x="83808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A3B4-846A-4037-8F24-57B3324DE48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oin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cation in sp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rations allowed between points and vecto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-point subtraction yields a v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quivalent to point-vector addi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AN04F05"/>
          <p:cNvPicPr/>
          <p:nvPr/>
        </p:nvPicPr>
        <p:blipFill>
          <a:blip r:embed="rId1"/>
          <a:stretch/>
        </p:blipFill>
        <p:spPr>
          <a:xfrm>
            <a:off x="1295280" y="4076640"/>
            <a:ext cx="3276720" cy="22971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5341680" y="513072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346360" y="429264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P-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7"/>
          <p:cNvSpPr/>
          <p:nvPr/>
        </p:nvSpPr>
        <p:spPr>
          <a:xfrm>
            <a:off x="83808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6E27-CBBF-4D3E-AD6B-8505912FD53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ffine Spa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int + a vector sp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ctor-vect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ar-vector multi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-vect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ar-scalar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any point def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 = 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zero vect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83808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F1CE-9B53-4161-8B62-D089565B051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7" descr="AN04F10"/>
          <p:cNvPicPr/>
          <p:nvPr/>
        </p:nvPicPr>
        <p:blipFill>
          <a:blip r:embed="rId1"/>
          <a:stretch/>
        </p:blipFill>
        <p:spPr>
          <a:xfrm>
            <a:off x="2971800" y="3352680"/>
            <a:ext cx="2482920" cy="2590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in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all points of the for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=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of all points that pass through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the direction of the vecto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83808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395A-4DA0-44B4-A728-63F177013A5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rametric For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form is known as the parametric form of the 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obust and general than other 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ds to curves and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wo-dimensional for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icit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 = mx +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icit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x + by +c =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metric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x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(1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(1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83808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59DC-5083-4D9F-A5DD-5D2A32265A1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ays and Line Segmen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&gt;= 0, then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ra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leaving 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n the direction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we use two points to define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th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(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= Q +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R-Q)=Q+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R + (1-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Q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0&lt;=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&lt;=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we get all th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ints on th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oining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AN04F11"/>
          <p:cNvPicPr/>
          <p:nvPr/>
        </p:nvPicPr>
        <p:blipFill>
          <a:blip r:embed="rId1"/>
          <a:stretch/>
        </p:blipFill>
        <p:spPr>
          <a:xfrm>
            <a:off x="5638680" y="3352680"/>
            <a:ext cx="3048120" cy="2694240"/>
          </a:xfrm>
          <a:prstGeom prst="rect">
            <a:avLst/>
          </a:prstGeom>
          <a:ln w="0">
            <a:noFill/>
          </a:ln>
        </p:spPr>
      </p:pic>
      <p:sp>
        <p:nvSpPr>
          <p:cNvPr id="129" name="Footer Placeholder 5"/>
          <p:cNvSpPr/>
          <p:nvPr/>
        </p:nvSpPr>
        <p:spPr>
          <a:xfrm>
            <a:off x="83808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299C-4EA2-48FF-AC58-95AD9A13752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nvexit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 object is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convex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ff for any two points in the object all points on the line segment between these points are also in the obje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4"/>
          <p:cNvSpPr/>
          <p:nvPr/>
        </p:nvSpPr>
        <p:spPr>
          <a:xfrm>
            <a:off x="1828800" y="3429000"/>
            <a:ext cx="1981080" cy="2209680"/>
          </a:xfrm>
          <a:prstGeom prst="pi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5"/>
          <p:cNvSpPr/>
          <p:nvPr/>
        </p:nvSpPr>
        <p:spPr>
          <a:xfrm>
            <a:off x="4876920" y="3352680"/>
            <a:ext cx="2133360" cy="2743200"/>
          </a:xfrm>
          <a:prstGeom prst="pi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2438280" y="4114440"/>
            <a:ext cx="60984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 flipH="1">
            <a:off x="5562720" y="3581280"/>
            <a:ext cx="3045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25927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05956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717160" y="4800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5412240" y="3352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982160" y="58672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6172560" y="571500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conv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14"/>
          <p:cNvSpPr/>
          <p:nvPr/>
        </p:nvSpPr>
        <p:spPr>
          <a:xfrm>
            <a:off x="83808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FFE7-E37D-4634-8F85-631CF65F35C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ffine Sum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the “sum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=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+…..+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show by induction that this sum makes sense if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+…..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which case we have th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affine sum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f the points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…..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, in addition,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&gt;=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we have th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convex hul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…..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83808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08C4-39D2-449C-9CC2-F05F43A170F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nvex Hul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mallest convex object containing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…..P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med by “shrink wrapping” poi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AN04F13"/>
          <p:cNvPicPr/>
          <p:nvPr/>
        </p:nvPicPr>
        <p:blipFill>
          <a:blip r:embed="rId1"/>
          <a:stretch/>
        </p:blipFill>
        <p:spPr>
          <a:xfrm>
            <a:off x="1600200" y="2743200"/>
            <a:ext cx="5105520" cy="3560760"/>
          </a:xfrm>
          <a:prstGeom prst="rect">
            <a:avLst/>
          </a:prstGeom>
          <a:ln w="0">
            <a:noFill/>
          </a:ln>
        </p:spPr>
      </p:pic>
      <p:sp>
        <p:nvSpPr>
          <p:cNvPr id="152" name="Footer Placeholder 5"/>
          <p:cNvSpPr/>
          <p:nvPr/>
        </p:nvSpPr>
        <p:spPr>
          <a:xfrm>
            <a:off x="83808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48E9-5D27-4DE4-B03D-E249CD6A76B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urves and Surfa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urves are one parameter entities of the form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where the function is nonline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rfaces are formed from two-parameter functions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ar functions give planes and polyg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"/>
          <p:cNvSpPr/>
          <p:nvPr/>
        </p:nvSpPr>
        <p:spPr>
          <a:xfrm>
            <a:off x="1066680" y="4572000"/>
            <a:ext cx="2362320" cy="83808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831320" y="5486400"/>
            <a:ext cx="909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7"/>
          <p:cNvSpPr/>
          <p:nvPr/>
        </p:nvSpPr>
        <p:spPr>
          <a:xfrm>
            <a:off x="4343400" y="4419720"/>
            <a:ext cx="2743200" cy="1600200"/>
          </a:xfrm>
          <a:prstGeom prst="pi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6631200" y="5562720"/>
            <a:ext cx="1323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8"/>
          <p:cNvSpPr/>
          <p:nvPr/>
        </p:nvSpPr>
        <p:spPr>
          <a:xfrm>
            <a:off x="83808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E368-1AEE-459E-A6F1-F814DD2CAEB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eometr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8600" y="32767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83808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4F5B-6582-4498-9C4C-32549290CE9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lan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plane can be defined by a point and two vectors or by three poi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838080" y="548640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R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038480" y="541008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R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-R)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-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8"/>
          <p:cNvSpPr/>
          <p:nvPr/>
        </p:nvSpPr>
        <p:spPr>
          <a:xfrm flipV="1">
            <a:off x="1600200" y="2819520"/>
            <a:ext cx="1828800" cy="2286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9"/>
          <p:cNvSpPr/>
          <p:nvPr/>
        </p:nvSpPr>
        <p:spPr>
          <a:xfrm flipV="1">
            <a:off x="1600200" y="4495680"/>
            <a:ext cx="1752480" cy="609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0"/>
          <p:cNvSpPr/>
          <p:nvPr/>
        </p:nvSpPr>
        <p:spPr>
          <a:xfrm flipV="1">
            <a:off x="3352680" y="2895120"/>
            <a:ext cx="76320" cy="1600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50056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967040" y="324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99252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5"/>
          <p:cNvSpPr/>
          <p:nvPr/>
        </p:nvSpPr>
        <p:spPr>
          <a:xfrm flipV="1">
            <a:off x="4892760" y="2701800"/>
            <a:ext cx="1828800" cy="2286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6"/>
          <p:cNvSpPr/>
          <p:nvPr/>
        </p:nvSpPr>
        <p:spPr>
          <a:xfrm flipV="1">
            <a:off x="4892760" y="4377960"/>
            <a:ext cx="1752480" cy="609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7"/>
          <p:cNvSpPr/>
          <p:nvPr/>
        </p:nvSpPr>
        <p:spPr>
          <a:xfrm flipV="1">
            <a:off x="6645240" y="2777760"/>
            <a:ext cx="76320" cy="1600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6783840" y="2286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20"/>
          <p:cNvSpPr/>
          <p:nvPr/>
        </p:nvSpPr>
        <p:spPr>
          <a:xfrm>
            <a:off x="4800600" y="4952880"/>
            <a:ext cx="136440" cy="1368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4268880" y="47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6658560" y="423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23"/>
          <p:cNvSpPr/>
          <p:nvPr/>
        </p:nvSpPr>
        <p:spPr>
          <a:xfrm>
            <a:off x="1600200" y="5029200"/>
            <a:ext cx="136440" cy="136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24"/>
          <p:cNvSpPr/>
          <p:nvPr/>
        </p:nvSpPr>
        <p:spPr>
          <a:xfrm>
            <a:off x="6629400" y="4343400"/>
            <a:ext cx="136440" cy="136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25"/>
          <p:cNvSpPr/>
          <p:nvPr/>
        </p:nvSpPr>
        <p:spPr>
          <a:xfrm>
            <a:off x="6705720" y="2666880"/>
            <a:ext cx="136440" cy="1368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ooter Placeholder 22"/>
          <p:cNvSpPr/>
          <p:nvPr/>
        </p:nvSpPr>
        <p:spPr>
          <a:xfrm>
            <a:off x="83808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A4AB-23B5-4CA5-BB25-27DB41194CC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iangl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85" name="Picture 5" descr="AN04F16"/>
          <p:cNvPicPr/>
          <p:nvPr/>
        </p:nvPicPr>
        <p:blipFill>
          <a:blip r:embed="rId1"/>
          <a:stretch/>
        </p:blipFill>
        <p:spPr>
          <a:xfrm>
            <a:off x="1600200" y="1828800"/>
            <a:ext cx="5097600" cy="3875040"/>
          </a:xfrm>
          <a:prstGeom prst="rect">
            <a:avLst/>
          </a:prstGeom>
          <a:ln w="0">
            <a:noFill/>
          </a:ln>
        </p:spPr>
      </p:pic>
      <p:sp>
        <p:nvSpPr>
          <p:cNvPr id="186" name="Line 6"/>
          <p:cNvSpPr/>
          <p:nvPr/>
        </p:nvSpPr>
        <p:spPr>
          <a:xfrm>
            <a:off x="1447920" y="3733920"/>
            <a:ext cx="1828800" cy="12189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 flipH="1">
            <a:off x="5105520" y="3048120"/>
            <a:ext cx="1295280" cy="7617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31240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8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x sum of P an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5542200" y="2514600"/>
            <a:ext cx="34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x sum of 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1743480" y="5708520"/>
            <a:ext cx="55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0&lt;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1, we get all points in 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9"/>
          <p:cNvSpPr/>
          <p:nvPr/>
        </p:nvSpPr>
        <p:spPr>
          <a:xfrm>
            <a:off x="83808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arycentric Coordinat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iangle is convex so any point inside can be represented as an affine su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+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Q+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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&gt;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representation   is called the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barycentric coordinat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representation of 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2D21-9242-4430-955D-3F0C58116B9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83808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472F-CA91-4399-8BCC-E677D828794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AN04F17"/>
          <p:cNvPicPr/>
          <p:nvPr/>
        </p:nvPicPr>
        <p:blipFill>
          <a:blip r:embed="rId1"/>
          <a:stretch/>
        </p:blipFill>
        <p:spPr>
          <a:xfrm>
            <a:off x="4800600" y="3962520"/>
            <a:ext cx="3276720" cy="2657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Normal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three dimensional spaces, every plane has a vector n  perpendicular or orthogonal to it called th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rmal vec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om the two-point vector for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P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 we can use the cross product to find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= u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equivalen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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P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=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571680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49546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4269240" y="5943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ooter Placeholder 8"/>
          <p:cNvSpPr/>
          <p:nvPr/>
        </p:nvSpPr>
        <p:spPr>
          <a:xfrm>
            <a:off x="83808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DA74-CDA2-401E-A228-37A14BF0126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the elements of geomet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velop mathematical operations among them in a coordinate-free mann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fine basic primitiv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 seg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g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83808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BCFC-E5AF-42A8-9CC2-D9C7A5155C1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asic Elemen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metry is the study of the relationships among objects in an n-dimensional sp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computer graphics, we are interested in objects that exist in three dim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nt a minimum set of primitives from which we can build more sophisticated obje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will need three basic ele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83808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707C-6185-4C6C-8FC7-033BD703845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ordinate-Free Geometr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84680" indent="-184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learned simple geometry, most of us started with a Cartesia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s were at locations in spa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(x,y,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erived results by algebraic manipulations involving these coord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pproach was non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ly, points exist regardless of the location of an arbitrary coordinat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geometric results are independent of the coordinat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Euclidean geometry: two triangles are identical if two corresponding sides and the angle between them are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83808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193E-1DF9-4F4A-85E4-3BA97DD392A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cala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hree basic elements in geomet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ars, Vectors, 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alars can be defined as members of sets which can be combined by two operations (addition and multiplication) obeying some fundamental axioms (associativity, commutivity, inverse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s include the real and complex number systems under the ordinary rules with which we are famili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alars alone have no geometric propert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83808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0332-4F24-4E84-A56A-35D8595218B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ecto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hysical definition: a vector is a quantity with two attrib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s inclu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lo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ed line seg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important example for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map to other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 flipV="1">
            <a:off x="6711840" y="4454640"/>
            <a:ext cx="1143000" cy="1218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7316280" y="4952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6"/>
          <p:cNvSpPr/>
          <p:nvPr/>
        </p:nvSpPr>
        <p:spPr>
          <a:xfrm>
            <a:off x="83808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9E4C-CE9F-4CB8-A89F-61EC14CF38E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ector Oper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ery vector has an inver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magnitude but points in opposite dir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ery vector can be multiplied by a scal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re is a zero vec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ero magnitude, undefined ori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sum of any two vectors is a vec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head-to-tail axi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 flipV="1">
            <a:off x="996840" y="4987440"/>
            <a:ext cx="1143000" cy="1219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601280" y="5486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2590920" y="5028840"/>
            <a:ext cx="1143000" cy="12193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144240" y="5527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4368960" y="5222520"/>
            <a:ext cx="761760" cy="762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954320" y="5410080"/>
            <a:ext cx="5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 flipV="1">
            <a:off x="6338880" y="4987440"/>
            <a:ext cx="1143000" cy="1219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2503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 flipV="1">
            <a:off x="6400800" y="5866920"/>
            <a:ext cx="10666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 flipV="1">
            <a:off x="7467480" y="51055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7148520" y="590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7580520" y="5146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ooter Placeholder 16"/>
          <p:cNvSpPr/>
          <p:nvPr/>
        </p:nvSpPr>
        <p:spPr>
          <a:xfrm>
            <a:off x="83808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2C32-DC8B-4C4A-AB53-14D679DAF15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inear Vector Spa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thematical system for manipulating vecto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5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ar-vector multiplicatio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5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ctor-vector addition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pressions such a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=u+2w-3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ke sense in a vector sp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83808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3:41:00Z</dcterms:created>
  <dc:creator>Ed Angel</dc:creator>
  <dc:description/>
  <dc:language>en-US</dc:language>
  <cp:lastModifiedBy>Ed Angel</cp:lastModifiedBy>
  <dcterms:modified xsi:type="dcterms:W3CDTF">2014-03-31T17:46:03Z</dcterms:modified>
  <cp:revision>99</cp:revision>
  <dc:subject/>
  <dc:title>PowerPoint Presentation</dc:title>
</cp:coreProperties>
</file>