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BC7E-ACEF-46F3-99EB-8464976D3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AA40-910E-445A-A137-5C5B9E2A0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B3B8-251E-4794-A296-1928CF844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31F2-BFA3-4AC6-9DEC-04ADC4B08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2F90-3390-4039-AA47-39B7CAC57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34CD-82B8-4B6E-AAA3-D2E62FF6F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2981-C524-4D5D-911D-E9CF6D23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4D20-BFEC-4D23-9479-20E7C0C8E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2795-8503-438A-8134-6195FCB22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7C4F-3F5D-48D4-9BFD-0496A458C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CE2D-CE08-404B-AA01-897E89EBA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17CB-203B-4960-ABD0-22B395645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59EC-37AD-4CBE-9A51-90CA0F7E8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BC2A-ECF0-43C2-8D1F-1F8F2B342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190B-6344-452B-92A0-B926E3E47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89FA-BCE6-42CE-8DA9-E1E3E8C1A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4AFB-77C0-4105-A2E7-CE4E6CCC3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5DE6-E65D-47C1-82D0-4F9233997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E16A-AFDA-46EA-845F-6F15A8C22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05A3-CAA4-4C25-AEA3-D24D98E27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AF12-AA63-4EA2-BDF2-02206576A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59F7-1139-4852-ADD6-FD708E301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9ED-E374-48EB-8BA1-C3A736CB607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76BC-04BB-4478-9D94-CE40F90770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D6FD-31B1-4223-BC6B-8B903E631D7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Overview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523C-2A94-4AD9-A907-4E44AE18A3D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ine what happens between the vertex shader and the 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basic implementation strate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pp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 a sample algorithm for ea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5BCD-4AE1-4D42-8629-FE52A577A0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 end of the geometric pipeline, vertices have been assembled into primiti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clip out primitives that are outside the view frustu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s based on representing primitives by lists of ver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find which pixels can be affected by each primit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gment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sterization or scan con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6B1-2EB0-4372-9876-3EF33192B46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quired Task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p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sterization or scan conver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tasks deferred until fragment process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dden surface remov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alia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an07f03"/>
          <p:cNvPicPr/>
          <p:nvPr/>
        </p:nvPicPr>
        <p:blipFill>
          <a:blip r:embed="rId1"/>
          <a:stretch/>
        </p:blipFill>
        <p:spPr>
          <a:xfrm>
            <a:off x="228600" y="5410080"/>
            <a:ext cx="8763120" cy="693720"/>
          </a:xfrm>
          <a:prstGeom prst="rect">
            <a:avLst/>
          </a:prstGeom>
          <a:ln w="0">
            <a:noFill/>
          </a:ln>
        </p:spPr>
      </p:pic>
      <p:sp>
        <p:nvSpPr>
          <p:cNvPr id="70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9B0E-C9F8-42C3-BE02-CC8BFB26D51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Rasterization Meta Algorithm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y rendering method process every object and must assign a color to every pix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nk of rendering algorithms as two loo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 pix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order of these loops defines two strate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 ori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 ori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BD60-BECC-48CB-96DB-1B47DD32CA4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Object Space Approach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r every objec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determine which pixels it covers and shade these pix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peline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keep track of depths for HS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handle most global lighting calcu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entire framebuffer available at all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AE02-B5AB-4168-A3DC-F29DF8FD3EA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Image Space Approach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r every pixe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determine which object that projects on the pixel is closest to the viewer and compute the shade of this pix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y tracing paradig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all objects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tch Render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ide framebuffer into small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which objects affect each pa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in limited power devices such as cell ph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lgorithm Experim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e a framebuffer object and use render-to-texture to create a virtual framebuffer into which you can write individual pix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2EA3-4AB4-473D-93E5-EAEC9D3387D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7:59:47Z</dcterms:created>
  <dc:creator>Ed Angel</dc:creator>
  <dc:description/>
  <dc:language>en-US</dc:language>
  <cp:lastModifiedBy>Ed Angel</cp:lastModifiedBy>
  <dcterms:modified xsi:type="dcterms:W3CDTF">2014-03-31T17:57:47Z</dcterms:modified>
  <cp:revision>229</cp:revision>
  <dc:subject/>
  <dc:title>PowerPoint Presentation</dc:title>
</cp:coreProperties>
</file>