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DA742-32BF-4DBB-944E-8BAFB36AA3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9270A-DC85-401B-8631-9F4C9A3E4A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CA73E-442D-4527-AF10-1AEF6CAA37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0676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B7CEC-03FF-4B01-AE3C-3166D3934F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CDF0D-D108-4BD6-B7EF-176458DB42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BFE1B-2F5C-45C6-9C2E-DB96FA7B24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08C5B-B14E-40CF-8847-CD6B5B389B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43775-8C8E-4CE7-901E-7B5AE9A260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08C3B-C5EB-4C5A-8B0F-B4022787F1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54342-C502-4133-A003-21B4DFC60A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99C96-BC55-4B95-9C8D-02F639891E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852E0-275D-4B32-8CBE-E986820BCD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C1779-E9E5-4EF0-82ED-A0FB77BFAE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0676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8313B-CEE5-4A10-926C-4F6DBC961B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6EB04-0C50-44CD-AF91-D6841B335F9C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00440"/>
            <a:ext cx="7010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7660D-D56F-4E55-91F4-4026F8206015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ntroduction to Computer Graphics with WebGL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543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nding Director, Arts, Research, Technology and Science Laborator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457200" y="640080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72826-84EF-403B-BBDB-7B7998AF2FD6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333cc"/>
                </a:solidFill>
                <a:latin typeface="Arial"/>
              </a:rPr>
              <a:t>Oblique Projections</a:t>
            </a:r>
            <a:endParaRPr b="1" lang="en-US" sz="41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182520" indent="-182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penGL projection functions cannot produce general parallel projections such 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 if we look at the example of the cube it appears that the cube has been shea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lique Projection = Shear + Orthogonal Proj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3429000" y="2666880"/>
            <a:ext cx="1447920" cy="1295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Footer Placeholder 5"/>
          <p:cNvSpPr/>
          <p:nvPr/>
        </p:nvSpPr>
        <p:spPr>
          <a:xfrm>
            <a:off x="457200" y="640080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6DE55-A2C7-47D6-9A02-8C6123B90196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333cc"/>
                </a:solidFill>
                <a:latin typeface="Arial"/>
              </a:rPr>
              <a:t>General Shear</a:t>
            </a:r>
            <a:endParaRPr b="1" lang="en-US" sz="41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20" name="Picture 5" descr="C:\BOOK\OpenGL\Paul Final\Art\jpeg\AN05F36.jpg"/>
          <p:cNvPicPr/>
          <p:nvPr/>
        </p:nvPicPr>
        <p:blipFill>
          <a:blip r:embed="rId1"/>
          <a:stretch/>
        </p:blipFill>
        <p:spPr>
          <a:xfrm>
            <a:off x="1600200" y="1447920"/>
            <a:ext cx="4861080" cy="3051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C:\BOOK\OpenGL\Paul Final\Art\jpeg\AN05F37.jpg"/>
          <p:cNvPicPr/>
          <p:nvPr/>
        </p:nvPicPr>
        <p:blipFill>
          <a:blip r:embed="rId2"/>
          <a:stretch/>
        </p:blipFill>
        <p:spPr>
          <a:xfrm>
            <a:off x="2666880" y="4114800"/>
            <a:ext cx="4172040" cy="219564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8"/>
          <p:cNvSpPr/>
          <p:nvPr/>
        </p:nvSpPr>
        <p:spPr>
          <a:xfrm>
            <a:off x="1220040" y="525780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476760" y="5486400"/>
            <a:ext cx="14475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188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de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ooter Placeholder 7"/>
          <p:cNvSpPr/>
          <p:nvPr/>
        </p:nvSpPr>
        <p:spPr>
          <a:xfrm>
            <a:off x="457200" y="640080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8F547-ED1E-4C51-96F8-06CE010D017A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333cc"/>
                </a:solidFill>
                <a:latin typeface="Arial"/>
              </a:rPr>
              <a:t>Shear Matrix</a:t>
            </a:r>
            <a:endParaRPr b="1" lang="en-US" sz="41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xy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hear (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values unchanged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jection matrix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General case: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819520" y="2209680"/>
                <a:ext cx="2673360" cy="19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t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t</m:t>
                              </m:r>
                              <m:r>
                                <m:t xml:space="preserve">φ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9" name="Text Box 5"/>
          <p:cNvSpPr/>
          <p:nvPr/>
        </p:nvSpPr>
        <p:spPr>
          <a:xfrm>
            <a:off x="1394280" y="2778120"/>
            <a:ext cx="134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2528280" y="4952880"/>
            <a:ext cx="225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or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3341880" y="5562720"/>
            <a:ext cx="2623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or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Footer Placeholder 8"/>
          <p:cNvSpPr/>
          <p:nvPr/>
        </p:nvSpPr>
        <p:spPr>
          <a:xfrm>
            <a:off x="457200" y="640080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6A6F6-B9F2-4106-BB02-78C2D38AEEF9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333cc"/>
                </a:solidFill>
                <a:latin typeface="Arial"/>
              </a:rPr>
              <a:t>Equivalency</a:t>
            </a:r>
            <a:endParaRPr b="1" lang="en-US" sz="41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C:\BOOK\OpenGL\Paul Final\Art\jpeg\AN05F38.jpg"/>
          <p:cNvPicPr/>
          <p:nvPr/>
        </p:nvPicPr>
        <p:blipFill>
          <a:blip r:embed="rId1"/>
          <a:stretch/>
        </p:blipFill>
        <p:spPr>
          <a:xfrm>
            <a:off x="2286000" y="2286000"/>
            <a:ext cx="4057560" cy="3343320"/>
          </a:xfrm>
          <a:prstGeom prst="rect">
            <a:avLst/>
          </a:prstGeom>
          <a:ln w="0">
            <a:noFill/>
          </a:ln>
        </p:spPr>
      </p:pic>
      <p:sp>
        <p:nvSpPr>
          <p:cNvPr id="137" name="Footer Placeholder 5"/>
          <p:cNvSpPr/>
          <p:nvPr/>
        </p:nvSpPr>
        <p:spPr>
          <a:xfrm>
            <a:off x="457200" y="640080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35C72-89BD-46BB-A1C0-6D0921A2819B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333cc"/>
                </a:solidFill>
                <a:latin typeface="Arial"/>
              </a:rPr>
              <a:t>Effect on Clipping</a:t>
            </a:r>
            <a:endParaRPr b="1" lang="en-US" sz="41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projection matrix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STH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ransforms the original clipping volume to the default clipping volum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5"/>
          <p:cNvSpPr/>
          <p:nvPr/>
        </p:nvSpPr>
        <p:spPr>
          <a:xfrm>
            <a:off x="1371600" y="3657600"/>
            <a:ext cx="2438280" cy="1219320"/>
          </a:xfrm>
          <a:prstGeom prst="parallelogram">
            <a:avLst>
              <a:gd name="adj" fmla="val 499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6"/>
          <p:cNvSpPr/>
          <p:nvPr/>
        </p:nvSpPr>
        <p:spPr>
          <a:xfrm>
            <a:off x="4267080" y="4191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5410080" y="3581280"/>
            <a:ext cx="1676520" cy="1676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2362320" y="4114800"/>
            <a:ext cx="304560" cy="3049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9"/>
          <p:cNvSpPr/>
          <p:nvPr/>
        </p:nvSpPr>
        <p:spPr>
          <a:xfrm rot="15363000">
            <a:off x="5910120" y="3995280"/>
            <a:ext cx="677880" cy="611280"/>
          </a:xfrm>
          <a:prstGeom prst="parallelogram">
            <a:avLst>
              <a:gd name="adj" fmla="val 26225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3963240" y="3048120"/>
            <a:ext cx="123984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1"/>
          <p:cNvSpPr/>
          <p:nvPr/>
        </p:nvSpPr>
        <p:spPr>
          <a:xfrm flipH="1">
            <a:off x="914400" y="3581280"/>
            <a:ext cx="838080" cy="167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2"/>
          <p:cNvSpPr/>
          <p:nvPr/>
        </p:nvSpPr>
        <p:spPr>
          <a:xfrm>
            <a:off x="689040" y="373392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7166160" y="388620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14"/>
          <p:cNvSpPr/>
          <p:nvPr/>
        </p:nvSpPr>
        <p:spPr>
          <a:xfrm>
            <a:off x="8077320" y="335268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15"/>
          <p:cNvSpPr/>
          <p:nvPr/>
        </p:nvSpPr>
        <p:spPr>
          <a:xfrm flipH="1" flipV="1">
            <a:off x="2514600" y="4952520"/>
            <a:ext cx="457200" cy="68580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16"/>
          <p:cNvSpPr/>
          <p:nvPr/>
        </p:nvSpPr>
        <p:spPr>
          <a:xfrm>
            <a:off x="2250720" y="5603760"/>
            <a:ext cx="14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17"/>
          <p:cNvSpPr/>
          <p:nvPr/>
        </p:nvSpPr>
        <p:spPr>
          <a:xfrm flipH="1" flipV="1">
            <a:off x="3276720" y="3733560"/>
            <a:ext cx="380880" cy="990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8"/>
          <p:cNvSpPr/>
          <p:nvPr/>
        </p:nvSpPr>
        <p:spPr>
          <a:xfrm>
            <a:off x="3352320" y="4800600"/>
            <a:ext cx="12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r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19"/>
          <p:cNvSpPr/>
          <p:nvPr/>
        </p:nvSpPr>
        <p:spPr>
          <a:xfrm>
            <a:off x="2514600" y="3429000"/>
            <a:ext cx="0" cy="60948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0"/>
          <p:cNvSpPr/>
          <p:nvPr/>
        </p:nvSpPr>
        <p:spPr>
          <a:xfrm>
            <a:off x="2057400" y="297180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22"/>
          <p:cNvSpPr/>
          <p:nvPr/>
        </p:nvSpPr>
        <p:spPr>
          <a:xfrm flipV="1">
            <a:off x="1295280" y="4952880"/>
            <a:ext cx="609840" cy="60984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23"/>
          <p:cNvSpPr/>
          <p:nvPr/>
        </p:nvSpPr>
        <p:spPr>
          <a:xfrm>
            <a:off x="761760" y="5486400"/>
            <a:ext cx="11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p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24"/>
          <p:cNvSpPr/>
          <p:nvPr/>
        </p:nvSpPr>
        <p:spPr>
          <a:xfrm>
            <a:off x="5792400" y="5257800"/>
            <a:ext cx="8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25"/>
          <p:cNvSpPr/>
          <p:nvPr/>
        </p:nvSpPr>
        <p:spPr>
          <a:xfrm>
            <a:off x="5881320" y="3048120"/>
            <a:ext cx="8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26"/>
          <p:cNvSpPr/>
          <p:nvPr/>
        </p:nvSpPr>
        <p:spPr>
          <a:xfrm>
            <a:off x="4488480" y="4343400"/>
            <a:ext cx="8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27"/>
          <p:cNvSpPr/>
          <p:nvPr/>
        </p:nvSpPr>
        <p:spPr>
          <a:xfrm>
            <a:off x="7163640" y="464832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28"/>
          <p:cNvSpPr/>
          <p:nvPr/>
        </p:nvSpPr>
        <p:spPr>
          <a:xfrm flipH="1" flipV="1">
            <a:off x="6552720" y="4648320"/>
            <a:ext cx="381240" cy="121896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29"/>
          <p:cNvSpPr/>
          <p:nvPr/>
        </p:nvSpPr>
        <p:spPr>
          <a:xfrm>
            <a:off x="5740200" y="5715000"/>
            <a:ext cx="251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orted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rojects correct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Footer Placeholder 28"/>
          <p:cNvSpPr/>
          <p:nvPr/>
        </p:nvSpPr>
        <p:spPr>
          <a:xfrm>
            <a:off x="457200" y="640080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0FB4D-800E-416E-BCFB-2DA93CF4DF5F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Orthogonal Projection Matric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90360" y="3276720"/>
            <a:ext cx="73911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457200" y="640080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C5CDF-CF97-4ED8-8CC3-F1F78419D097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62485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Objectiv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erive the projection matrices used for standard orthogonal project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troduce oblique project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troduce projection normaliza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457200" y="640080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CB3B1-0597-4B91-9708-E7779F89427A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333cc"/>
                </a:solidFill>
                <a:latin typeface="Arial"/>
              </a:rPr>
              <a:t>Normalization</a:t>
            </a:r>
            <a:endParaRPr b="1" lang="en-US" sz="41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ather than derive a different projection matrix for each type of projection, we can convert all projections to orthogonal projections with the default view volum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s strategy allows us to use standard transformations in the pipeline and makes for efficient clipping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ooter Placeholder 4"/>
          <p:cNvSpPr/>
          <p:nvPr/>
        </p:nvSpPr>
        <p:spPr>
          <a:xfrm>
            <a:off x="457200" y="640080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519EC-A0BD-4CF7-9364-049ED8484414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333cc"/>
                </a:solidFill>
                <a:latin typeface="Arial"/>
              </a:rPr>
              <a:t>Pipeline View</a:t>
            </a:r>
            <a:endParaRPr b="1" lang="en-US" sz="41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842400" y="2286000"/>
            <a:ext cx="1980720" cy="8254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3661560" y="2286000"/>
            <a:ext cx="1980720" cy="8254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6253560" y="2286000"/>
            <a:ext cx="1572120" cy="8254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2977560" y="4800600"/>
            <a:ext cx="1181880" cy="4597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p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5186520" y="4800600"/>
            <a:ext cx="1419840" cy="4597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10"/>
          <p:cNvSpPr/>
          <p:nvPr/>
        </p:nvSpPr>
        <p:spPr>
          <a:xfrm>
            <a:off x="2819520" y="26668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11"/>
          <p:cNvSpPr/>
          <p:nvPr/>
        </p:nvSpPr>
        <p:spPr>
          <a:xfrm>
            <a:off x="5638680" y="26668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12"/>
          <p:cNvSpPr/>
          <p:nvPr/>
        </p:nvSpPr>
        <p:spPr>
          <a:xfrm>
            <a:off x="4191120" y="50292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13"/>
          <p:cNvSpPr/>
          <p:nvPr/>
        </p:nvSpPr>
        <p:spPr>
          <a:xfrm>
            <a:off x="7848720" y="2666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4"/>
          <p:cNvSpPr/>
          <p:nvPr/>
        </p:nvSpPr>
        <p:spPr>
          <a:xfrm>
            <a:off x="8077320" y="266688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15"/>
          <p:cNvSpPr/>
          <p:nvPr/>
        </p:nvSpPr>
        <p:spPr>
          <a:xfrm flipH="1">
            <a:off x="2133720" y="449568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16"/>
          <p:cNvSpPr/>
          <p:nvPr/>
        </p:nvSpPr>
        <p:spPr>
          <a:xfrm>
            <a:off x="2133720" y="44956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17"/>
          <p:cNvSpPr/>
          <p:nvPr/>
        </p:nvSpPr>
        <p:spPr>
          <a:xfrm>
            <a:off x="2133720" y="50292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18"/>
          <p:cNvSpPr/>
          <p:nvPr/>
        </p:nvSpPr>
        <p:spPr>
          <a:xfrm>
            <a:off x="6629400" y="5029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19"/>
          <p:cNvSpPr/>
          <p:nvPr/>
        </p:nvSpPr>
        <p:spPr>
          <a:xfrm flipH="1">
            <a:off x="2361960" y="3200400"/>
            <a:ext cx="1904760" cy="6858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20"/>
          <p:cNvSpPr/>
          <p:nvPr/>
        </p:nvSpPr>
        <p:spPr>
          <a:xfrm flipH="1">
            <a:off x="2209680" y="3200400"/>
            <a:ext cx="152640" cy="457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21"/>
          <p:cNvSpPr/>
          <p:nvPr/>
        </p:nvSpPr>
        <p:spPr>
          <a:xfrm>
            <a:off x="838080" y="365760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sing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22"/>
          <p:cNvSpPr/>
          <p:nvPr/>
        </p:nvSpPr>
        <p:spPr>
          <a:xfrm>
            <a:off x="6353640" y="3200400"/>
            <a:ext cx="13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23"/>
          <p:cNvSpPr/>
          <p:nvPr/>
        </p:nvSpPr>
        <p:spPr>
          <a:xfrm>
            <a:off x="1902240" y="5562720"/>
            <a:ext cx="26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ainst default 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24"/>
          <p:cNvSpPr/>
          <p:nvPr/>
        </p:nvSpPr>
        <p:spPr>
          <a:xfrm>
            <a:off x="5286960" y="5410080"/>
            <a:ext cx="13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Footer Placeholder 23"/>
          <p:cNvSpPr/>
          <p:nvPr/>
        </p:nvSpPr>
        <p:spPr>
          <a:xfrm>
            <a:off x="457200" y="640080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436EC-C713-41D1-A00A-7565DDBD3C30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333cc"/>
                </a:solidFill>
                <a:latin typeface="Arial"/>
              </a:rPr>
              <a:t>Notes</a:t>
            </a:r>
            <a:endParaRPr b="1" lang="en-US" sz="41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e stay in four-dimensional homogeneous coordinates through both the modelview and projection transformat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th these transformations are nonsing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fault to identity matrices (orthogonal view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ormalization lets us clip against simple cube regardless of type of projec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elay final projection until en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ortant for hidden-surface removal to retain depth information as long as possib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457200" y="640080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F97AF-AAE5-4056-8325-EE8365461A8A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333cc"/>
                </a:solidFill>
                <a:latin typeface="Arial"/>
              </a:rPr>
              <a:t>Orthogonal Normalization</a:t>
            </a:r>
            <a:endParaRPr b="1" lang="en-US" sz="41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ortho(left,right,bottom,top,near,far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C:\BOOK\OpenGL\Paul Final\Art\jpeg\AN05F33.jpg"/>
          <p:cNvPicPr/>
          <p:nvPr/>
        </p:nvPicPr>
        <p:blipFill>
          <a:blip r:embed="rId1"/>
          <a:stretch/>
        </p:blipFill>
        <p:spPr>
          <a:xfrm>
            <a:off x="990720" y="3276720"/>
            <a:ext cx="6325920" cy="237168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1098000" y="2362320"/>
            <a:ext cx="633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iz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ransformation to conv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ed clipping volume to defa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ooter Placeholder 6"/>
          <p:cNvSpPr/>
          <p:nvPr/>
        </p:nvSpPr>
        <p:spPr>
          <a:xfrm>
            <a:off x="457200" y="640080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5E4CF-12CF-4ED3-A361-93547A5B8B2A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333cc"/>
                </a:solidFill>
                <a:latin typeface="Arial"/>
              </a:rPr>
              <a:t>Orthogonal Matrix</a:t>
            </a:r>
            <a:endParaRPr b="1" lang="en-US" sz="41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wo step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ve center to orig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-(left+right)/2, -(bottom+top)/2,(near+far)/2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to have sides of length 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(2/(left-right),2/(top-bottom),2/(near-far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878200" y="3989520"/>
                <a:ext cx="5294160" cy="19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right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left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right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left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right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left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op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ottom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op</m:t>
                                  </m:r>
                                  <m:r>
                                    <m:t xml:space="preserve">+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ottom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op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ottom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ear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far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far</m:t>
                                  </m:r>
                                  <m:r>
                                    <m:t xml:space="preserve">+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ear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far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ear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04" name="Text Box 8"/>
          <p:cNvSpPr/>
          <p:nvPr/>
        </p:nvSpPr>
        <p:spPr>
          <a:xfrm>
            <a:off x="1449360" y="4800600"/>
            <a:ext cx="13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Footer Placeholder 7"/>
          <p:cNvSpPr/>
          <p:nvPr/>
        </p:nvSpPr>
        <p:spPr>
          <a:xfrm>
            <a:off x="457200" y="640080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0E7AD-8A46-41E6-95B2-360332D97FFB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333cc"/>
                </a:solidFill>
                <a:latin typeface="Arial"/>
              </a:rPr>
              <a:t>Final Projection</a:t>
            </a:r>
            <a:endParaRPr b="1" lang="en-US" sz="41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t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0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quivalent to the homogeneous coordinate transform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ence, general orthogonal projection in 4D 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895480" y="2971800"/>
                <a:ext cx="157824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0" name="Text Box 5"/>
          <p:cNvSpPr/>
          <p:nvPr/>
        </p:nvSpPr>
        <p:spPr>
          <a:xfrm>
            <a:off x="1746720" y="3546360"/>
            <a:ext cx="1078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or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834120" y="5486400"/>
            <a:ext cx="163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 =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ort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7"/>
          <p:cNvSpPr/>
          <p:nvPr/>
        </p:nvSpPr>
        <p:spPr>
          <a:xfrm>
            <a:off x="457200" y="640080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3T00:58:26Z</dcterms:created>
  <dc:creator>Ed Angel</dc:creator>
  <dc:description/>
  <dc:language>en-US</dc:language>
  <cp:lastModifiedBy>Ed Angel</cp:lastModifiedBy>
  <dcterms:modified xsi:type="dcterms:W3CDTF">2014-03-31T17:49:57Z</dcterms:modified>
  <cp:revision>150</cp:revision>
  <dc:subject/>
  <dc:title>PowerPoint Presentation</dc:title>
</cp:coreProperties>
</file>