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56D-DFF8-481C-851F-81D2D727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91E-6F8B-496A-9A23-D8AA6127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2A00-5C17-4046-855A-B1B59B41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6E3-7430-4E7B-80D5-3F0D14AE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6087-EAF2-4670-A7F1-BAEB7C95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EF8A-EC9A-4AED-9942-918A3B2F2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D13-B252-4AB2-A440-4FCD6089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BACC-6076-486C-9E8D-E3D76F29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966-F214-4A24-8DFB-4AD987C9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807-CB30-4CCA-ACE5-CAABCE96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9DF-BDC4-4080-B451-AB8EEEE0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3850-516D-4B60-9AE2-70CC075E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ED8D-A428-4F66-9B78-FE693A90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E154-8580-453E-A391-DCA93CBF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324-67F8-4A22-9076-5E0A91BE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E928-5C13-4287-A60A-5E725BD1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2BC-D3AD-4E40-8DE3-2F668F2F8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027-F13F-4CC4-A044-0C9E3AF7A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A70C-F2BE-4F05-BFB7-23103ABBB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199A-AFDB-4546-87CB-7DCDC6D05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A53A-5A81-4C83-9CC7-CD0E1F7F1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6FB3-80FA-48AA-9DD7-CBA26CED4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8375-F4B9-4F8C-85FD-5F8AAAA29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358D-85ED-4675-BC2D-F0D90E06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5DEA-B12B-418B-8A10-61D19973B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6AEC-3B46-444A-8A63-BDB1422D2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CCA1-B76C-4B44-97F0-8A2A78C22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00D8-88CB-417C-8327-18002D0C8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2B4B-F1CC-44FD-A6ED-1187C8D5C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15B-AD70-4DF0-86FA-6B25FE2105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D5B-CA20-4D32-BC30-3A88C49CE0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ized Shadow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was OK for shadows on a single fla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with geometry shader we can have the shader create the second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andle shadows on gener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 a variety of other methods based on same basic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pursue methods based on projective te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F7B-DCC8-47CC-9B90-AD2C936DD0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Based Ligh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project a texture onto the surface in which case the are treating the texture as a “slide projector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technique the basis of projective textures and image based light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rted in desktop OpenGL and GLSL through four dimensional texture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yet in WebG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0D0C-08E4-41B9-A305-2B389C54D3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nder a scene from a light source, the depth buffer will contain the distances from the source to nearest lit fra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tore these depths in a texture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th ma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dow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though we don’t care about the image in the shadow map, if we render with some light, anything lit is not in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hadow map for each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B41-3143-49E2-9A3D-EA18F124A1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Content Placeholder 4" descr="shadowmap.eps"/>
          <p:cNvPicPr/>
          <p:nvPr/>
        </p:nvPicPr>
        <p:blipFill>
          <a:blip r:embed="rId1"/>
          <a:srcRect l="-37533" t="0" r="-37533" b="0"/>
          <a:stretch/>
        </p:blipFill>
        <p:spPr>
          <a:xfrm>
            <a:off x="685800" y="16002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2876-4785-4F6C-A731-D58443504C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inal Rend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uring the final rendering we compare the distance from the fragment to the light source with the distance in the shadow m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 depth in the shadow map is less than the distance from the fragment to the source the fragment is in shadow (from this sourc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wise we use the rendered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92D-E064-45B6-980D-4630713337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multiple rendering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look at render-to-texture late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s us a method to save the results of a rendering as a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all work done in th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083-769A-477C-930C-3AA01E3151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Volum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AFA-2CF4-45CB-937C-5B7C89E242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5"/>
          <p:cNvSpPr/>
          <p:nvPr/>
        </p:nvSpPr>
        <p:spPr>
          <a:xfrm flipV="1">
            <a:off x="3352680" y="2971800"/>
            <a:ext cx="342900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6"/>
          <p:cNvSpPr/>
          <p:nvPr/>
        </p:nvSpPr>
        <p:spPr>
          <a:xfrm flipV="1">
            <a:off x="3351960" y="2057400"/>
            <a:ext cx="221004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7"/>
          <p:cNvSpPr/>
          <p:nvPr/>
        </p:nvSpPr>
        <p:spPr>
          <a:xfrm flipV="1">
            <a:off x="3352680" y="2285640"/>
            <a:ext cx="281952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8"/>
          <p:cNvSpPr/>
          <p:nvPr/>
        </p:nvSpPr>
        <p:spPr>
          <a:xfrm flipV="1">
            <a:off x="3352680" y="1981080"/>
            <a:ext cx="137160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4114800" y="3505320"/>
            <a:ext cx="9144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72000" y="2362320"/>
            <a:ext cx="15238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ight Triangle 17"/>
          <p:cNvSpPr/>
          <p:nvPr/>
        </p:nvSpPr>
        <p:spPr>
          <a:xfrm>
            <a:off x="3124080" y="2286000"/>
            <a:ext cx="457200" cy="53352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9"/>
          <p:cNvSpPr/>
          <p:nvPr/>
        </p:nvSpPr>
        <p:spPr>
          <a:xfrm>
            <a:off x="2514600" y="1981080"/>
            <a:ext cx="327672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2"/>
          <p:cNvSpPr/>
          <p:nvPr/>
        </p:nvSpPr>
        <p:spPr>
          <a:xfrm>
            <a:off x="2513880" y="1981080"/>
            <a:ext cx="198108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24"/>
          <p:cNvSpPr/>
          <p:nvPr/>
        </p:nvSpPr>
        <p:spPr>
          <a:xfrm>
            <a:off x="2514600" y="1981080"/>
            <a:ext cx="266688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768960" y="16765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2820600" y="5486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5497200" y="40384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lipping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6410880" y="243828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clipping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1001520" y="36576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ow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Straight Arrow Connector 31"/>
          <p:cNvCxnSpPr>
            <a:stCxn id="127" idx="3"/>
          </p:cNvCxnSpPr>
          <p:nvPr/>
        </p:nvCxnSpPr>
        <p:spPr>
          <a:xfrm flipV="1">
            <a:off x="3115800" y="3276000"/>
            <a:ext cx="847080" cy="611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Footer Placeholder 19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ECA-B0BD-48BA-B9E1-F6D5166646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B2C-0A9D-4904-B151-6D790593A1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Shadow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ive Shado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ow Ma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ow Volu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lashlight in the Eye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do we not see shadows in a real scen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only light source is a point source at the eye or center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dows are behind objects and not vi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ows are a global rendering iss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urface visible from a 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obscured by other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D5B-8E25-4F8C-B652-0950048796E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s in Pipeline Ren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shadows are generated automatically by a ray trac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ler rays will detect if no light reaches a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all objects to be availa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line renderers work an object at a time so shadows are not automa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some tricks: projective sha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rendering: shadow maps and shadow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0182-6FE4-4433-8304-4A59EE2F6E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ve Shadow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ldest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flight simulators to provide visual c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ion of a polygon is a polygon called a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hadow polyg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n a point light source and a polygon, the vertices of the shadow polygon are the projections of the original polygon’s vertices from a point source onto a su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8B0-A7E8-4173-960F-E757D30FCB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Polyg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Content Placeholder 5" descr="AN04F45.jpg"/>
          <p:cNvPicPr/>
          <p:nvPr/>
        </p:nvPicPr>
        <p:blipFill>
          <a:blip r:embed="rId1"/>
          <a:srcRect l="-50695" t="0" r="-50695" b="0"/>
          <a:stretch/>
        </p:blipFill>
        <p:spPr>
          <a:xfrm>
            <a:off x="685800" y="16002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7548-8BDC-4718-BF73-B0DDCCEB80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Shadow Verte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t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at (x, y,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imple case of shadow projected onto ground at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source to origin with T(-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pective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678-311A-43FD-9BB7-E3AF4A6E7E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105520" y="4267080"/>
                <a:ext cx="243828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Footer Placeholder 5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Proces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two identical triangles and their colors on GPU (black for shadow triang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two model view matrices as uni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model view matrix for original tri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 original tri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second model view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 shadow tri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575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e shadow triangle undergoes two transform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483480">
              <a:spcBef>
                <a:spcPts val="575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e hidden surface removal takes care of depth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5141-269D-4A90-B6BF-1865C4EC86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57200" y="6400800"/>
            <a:ext cx="670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20:01:52Z</dcterms:created>
  <dc:creator>Ed Angel</dc:creator>
  <dc:description/>
  <dc:language>en-US</dc:language>
  <cp:lastModifiedBy>Ed Angel</cp:lastModifiedBy>
  <dcterms:modified xsi:type="dcterms:W3CDTF">2014-03-31T17:50:48Z</dcterms:modified>
  <cp:revision>219</cp:revision>
  <dc:subject/>
  <dc:title>PowerPoint Presentation</dc:title>
</cp:coreProperties>
</file>