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20F5-85A6-4AB5-A537-897F2825F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32AE-8F1C-4472-AF6D-A5C8162A0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161F-993B-4A9D-97E1-1D37CA0CA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E11C-2BF8-4ED2-B2A6-662FEFE41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F80A-537B-4A65-9390-851387BB5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C060-E5A3-434A-A695-AC1AA81CA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4FAF-A330-4B31-BD0E-F31B52841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36FB-F5B4-41DE-AD71-4C7117F04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6A59-38AB-4D49-AB02-1E10D01F9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71BF-9AB2-497C-905B-AAED2FF2F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891A-71EB-4016-9A3E-A65DE507E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376C-73B7-412D-BCD4-57CD759F6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B358-EFFB-483C-B790-4BF98E189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A30F-B158-4747-B792-4A3AC1680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4702-8CDA-4F18-B4E3-CD25E58C3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EFF50-5D9F-4E4E-9DDB-C850B6A43A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2CA08-61B9-4D5F-B01B-C1E0F8F637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A2C28-2D0A-4758-A3A3-0FE9421C90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E5D9A-4F56-4DFC-AB43-25DAA79288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292A5-24DD-46FA-9D38-0B68935D23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5D836-F31B-4D15-B128-38293458EE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D0303-1D7B-4E6A-9A40-D1F55E1783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874E2-9763-42BE-BED0-71C8C93CD6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CEA13-8DB5-4276-899E-C27D1D6D81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65A9B-7813-4992-8A19-A25FB4FCB8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624B3-19F3-4EB5-BFE9-E6B7D6BB2B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AD539-6BE2-494F-B077-D10A59D71C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7BC3-BF67-4F26-9EC2-C4901AFC2EE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0044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C5CB-A661-4A91-9205-A5D3FF63312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Menu Listene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E2EA-6105-47B4-8696-D1661645AFA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495360" y="1523880"/>
            <a:ext cx="815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var m = document.getElementById("mymenu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m.addEventListener("click", function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witch (m.selectedIndex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case 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direction = !direc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case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delay /= 2.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case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delay *= 2.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}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Using keydown Even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2414-955F-4CFD-954C-9D9F576E5C7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304920" y="1752480"/>
            <a:ext cx="8458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window.addEventListener("keydown", function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witch (event.keyCode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case 49: // ’1’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direction = !direc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case 50: // ’2’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delay /= 2.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case 51: // ’3’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delay *= 2.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}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Don’t Know Unico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A50C-0E4F-4EE2-864E-82E2D701612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609480" y="1595520"/>
            <a:ext cx="739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window.onkeydown = function(event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var key = String.fromCharCode(event.keyCod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witch (key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case ’1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direction = !direc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case ’2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delay /= 2.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case ’3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delay *= 2.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}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lider Elemen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uts slider on pa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ve it an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i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ifi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ve it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minimum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maximum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ve it a step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siz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ed to generate an ev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ve it an initial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val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3100" spc="-1" strike="noStrike">
                <a:solidFill>
                  <a:srgbClr val="32946a"/>
                </a:solidFill>
                <a:latin typeface="Arial"/>
              </a:rPr>
              <a:t>div</a:t>
            </a:r>
            <a:r>
              <a:rPr b="0" lang="en-US" sz="31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ag to put below canv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ABD5-4FCD-43C5-AB24-BE88347773B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914400" y="4724280"/>
            <a:ext cx="624852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&lt;div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speed 0 &lt;input id="slide" type="range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min="0" max="100" step="10" value="50"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100 &lt;/div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5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nchange Event Listene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772400" cy="472464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D387-E151-401F-9163-2E8B89E4159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762120" y="22860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document.getElementById("slide").onchang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function() { delay = event.srcElement.value; 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ooter Placeholder 5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1BCB-F3F7-40A2-A852-CA0AC1FDD45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Working with Callback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62120" y="32767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6882-BC9C-49AF-A261-0627C65B461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248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arn to build interactive programs using event listen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t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n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ha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dding a Butt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t’s add a button to control the rotation direction for our rotating cub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 the render function we can use a var direction which is true or false to add or subtract a constant to the ang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EFEE-1C26-4CA0-9433-0D86008395C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1447920" y="4191120"/>
            <a:ext cx="594360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var direction = true; // global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// in render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if(direction) theta += 0.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else theta -= 0.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5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he Butt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173160" indent="-173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 the HTML fi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20200" indent="-17352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s HTML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butto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200" indent="-173520">
              <a:spcBef>
                <a:spcPts val="649"/>
              </a:spcBef>
              <a:buClr>
                <a:srgbClr val="0000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id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ves an identifier we can use in JS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200" indent="-17352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xt “Change Rotation Direction” displayed in butt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ing on button generates a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lick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te we are using default style and could use CSS or jQuery to get a prettier butt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FD26-52D2-4291-BA17-86EAB0792B4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380880" y="213372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button id="DirectionButton"&gt;Change Rotation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/butto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ooter Placeholder 5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Button Event Listene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still need to define the listen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istener and the event occurs but is igno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wo forms for event listener in JS fi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1390-91DF-4A04-91FD-5461B64009A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533520" y="3352680"/>
            <a:ext cx="807696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var myButton = document.getElementById("DirectionButto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myButton.addEventListener("click", function(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direction = !direc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}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457200" y="5486400"/>
            <a:ext cx="81532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document.getElementById("DirectionButton").onclick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function() { direction = !direction; 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ooter Placeholder 6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nclick Variant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772400" cy="4724640"/>
          </a:xfrm>
          <a:prstGeom prst="rect">
            <a:avLst/>
          </a:prstGeom>
          <a:ln w="0">
            <a:noFill/>
          </a:ln>
        </p:spPr>
      </p:pic>
      <p:sp>
        <p:nvSpPr>
          <p:cNvPr id="8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4B1D-18AA-4672-921F-F7BAA56F5E5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533520" y="1981080"/>
            <a:ext cx="76197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myButton.addEventListener("click", function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if (event.button == 0) { direction = !direction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}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533520" y="3657600"/>
            <a:ext cx="7772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myButton.addEventListener("click", function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if (event.shiftKey == 0) { direction = !direction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}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533520" y="5486400"/>
            <a:ext cx="7391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button onclick="direction = !direction"&gt;&lt;/butto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ooter Placeholder 7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ntroling Rotation Speed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55B9-04EE-446C-BF38-65420D6EFE9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533520" y="1752480"/>
            <a:ext cx="8153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var delay = 1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function render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etTimeout(function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requestAnimFrame(rend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gl.clear(gl.COLOR_BUFFER_BI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theta += (direction ? 0.1 : -0.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gl.uniform1f(thetaLoc, thet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gl.drawArrays(gl.TRIANGLE_STRIP, 0, 4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}, dela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Menu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se the HTML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select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ach entry in the menu is an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option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lement with an integer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value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turned by click ev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3C18-4C08-43DD-BEFB-ED566408954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609480" y="3733920"/>
            <a:ext cx="792504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select id="mymenu" size="3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option value="0"&gt;Toggle Rotation Direction&lt;/optio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option value="1"&gt;Spin Faster&lt;/optio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option value="2"&gt;Spin Slower&lt;/optio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sele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5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5T23:42:18Z</dcterms:created>
  <dc:creator>Ed Angel</dc:creator>
  <dc:description/>
  <dc:language>en-US</dc:language>
  <cp:lastModifiedBy>Ed Angel</cp:lastModifiedBy>
  <dcterms:modified xsi:type="dcterms:W3CDTF">2014-03-31T17:44:45Z</dcterms:modified>
  <cp:revision>80</cp:revision>
  <dc:subject/>
  <dc:title>PowerPoint Presentation</dc:title>
</cp:coreProperties>
</file>