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85873-D596-4A19-A04C-F670CD2C04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DC6B3-B23C-4540-B416-1408EA819C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03FC-B1B7-4EC7-84C6-F80FC3915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63D7-F93A-44C6-A220-C6918878C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994B-E250-4E0B-96C5-3CCFEEC9E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CD0D8-98AF-49B7-916F-B73546BC80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4661-B654-49B8-B47E-6B9C27DD5C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8E69-474C-4286-AEF5-8EE151E4A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7660-A7BF-40CE-8276-CB4BD8FC5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7404B-6FF4-43DC-86FD-A4B3360F4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8E7E-1E66-49E9-9464-AC613D4D9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5B3E-0E5C-4A49-855F-9BA16ED0F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78ED-FA0D-4AAE-96FB-5343E4DCE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7B7F6-1545-4EEF-B297-0167E0207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46AA-D3DF-42E7-9BD7-9850124CFDB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6553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11BB-E63C-4E99-9462-5307754E429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423B-BCE1-4016-937E-5831A300356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fle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st follow shadow rays off reflecting or transmitting surfa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cess is recursiv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an11f04.jpg"/>
          <p:cNvPicPr/>
          <p:nvPr/>
        </p:nvPicPr>
        <p:blipFill>
          <a:blip r:embed="rId1"/>
          <a:stretch/>
        </p:blipFill>
        <p:spPr>
          <a:xfrm>
            <a:off x="2743200" y="3124080"/>
            <a:ext cx="3470400" cy="324036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5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6D8B-A4C0-4FF9-B67E-3CF2C26BDE7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flection and Transmiss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an11f05.jpg"/>
          <p:cNvPicPr/>
          <p:nvPr/>
        </p:nvPicPr>
        <p:blipFill>
          <a:blip r:embed="rId1"/>
          <a:stretch/>
        </p:blipFill>
        <p:spPr>
          <a:xfrm>
            <a:off x="2514600" y="2286000"/>
            <a:ext cx="4044960" cy="3740040"/>
          </a:xfrm>
          <a:prstGeom prst="rect">
            <a:avLst/>
          </a:prstGeom>
          <a:ln w="0">
            <a:noFill/>
          </a:ln>
        </p:spPr>
      </p:pic>
      <p:sp>
        <p:nvSpPr>
          <p:cNvPr id="101" name="Footer Placeholder 5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1BEC-7713-4338-875D-EB788883E63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ay Tre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an11f06.jpg"/>
          <p:cNvPicPr/>
          <p:nvPr/>
        </p:nvPicPr>
        <p:blipFill>
          <a:blip r:embed="rId1"/>
          <a:stretch/>
        </p:blipFill>
        <p:spPr>
          <a:xfrm>
            <a:off x="1905120" y="2362320"/>
            <a:ext cx="4157640" cy="373680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5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01EF-2C17-4ED2-8F4E-6532B63DE60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ay Tre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an11f07.jpg"/>
          <p:cNvPicPr/>
          <p:nvPr/>
        </p:nvPicPr>
        <p:blipFill>
          <a:blip r:embed="rId1"/>
          <a:stretch/>
        </p:blipFill>
        <p:spPr>
          <a:xfrm>
            <a:off x="3276720" y="2286000"/>
            <a:ext cx="2133360" cy="396396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5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1A25-F4EE-4FD1-818C-7B7302C236C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iffuse Surfa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oretically the scattering at each point of intersection generates an infinite number of new rays that should be trac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practice, we only trace the transmitted and reflected rays but use the modified Phong model to compute shade at point of inters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diosity works best for perfectly diffuse (Lambertian) surfa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6711-2A6B-4579-BE65-CA6B87A6054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uilding a Ray Trac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st expressed recursive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remove recursion la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mage based approac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ach ray …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d intersection with closest surf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whole object database avail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xity of calculation limits object 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ute lighting at surf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ace reflected and transmitted ray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87D4-2FAB-45A5-94A6-C25CF7923DC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hen to stop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me light will be absorbed at each inters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ck amount le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gnore rays that go off to infin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t large sphere around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nt step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0CEE-1954-4C0C-B23F-06784A4FBC2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cursive Ray Trac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color c = trace(point p, vector d, int step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color local, reflected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transmitted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point q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normal n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if(step &gt; max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return(background_color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FC7B-9546-4D47-A573-C4B901C2102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cc"/>
                </a:solidFill>
                <a:latin typeface="Arial"/>
              </a:rPr>
              <a:t>Recursive Ray Trac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q = intersect(p, d, status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if(status==light_source) return(light_source_color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if(status==no_intersection) return(background_color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n = normal(q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r = reflect(q, n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t = transmit(q,n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2CC7-5244-454F-8480-54BE920375D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cc"/>
                </a:solidFill>
                <a:latin typeface="Arial"/>
              </a:rPr>
              <a:t>Recursive Ray Trac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local = phong(q, n, r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reflected = trace(q, r, step+1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transmitted = trace(q,t, step+1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return(local+reflected+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transmitted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ay Trac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AFC9-1830-4BC6-90D2-BD51F1AAE93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CA50-1504-4D8B-976C-4E7C8A5C07C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uting Intersec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mplicit Objec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dr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lan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lyhedr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ametric Surfa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3F28-EA50-4D7F-8A8F-C26ECFB895A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mplicit Surfa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y from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direc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t) =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+t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eral implicit surf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lve scalar equ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t)) = 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eral case requires numerical metho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0005-1E23-49AF-9143-B800C4EE791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Quadric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eral quadric can be written 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p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0" lang="en-US" sz="3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+c = 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bstitute equation of r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t) =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+t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o get quadratic equ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BD4B-DA21-46B4-9C78-CFC0362CFC6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pher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– r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t) =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+t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+ 2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t + (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 –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8CE3-B51A-44B8-87D5-31A1739172D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cc"/>
                </a:solidFill>
                <a:latin typeface="Arial"/>
              </a:rPr>
              <a:t>Plan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+ c = 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t) =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+t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 = -(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+ c)/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26E2-538A-4E41-A205-8B83F9E94D3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olyhedra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erally we want to intersect with closed convex objects such as polygons and polyhedra rather than plan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ence we have to worry about inside/outside test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 convex objects such as polyhedra there are some fast tes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2788-32CA-45D5-A929-2E11196BF99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ay Tracing Polyhedra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ray enters an object, it must enter a front facing polygon and leave a back facing polyg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lyhedron is formed by intersection of pla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ay enters at furthest intersection with front facing pla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ay leaves at closest intersection with back facing pla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entry is further away than exit, ray must miss the polyhedr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E3CF-8969-40A5-A557-3E486D87072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velop a basic recursive ray trac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uter intersections for quadrics and polyg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3FC6-F0F5-45D4-828E-FD0F400D4F9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ay Trac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llow rays of light from a point sour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account for reflection and transmiss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an11f01.jpg"/>
          <p:cNvPicPr/>
          <p:nvPr/>
        </p:nvPicPr>
        <p:blipFill>
          <a:blip r:embed="rId1"/>
          <a:stretch/>
        </p:blipFill>
        <p:spPr>
          <a:xfrm>
            <a:off x="3124080" y="3505320"/>
            <a:ext cx="2286000" cy="2738160"/>
          </a:xfrm>
          <a:prstGeom prst="rect">
            <a:avLst/>
          </a:prstGeom>
          <a:ln w="0">
            <a:noFill/>
          </a:ln>
        </p:spPr>
      </p:pic>
      <p:sp>
        <p:nvSpPr>
          <p:cNvPr id="66" name="Footer Placeholder 5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D998-6DB8-46CB-B3F7-6DC1ECFF43F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ut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ould be able to handle all physical interac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y tracing paradigm is not computation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st rays do not affect what we se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cattering produces many (infinite) additional ray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ternative: ray cast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5CF0-84D7-449B-8374-D39DEBB67EE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ay Cast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ly rays that reach the eye ma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verse direction and cast ray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at least one ray per pix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an11f02.jpg"/>
          <p:cNvPicPr/>
          <p:nvPr/>
        </p:nvPicPr>
        <p:blipFill>
          <a:blip r:embed="rId1"/>
          <a:stretch/>
        </p:blipFill>
        <p:spPr>
          <a:xfrm>
            <a:off x="2590920" y="3429000"/>
            <a:ext cx="3352680" cy="2712960"/>
          </a:xfrm>
          <a:prstGeom prst="rect">
            <a:avLst/>
          </a:prstGeom>
          <a:ln w="0">
            <a:noFill/>
          </a:ln>
        </p:spPr>
      </p:pic>
      <p:sp>
        <p:nvSpPr>
          <p:cNvPr id="75" name="Footer Placeholder 5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1B90-C894-496F-96AA-F5EAA337882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ay Casting Quadric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y casting has become the standard way to visualize quadrics which are implicit surfaces in CSG syste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tructive Solid Geomet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itives are sol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ild objects with set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on, intersection, set diff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7F4C-C7C9-4353-B603-7FF098F808B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ay Casting a Spher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y is parametri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phere is quadri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sulting equation is a scalar quadratic equation which gives entry and exit points of ray (or no solution if ray misse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"/>
          <p:cNvSpPr/>
          <p:nvPr/>
        </p:nvSpPr>
        <p:spPr>
          <a:xfrm>
            <a:off x="3352680" y="4267080"/>
            <a:ext cx="1905120" cy="1828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 flipV="1">
            <a:off x="2209680" y="5257440"/>
            <a:ext cx="175284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5105520" y="4343400"/>
            <a:ext cx="83808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7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5B82-580F-4F66-96D6-6479F5EAB53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hadow Ray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en if a point is visible, it will not be lit unless we can see a light source from that poi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st shadow or feeler ray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an11f03.jpg"/>
          <p:cNvPicPr/>
          <p:nvPr/>
        </p:nvPicPr>
        <p:blipFill>
          <a:blip r:embed="rId1"/>
          <a:stretch/>
        </p:blipFill>
        <p:spPr>
          <a:xfrm>
            <a:off x="2438280" y="3621240"/>
            <a:ext cx="2819520" cy="2631960"/>
          </a:xfrm>
          <a:prstGeom prst="rect">
            <a:avLst/>
          </a:prstGeom>
          <a:ln w="0">
            <a:noFill/>
          </a:ln>
        </p:spPr>
      </p:pic>
      <p:sp>
        <p:nvSpPr>
          <p:cNvPr id="91" name="Footer Placeholder 5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23:02:38Z</dcterms:created>
  <dc:creator>Ed Angel</dc:creator>
  <dc:description/>
  <dc:language>en-US</dc:language>
  <cp:lastModifiedBy>Ed Angel</cp:lastModifiedBy>
  <dcterms:modified xsi:type="dcterms:W3CDTF">2014-03-31T18:03:00Z</dcterms:modified>
  <cp:revision>161</cp:revision>
  <dc:subject/>
  <dc:title>PowerPoint Presentation</dc:title>
</cp:coreProperties>
</file>