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A771D-D517-4E49-BAA3-A60B42C26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F583C-850E-4CA4-B5A0-A1658C70D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B14E9-3A13-41F9-93AF-01025B1B2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40E2D-2B21-4C5E-883E-395BC004F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8139C-7632-4DDF-86FC-BD52A60BA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F83CB-479C-49C9-A0D1-94585983D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93668-A678-41C8-9073-EF16C6FE4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58E14-476B-47BE-9F2B-F88D2813B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26A4-D828-49EB-B5BF-D45439F2B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8C09-4F4B-4661-89B6-0A48D3C8A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D905-BB79-4EF6-B7C8-EE3E6008D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7C5F-7A79-415F-A09C-D73C89063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7E0E-90C2-452E-B80C-DE288AB5D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DC65-803D-44E4-B194-0723BEE72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4B57-8610-4BFC-A367-3BA37129C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A6C0-553F-451F-8936-F7D6C0F41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F692-E312-4A05-8A1E-6343AD682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E2F7-2920-4CC9-9D1F-12FC671B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BACE-EF90-471C-AB19-73E9BFC27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8DD3-815E-4D1E-96B5-68600E4B3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17A7-EB30-4B95-B4E7-D84C2A9F6B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69A-0554-4E50-A907-A9FEFFC44A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Pass Through Fragment Shader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259640" y="1595520"/>
            <a:ext cx="722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fdef GL_FRAGMENT_SHADER_PRECISION_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high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vec4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f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2DBC-2D22-40B3-B41A-91CC4CEFF9B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Part 5: More GLS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2AF-C160-4B05-8078-D112D347F94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pling shaders to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ex Attrib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tting up uniform vari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A4B-FF66-44EB-8F15-420A01CE1B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Linking Shaders with Application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ile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e a program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k everything togeth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k variables in application with variables in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form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5C0-8D18-4A3E-BBF3-146083DEACE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 Obj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tainer for shader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ain multipl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GLSL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62120" y="35053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 program = gl.createProgram(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.attachShader( program, vertShdr );    gl.attachShader( program, fragShdr );    gl.linkProgram( program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662-19F2-44F0-AB93-733D853343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ading a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ders are added to the program object and compil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ual method of passing a shader is as a null-terminated string using the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.shaderSource( fragShdr, fragElem.text 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shader is in HTML file, we can get it into application by getElementById metho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the shader is in a file, we can write a reader to convert the file to a st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608C-D24C-41E9-9BBE-FD50B72B28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ng a 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80240" y="1600200"/>
            <a:ext cx="6771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vertShd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vertEle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.getElementById( vertexShaderI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Shdr = gl.createShader( gl.VERTEX_SHADE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shaderSource( vertShdr, vertElem.text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compileShader( vertShd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fter program object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attachShader( program, vertShd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7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46E5-9E96-4715-AFED-A65A7791121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er Re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llowing code may be a security issue with some browsers if you try to run it local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 Origin Reque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0C5-4F3F-4599-B208-FC849695B04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09480" y="36576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getShader(gl, shaderName, typ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shader = gl.createShader(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rScript = loadFileAJAX(shader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!shaderScrip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rt("Could not find shader sou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+shader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ecision Declar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GLSL for WebGL we must specify desired precision in fragment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act inherited from OpenGL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must run on very simple embedded devices that may not support 32-bit floating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implementations must support mediu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default for float in fragment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e preprocessor directives (#ifdef) to check if highp supported and, if not, default to medium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CBC4-8D52-4D79-9756-9185D6E205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685800" y="64008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6:29:31Z</dcterms:created>
  <dc:creator>Ed Angel</dc:creator>
  <dc:description/>
  <dc:language>en-US</dc:language>
  <cp:lastModifiedBy>Ed Angel</cp:lastModifiedBy>
  <dcterms:modified xsi:type="dcterms:W3CDTF">2014-03-31T17:42:54Z</dcterms:modified>
  <cp:revision>128</cp:revision>
  <dc:subject/>
  <dc:title>PowerPoint Presentation</dc:title>
</cp:coreProperties>
</file>