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6827-CDF1-41A7-9FA3-DB9F6E800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E003-5023-47CC-BAC6-FF6CFFA8F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56E0-1FC5-4A2F-85FB-68FD7750F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D487-E06E-4839-B674-24103C06E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0560" cy="34272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2936-6262-4493-B317-EB89658BA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1FDD-B960-4215-861A-FA3C48156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4A2D-BBFF-48D9-B889-45CA5708A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A92A-02A2-4F37-A6C2-192B59EAE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E062-E8C9-4371-910E-E540FA79F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CBFC-E597-42E9-999B-9058CE735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E490-60B6-4628-9E51-D2F4C9A6BF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E5FF-6153-4C8F-9BD4-FABD5BC3E3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5E14-BED5-4C47-84A2-97A431E21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D8B0-A697-4269-A202-EF894838E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A462-4610-4080-8DFA-1D18BA7A5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4706-839C-4BFF-932B-DB7AA4C57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C202-6FF9-4C60-9271-235275C96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93BE-670D-422A-A620-21F781D7A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F89F-7F85-4B7B-86CF-6945DFFF1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F42B-BD1A-4A66-AD33-5E74438CCF5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6553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5036-3765-4DCC-A07B-9E1E3BCB785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0068-AFAC-4114-ADAC-BC2B1FA3446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67" name="Picture 5" descr="C:\BOOK\OpenGL\Paul Final\Art\jpeg\an07f29.jpg"/>
          <p:cNvPicPr/>
          <p:nvPr/>
        </p:nvPicPr>
        <p:blipFill>
          <a:blip r:embed="rId1"/>
          <a:stretch/>
        </p:blipFill>
        <p:spPr>
          <a:xfrm>
            <a:off x="2133720" y="1523880"/>
            <a:ext cx="4790880" cy="4943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04920" y="4419720"/>
            <a:ext cx="198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ma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6934320" y="4495680"/>
            <a:ext cx="198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ma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6934320" y="16002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8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0BBB-D237-447C-B36A-D4333EE14D0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pplying Textur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xture can be applied in many way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34308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ure fully determines col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34308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ulated with a computed col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34308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ended with and environmental col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xed function pipeline has a function glTexEnv to set mo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34308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rec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34308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get all desired functionality via fragment sh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also use multiple texture un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9DD0-5A44-4AA7-B6D7-EEDE3040CCF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ther Texture Featur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vironment Ma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with image of environment through a wide angle le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either a real scanned image or an image created in OpenG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is texture to generate a spherical 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ernative is to use a cube 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ltitextu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y a sequence of textures through cascaded texture 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pplying Textur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ures are applied during fragments shading by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rs return a texture color from a textur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E1BA-5AEF-4666-94AB-E7593C8E37A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1059120" y="3581280"/>
            <a:ext cx="761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4 color;  //color from raster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2 texCoord; //texture coordinate from raster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sampler2D texture; //texture object from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 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 = color * texture2D( texture, texCoord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Sh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vertex shader will output texture coordinates to be raster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do all other standard tasks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vertex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vertex color if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B65D-E857-4374-B0ED-FEDD8A065A8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762120" y="417996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vec4 vPosition; //vertex position in object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vec4 vColor;  //vertex color from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vec2 vTexCoord; //texture coordinate from ap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4 color; //output color to be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2 texCoord; //output tex coordinate to be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 Checkerboard Imag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2E42-8CED-411B-A573-6E33AE8D7F4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304920" y="15937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image1 = new Uint8Array(4*texSize*tex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 var i = 0; i &lt; texSize; i++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 var j = 0; j &lt;texSize; j++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patchx = Math.floor(i/(texSize/numChecks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patchy = Math.floor(j/(texSize/numChecks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patchx%2 ^ patchy%2) c = 25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c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c = 255*(((i &amp; 0x8) == 0) ^ ((j &amp; 0x8)  == 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1[4*i*texSize+4*j] =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1[4*i*texSize+4*j+1] =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1[4*i*texSize+4*j+2] =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1[4*i*texSize+4*j+3] = 25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7885-C094-484E-AEDE-6A2C2FF0575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ube 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texCoord = [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2(0, 0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2(0, 1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2(1, 1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2(1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quad(a, b, c, 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Array.push(vertices[a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sArray.push(vertexColors[a]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CoordsArray.push(texCoord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Array.push(vertices[b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sArray.push(vertexColors[a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CoordsArray.push(texCoord[1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exture Objec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F18D-4C00-4303-8660-00E4C0B1A9F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-6120" y="915840"/>
            <a:ext cx="917856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configureTexture( image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texture = gl.createTextur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bindTexture( gl.TEXTURE_2D, texture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pixelStorei(gl.UNPACK_FLIP_Y_WEBGL, 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texImage2D( gl.TEXTURE_2D, 0, gl.RGB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RGB, gl.UNSIGNED_BYTE, image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generateMipmap( gl.TEXTURE_2D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texParameteri( gl.TEXTURE_2D, gl.TEXTURE_MIN_FIL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NEAREST_MIPMAP_LINEAR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texParameteri( gl.TEXTURE_2D, gl.TEXTURE_MAG_FILT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NEAREST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activeTexture(gl.TEXTURE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uniform1i(gl.getUniformLocation(program, "texture")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nking with Shad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9799-BC8B-42C8-BE6B-CB20C3D657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304920" y="1828800"/>
            <a:ext cx="900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vTexCoord = gl.getAttribLocation( program, "vTexCoord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enableVertexAttribArray( vTexCoord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vertexAttribPointer( vTexCoord, 2, gl.FLOAT, false, 0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Set the value of the fragment shader texture sampler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  ("texture") to the the appropriate texture unit. In this ca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  zero for GL_TEXTURE0 which was previously set by c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  gl.activeTexture(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uniform1i( glGetUniformLocation(program, "texture"), 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ebGL Texture Mapping I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CB5D-0FDB-47A2-A3D5-3A3ADEFE9F8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6330-EB86-4113-BAF3-BD295CF5C8D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the WebGL texture functions and op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ure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ure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8F91-C396-4A3E-8E5C-0A3D0CC3324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Texture Objec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90400" indent="-59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ecify textures in texture obj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t texture filte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t texture func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t texture wrap mo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t optional perspective correction 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ind texture objec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able textu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ly texture coordinates for verte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9536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rdinates can also be gene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EA39-EA11-4646-9B7E-359FBD3ADAA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exture Paramet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bGL has a variety of parameters that determine how texture is appli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apping parameters determine what happens if s and t are outside the (0,1)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ter modes allow us to use area averaging instead of point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pmapping allows us to use textures at multiple re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 parameters determine how texture mapping interacts with sha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254C-D8AC-4B8E-B2FA-29F8040CAFE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rapping Mo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089480" cy="23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mping: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,t &gt;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1,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,t &lt;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ing: 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,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ul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texParameteri(gl.TEXTURE_2D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gl.TEXTURE_WRAP_S, gl.CLAMP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texParameteri( gl.TEXTURE_2D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gl.TEXTURE_WRAP_T, gl.REPEA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1615320" y="4313160"/>
            <a:ext cx="5018400" cy="1990080"/>
            <a:chOff x="1615320" y="4313160"/>
            <a:chExt cx="5018400" cy="1990080"/>
          </a:xfrm>
        </p:grpSpPr>
        <p:grpSp>
          <p:nvGrpSpPr>
            <p:cNvPr id="74" name="Group 5"/>
            <p:cNvGrpSpPr/>
            <p:nvPr/>
          </p:nvGrpSpPr>
          <p:grpSpPr>
            <a:xfrm>
              <a:off x="1615320" y="4313160"/>
              <a:ext cx="1372320" cy="1913400"/>
              <a:chOff x="1615320" y="4313160"/>
              <a:chExt cx="1372320" cy="1913400"/>
            </a:xfrm>
          </p:grpSpPr>
          <p:sp>
            <p:nvSpPr>
              <p:cNvPr id="75" name="Rectangle 6"/>
              <p:cNvSpPr/>
              <p:nvPr/>
            </p:nvSpPr>
            <p:spPr>
              <a:xfrm>
                <a:off x="1774080" y="582912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ex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7"/>
              <p:cNvSpPr/>
              <p:nvPr/>
            </p:nvSpPr>
            <p:spPr>
              <a:xfrm>
                <a:off x="1860480" y="553212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8"/>
              <p:cNvSpPr/>
              <p:nvPr/>
            </p:nvSpPr>
            <p:spPr>
              <a:xfrm flipV="1">
                <a:off x="1743120" y="47700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9"/>
              <p:cNvSpPr/>
              <p:nvPr/>
            </p:nvSpPr>
            <p:spPr>
              <a:xfrm>
                <a:off x="2682000" y="5333760"/>
                <a:ext cx="2840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0"/>
              <p:cNvSpPr/>
              <p:nvPr/>
            </p:nvSpPr>
            <p:spPr>
              <a:xfrm>
                <a:off x="1615320" y="434340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" name="Picture 11" descr="C:\SIGGRAPH\tex1x1.jpg"/>
              <p:cNvPicPr/>
              <p:nvPr/>
            </p:nvPicPr>
            <p:blipFill>
              <a:blip r:embed="rId1"/>
              <a:srcRect l="21430" t="21430" r="21430" b="21430"/>
              <a:stretch/>
            </p:blipFill>
            <p:spPr>
              <a:xfrm>
                <a:off x="1844640" y="4313160"/>
                <a:ext cx="11430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" name="Group 12"/>
            <p:cNvGrpSpPr/>
            <p:nvPr/>
          </p:nvGrpSpPr>
          <p:grpSpPr>
            <a:xfrm>
              <a:off x="5310360" y="4313160"/>
              <a:ext cx="1323360" cy="1990080"/>
              <a:chOff x="5310360" y="4313160"/>
              <a:chExt cx="1323360" cy="1990080"/>
            </a:xfrm>
          </p:grpSpPr>
          <p:sp>
            <p:nvSpPr>
              <p:cNvPr id="82" name="Rectangle 13"/>
              <p:cNvSpPr/>
              <p:nvPr/>
            </p:nvSpPr>
            <p:spPr>
              <a:xfrm>
                <a:off x="5310360" y="5600880"/>
                <a:ext cx="132336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l.CLAM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rapp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3" name="Picture 14" descr="C:\SIGGRAPH\tex2x2c.jpg"/>
              <p:cNvPicPr/>
              <p:nvPr/>
            </p:nvPicPr>
            <p:blipFill>
              <a:blip r:embed="rId2"/>
              <a:srcRect l="23600" t="23600" r="23600" b="23600"/>
              <a:stretch/>
            </p:blipFill>
            <p:spPr>
              <a:xfrm>
                <a:off x="5353200" y="4313160"/>
                <a:ext cx="11430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" name="Group 15"/>
            <p:cNvGrpSpPr/>
            <p:nvPr/>
          </p:nvGrpSpPr>
          <p:grpSpPr>
            <a:xfrm>
              <a:off x="3393000" y="4313160"/>
              <a:ext cx="1408680" cy="1990080"/>
              <a:chOff x="3393000" y="4313160"/>
              <a:chExt cx="1408680" cy="1990080"/>
            </a:xfrm>
          </p:grpSpPr>
          <p:sp>
            <p:nvSpPr>
              <p:cNvPr id="85" name="Rectangle 16"/>
              <p:cNvSpPr/>
              <p:nvPr/>
            </p:nvSpPr>
            <p:spPr>
              <a:xfrm>
                <a:off x="3393000" y="5600880"/>
                <a:ext cx="14086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l.REPE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rapp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" name="Picture 17" descr="C:\SIGGRAPH\tex2x2r.jpg"/>
              <p:cNvPicPr/>
              <p:nvPr/>
            </p:nvPicPr>
            <p:blipFill>
              <a:blip r:embed="rId3"/>
              <a:srcRect l="24000" t="24000" r="23199" b="23199"/>
              <a:stretch/>
            </p:blipFill>
            <p:spPr>
              <a:xfrm>
                <a:off x="3539880" y="4313160"/>
                <a:ext cx="11430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7" name="Footer Placeholder 18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F9DF-72D8-46A8-B18D-48E2B08BC79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gnification and Minific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684360" y="3429000"/>
            <a:ext cx="7664400" cy="2743560"/>
            <a:chOff x="684360" y="3429000"/>
            <a:chExt cx="7664400" cy="2743560"/>
          </a:xfrm>
        </p:grpSpPr>
        <p:sp>
          <p:nvSpPr>
            <p:cNvPr id="91" name="Rectangle 4"/>
            <p:cNvSpPr/>
            <p:nvPr/>
          </p:nvSpPr>
          <p:spPr>
            <a:xfrm>
              <a:off x="95256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5"/>
            <p:cNvGrpSpPr/>
            <p:nvPr/>
          </p:nvGrpSpPr>
          <p:grpSpPr>
            <a:xfrm>
              <a:off x="2225520" y="3429000"/>
              <a:ext cx="1828800" cy="1828800"/>
              <a:chOff x="2225520" y="3429000"/>
              <a:chExt cx="1828800" cy="1828800"/>
            </a:xfrm>
          </p:grpSpPr>
          <p:sp>
            <p:nvSpPr>
              <p:cNvPr id="93" name="Rectangle 6"/>
              <p:cNvSpPr/>
              <p:nvPr/>
            </p:nvSpPr>
            <p:spPr>
              <a:xfrm>
                <a:off x="2232000" y="3435120"/>
                <a:ext cx="1816200" cy="1816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7"/>
              <p:cNvSpPr/>
              <p:nvPr/>
            </p:nvSpPr>
            <p:spPr>
              <a:xfrm>
                <a:off x="2225520" y="41148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8"/>
              <p:cNvSpPr/>
              <p:nvPr/>
            </p:nvSpPr>
            <p:spPr>
              <a:xfrm>
                <a:off x="2911320" y="34290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9"/>
              <p:cNvSpPr/>
              <p:nvPr/>
            </p:nvSpPr>
            <p:spPr>
              <a:xfrm>
                <a:off x="2454120" y="34290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10"/>
              <p:cNvSpPr/>
              <p:nvPr/>
            </p:nvSpPr>
            <p:spPr>
              <a:xfrm>
                <a:off x="2682720" y="34290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11"/>
              <p:cNvSpPr/>
              <p:nvPr/>
            </p:nvSpPr>
            <p:spPr>
              <a:xfrm>
                <a:off x="3139920" y="34290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12"/>
              <p:cNvSpPr/>
              <p:nvPr/>
            </p:nvSpPr>
            <p:spPr>
              <a:xfrm>
                <a:off x="3368520" y="34290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3"/>
              <p:cNvSpPr/>
              <p:nvPr/>
            </p:nvSpPr>
            <p:spPr>
              <a:xfrm>
                <a:off x="2225520" y="38862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4"/>
              <p:cNvSpPr/>
              <p:nvPr/>
            </p:nvSpPr>
            <p:spPr>
              <a:xfrm>
                <a:off x="2225520" y="36576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5"/>
              <p:cNvSpPr/>
              <p:nvPr/>
            </p:nvSpPr>
            <p:spPr>
              <a:xfrm>
                <a:off x="2225520" y="43434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6"/>
              <p:cNvSpPr/>
              <p:nvPr/>
            </p:nvSpPr>
            <p:spPr>
              <a:xfrm>
                <a:off x="2225520" y="45720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7"/>
              <p:cNvSpPr/>
              <p:nvPr/>
            </p:nvSpPr>
            <p:spPr>
              <a:xfrm>
                <a:off x="3597120" y="34290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8"/>
              <p:cNvSpPr/>
              <p:nvPr/>
            </p:nvSpPr>
            <p:spPr>
              <a:xfrm>
                <a:off x="3825720" y="34290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9"/>
              <p:cNvSpPr/>
              <p:nvPr/>
            </p:nvSpPr>
            <p:spPr>
              <a:xfrm>
                <a:off x="2225520" y="48006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20"/>
              <p:cNvSpPr/>
              <p:nvPr/>
            </p:nvSpPr>
            <p:spPr>
              <a:xfrm>
                <a:off x="2225520" y="50292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21"/>
            <p:cNvGrpSpPr/>
            <p:nvPr/>
          </p:nvGrpSpPr>
          <p:grpSpPr>
            <a:xfrm>
              <a:off x="944640" y="4343400"/>
              <a:ext cx="457200" cy="457200"/>
              <a:chOff x="944640" y="4343400"/>
              <a:chExt cx="457200" cy="457200"/>
            </a:xfrm>
          </p:grpSpPr>
          <p:sp>
            <p:nvSpPr>
              <p:cNvPr id="109" name="Line 22"/>
              <p:cNvSpPr/>
              <p:nvPr/>
            </p:nvSpPr>
            <p:spPr>
              <a:xfrm>
                <a:off x="117324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23"/>
              <p:cNvSpPr/>
              <p:nvPr/>
            </p:nvSpPr>
            <p:spPr>
              <a:xfrm>
                <a:off x="94464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24"/>
              <p:cNvSpPr/>
              <p:nvPr/>
            </p:nvSpPr>
            <p:spPr>
              <a:xfrm>
                <a:off x="140184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25"/>
              <p:cNvSpPr/>
              <p:nvPr/>
            </p:nvSpPr>
            <p:spPr>
              <a:xfrm flipH="1">
                <a:off x="944640" y="43434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6"/>
              <p:cNvSpPr/>
              <p:nvPr/>
            </p:nvSpPr>
            <p:spPr>
              <a:xfrm flipH="1">
                <a:off x="944640" y="45720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7"/>
              <p:cNvSpPr/>
              <p:nvPr/>
            </p:nvSpPr>
            <p:spPr>
              <a:xfrm flipH="1">
                <a:off x="944640" y="4800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28"/>
            <p:cNvGrpSpPr/>
            <p:nvPr/>
          </p:nvGrpSpPr>
          <p:grpSpPr>
            <a:xfrm>
              <a:off x="5121360" y="3429000"/>
              <a:ext cx="1828800" cy="1828800"/>
              <a:chOff x="5121360" y="3429000"/>
              <a:chExt cx="1828800" cy="1828800"/>
            </a:xfrm>
          </p:grpSpPr>
          <p:sp>
            <p:nvSpPr>
              <p:cNvPr id="116" name="Rectangle 29"/>
              <p:cNvSpPr/>
              <p:nvPr/>
            </p:nvSpPr>
            <p:spPr>
              <a:xfrm>
                <a:off x="5127480" y="3435120"/>
                <a:ext cx="1816200" cy="1816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0"/>
              <p:cNvSpPr/>
              <p:nvPr/>
            </p:nvSpPr>
            <p:spPr>
              <a:xfrm>
                <a:off x="5121360" y="41148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1"/>
              <p:cNvSpPr/>
              <p:nvPr/>
            </p:nvSpPr>
            <p:spPr>
              <a:xfrm>
                <a:off x="5807160" y="34290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2"/>
              <p:cNvSpPr/>
              <p:nvPr/>
            </p:nvSpPr>
            <p:spPr>
              <a:xfrm>
                <a:off x="5349960" y="34290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3"/>
              <p:cNvSpPr/>
              <p:nvPr/>
            </p:nvSpPr>
            <p:spPr>
              <a:xfrm>
                <a:off x="5578560" y="34290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4"/>
              <p:cNvSpPr/>
              <p:nvPr/>
            </p:nvSpPr>
            <p:spPr>
              <a:xfrm>
                <a:off x="6035760" y="34290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5"/>
              <p:cNvSpPr/>
              <p:nvPr/>
            </p:nvSpPr>
            <p:spPr>
              <a:xfrm>
                <a:off x="6264360" y="34290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6"/>
              <p:cNvSpPr/>
              <p:nvPr/>
            </p:nvSpPr>
            <p:spPr>
              <a:xfrm>
                <a:off x="5121360" y="38862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7"/>
              <p:cNvSpPr/>
              <p:nvPr/>
            </p:nvSpPr>
            <p:spPr>
              <a:xfrm>
                <a:off x="5121360" y="36576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8"/>
              <p:cNvSpPr/>
              <p:nvPr/>
            </p:nvSpPr>
            <p:spPr>
              <a:xfrm>
                <a:off x="5121360" y="43434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9"/>
              <p:cNvSpPr/>
              <p:nvPr/>
            </p:nvSpPr>
            <p:spPr>
              <a:xfrm>
                <a:off x="5121360" y="45720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40"/>
              <p:cNvSpPr/>
              <p:nvPr/>
            </p:nvSpPr>
            <p:spPr>
              <a:xfrm>
                <a:off x="6492960" y="34290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1"/>
              <p:cNvSpPr/>
              <p:nvPr/>
            </p:nvSpPr>
            <p:spPr>
              <a:xfrm>
                <a:off x="6721560" y="34290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2"/>
              <p:cNvSpPr/>
              <p:nvPr/>
            </p:nvSpPr>
            <p:spPr>
              <a:xfrm>
                <a:off x="5121360" y="48006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3"/>
              <p:cNvSpPr/>
              <p:nvPr/>
            </p:nvSpPr>
            <p:spPr>
              <a:xfrm>
                <a:off x="5121360" y="50292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44"/>
            <p:cNvGrpSpPr/>
            <p:nvPr/>
          </p:nvGrpSpPr>
          <p:grpSpPr>
            <a:xfrm>
              <a:off x="7601040" y="4114800"/>
              <a:ext cx="457200" cy="457200"/>
              <a:chOff x="7601040" y="4114800"/>
              <a:chExt cx="457200" cy="457200"/>
            </a:xfrm>
          </p:grpSpPr>
          <p:sp>
            <p:nvSpPr>
              <p:cNvPr id="132" name="Line 45"/>
              <p:cNvSpPr/>
              <p:nvPr/>
            </p:nvSpPr>
            <p:spPr>
              <a:xfrm>
                <a:off x="7829640" y="41148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6"/>
              <p:cNvSpPr/>
              <p:nvPr/>
            </p:nvSpPr>
            <p:spPr>
              <a:xfrm>
                <a:off x="7601040" y="41148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47"/>
              <p:cNvSpPr/>
              <p:nvPr/>
            </p:nvSpPr>
            <p:spPr>
              <a:xfrm>
                <a:off x="8058240" y="41148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48"/>
              <p:cNvSpPr/>
              <p:nvPr/>
            </p:nvSpPr>
            <p:spPr>
              <a:xfrm flipH="1">
                <a:off x="7601040" y="41148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49"/>
              <p:cNvSpPr/>
              <p:nvPr/>
            </p:nvSpPr>
            <p:spPr>
              <a:xfrm flipH="1">
                <a:off x="7601040" y="43434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50"/>
              <p:cNvSpPr/>
              <p:nvPr/>
            </p:nvSpPr>
            <p:spPr>
              <a:xfrm flipH="1">
                <a:off x="7601040" y="45720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Rectangle 51"/>
            <p:cNvSpPr/>
            <p:nvPr/>
          </p:nvSpPr>
          <p:spPr>
            <a:xfrm>
              <a:off x="684360" y="5410080"/>
              <a:ext cx="97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x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52"/>
            <p:cNvSpPr/>
            <p:nvPr/>
          </p:nvSpPr>
          <p:spPr>
            <a:xfrm>
              <a:off x="2622240" y="5410080"/>
              <a:ext cx="103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lyg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53"/>
            <p:cNvSpPr/>
            <p:nvPr/>
          </p:nvSpPr>
          <p:spPr>
            <a:xfrm>
              <a:off x="1228320" y="5775120"/>
              <a:ext cx="162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gn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54"/>
            <p:cNvSpPr/>
            <p:nvPr/>
          </p:nvSpPr>
          <p:spPr>
            <a:xfrm>
              <a:off x="6333840" y="5775120"/>
              <a:ext cx="1456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5"/>
            <p:cNvSpPr/>
            <p:nvPr/>
          </p:nvSpPr>
          <p:spPr>
            <a:xfrm>
              <a:off x="5349960" y="3657600"/>
              <a:ext cx="457200" cy="457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6"/>
            <p:cNvSpPr/>
            <p:nvPr/>
          </p:nvSpPr>
          <p:spPr>
            <a:xfrm>
              <a:off x="7311960" y="5410080"/>
              <a:ext cx="103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lyg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7"/>
            <p:cNvSpPr/>
            <p:nvPr/>
          </p:nvSpPr>
          <p:spPr>
            <a:xfrm>
              <a:off x="5546880" y="5410080"/>
              <a:ext cx="97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x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58"/>
            <p:cNvSpPr/>
            <p:nvPr/>
          </p:nvSpPr>
          <p:spPr>
            <a:xfrm flipV="1">
              <a:off x="930240" y="3429000"/>
              <a:ext cx="12952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59"/>
            <p:cNvSpPr/>
            <p:nvPr/>
          </p:nvSpPr>
          <p:spPr>
            <a:xfrm flipV="1">
              <a:off x="1158840" y="3429000"/>
              <a:ext cx="19810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0"/>
            <p:cNvSpPr/>
            <p:nvPr/>
          </p:nvSpPr>
          <p:spPr>
            <a:xfrm flipV="1">
              <a:off x="930240" y="4343040"/>
              <a:ext cx="1295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1"/>
            <p:cNvSpPr/>
            <p:nvPr/>
          </p:nvSpPr>
          <p:spPr>
            <a:xfrm flipV="1">
              <a:off x="1235160" y="434304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62"/>
            <p:cNvSpPr/>
            <p:nvPr/>
          </p:nvSpPr>
          <p:spPr>
            <a:xfrm>
              <a:off x="5807160" y="3657600"/>
              <a:ext cx="20574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3"/>
            <p:cNvSpPr/>
            <p:nvPr/>
          </p:nvSpPr>
          <p:spPr>
            <a:xfrm>
              <a:off x="5807160" y="4114800"/>
              <a:ext cx="20574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64"/>
            <p:cNvSpPr/>
            <p:nvPr/>
          </p:nvSpPr>
          <p:spPr>
            <a:xfrm>
              <a:off x="5349960" y="3657600"/>
              <a:ext cx="2286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65"/>
            <p:cNvSpPr/>
            <p:nvPr/>
          </p:nvSpPr>
          <p:spPr>
            <a:xfrm>
              <a:off x="5349960" y="4114800"/>
              <a:ext cx="22096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68"/>
          <p:cNvSpPr/>
          <p:nvPr/>
        </p:nvSpPr>
        <p:spPr>
          <a:xfrm>
            <a:off x="539640" y="1447920"/>
            <a:ext cx="765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one texel can cover a pixel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one pixel can cover a texel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gn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point sampling (nearest texel) or linear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2 x 2 filter) to obtain textur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67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92B0-4ABF-4586-A4F4-105FDB8AD53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ilter Mod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es determined b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.texParameteri( target, type, mode 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5640" y="2971800"/>
            <a:ext cx="82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texParameteri(gl.TEXTURE_2D, gl.TEXURE_MAG_FILT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_NEARE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575640" y="3962520"/>
            <a:ext cx="82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texParameteri(gl.TEXTURE_2D, gl.TEXURE_MIN_FILT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LINE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6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ACEE-0E3A-4227-BF36-BA15CC1D634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ipmapped Textur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pm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for prefiltered texture maps of decreasing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ens interpolation errors for smaller textured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mipmap level during texture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.texImage2D(gl.TEXTURE_*D, level,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3T16:08:02Z</dcterms:created>
  <dc:creator>Ed Angel</dc:creator>
  <dc:description/>
  <dc:language>en-US</dc:language>
  <cp:lastModifiedBy>Ed Angel</cp:lastModifiedBy>
  <dcterms:modified xsi:type="dcterms:W3CDTF">2014-03-31T17:53:48Z</dcterms:modified>
  <cp:revision>213</cp:revision>
  <dc:subject/>
  <dc:title>PowerPoint Presentation</dc:title>
</cp:coreProperties>
</file>