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75463" cy="9161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76000" cy="91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97000" y="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9480" y="686880"/>
            <a:ext cx="4579920" cy="343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9700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E2705C-9AD4-4D68-ADE3-B01330FDB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DE4503-4050-423A-9E8B-56E511837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B5680B-4922-4C00-8FDF-533EB6938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B0A477-B3B1-42C3-82E1-73D539E6B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BE3BB2-A234-46A7-8036-7EBE00958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A92D04-0465-4D09-B74A-65BD7AB43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CEDE44-E5FF-4D4B-95C1-AE9DAEF9F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7FA50F-766A-4381-9769-3C9702C30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37AC48-666F-4583-88E6-E679BE7C9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4D6896-F18D-4080-88E8-1C8AB55D8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FE54CD-6DEF-4A12-9EF7-D89B7C25A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9F2F41-0825-4A85-BC67-F90E9D12B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6408B3-1BBB-4319-8E81-73C69EA88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4815E0-B884-45D0-BD3D-39B908A88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DFEAB8-166C-4E50-AF8E-595D65AAE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D40A3-780A-4336-83D2-62F4206558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53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623BE-4038-4796-A447-0B9BD96F59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53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53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48AF7-5B19-4881-88B3-6AA848C5F0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53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53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53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90C49-CD6A-4509-B758-14C6A993E8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00A2F-7E1C-436F-93EA-C051760544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B1C2B-ECBC-4446-B84A-0F666C4AC6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1A45F-363A-468E-BEBD-E38E0648C6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8C8FB-58F5-475C-AC9A-F5D253DF83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43F9D-7C3B-484A-8700-508A73BD3D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53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C2830-5655-43E0-9F73-F71A279285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53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40CA3-60F4-454B-B70B-1E1AF36D0F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53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9E6E6-1740-4E3F-8730-2C7F60431F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D91E-716F-44AC-970E-A52AF747EE2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990360" y="6400440"/>
            <a:ext cx="6476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F38D-B2E2-47C9-9097-482A5931C34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990720" y="6400800"/>
            <a:ext cx="647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D058-22CE-4FD8-BE69-10E1740DB43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Lack of Object Orienta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ll versions of OpenGL are not object oriented so that there are multiple functions for a given logical func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ample: sending values to shad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gl.uniform3f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gl.uniform2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gl.uniform3d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derlying storage mode is the sam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990720" y="6400800"/>
            <a:ext cx="647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47FC-7286-4D92-9C26-64C06439F11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WebGL function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686320" y="27432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g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uniform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cc99"/>
                </a:solidFill>
                <a:latin typeface="Courier New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x,y,z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" name="Line 5"/>
          <p:cNvSpPr/>
          <p:nvPr/>
        </p:nvSpPr>
        <p:spPr>
          <a:xfrm flipV="1">
            <a:off x="2133720" y="3200400"/>
            <a:ext cx="685800" cy="4572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604800" y="3809880"/>
            <a:ext cx="34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ongs to WebGL canva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" name="Line 8"/>
          <p:cNvSpPr/>
          <p:nvPr/>
        </p:nvSpPr>
        <p:spPr>
          <a:xfrm flipH="1">
            <a:off x="3733560" y="2133720"/>
            <a:ext cx="60948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3679920" y="179388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 nam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" name="Line 10"/>
          <p:cNvSpPr/>
          <p:nvPr/>
        </p:nvSpPr>
        <p:spPr>
          <a:xfrm flipH="1" flipV="1">
            <a:off x="4952880" y="3200400"/>
            <a:ext cx="457200" cy="457200"/>
          </a:xfrm>
          <a:prstGeom prst="line">
            <a:avLst/>
          </a:prstGeom>
          <a:ln w="1260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4584240" y="3657600"/>
            <a:ext cx="28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,y,z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variable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3048120" y="487692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1770840" y="501984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l.uniform3f</a:t>
            </a:r>
            <a:r>
              <a:rPr b="1" lang="en-US" sz="2400" spc="-1" strike="noStrike">
                <a:solidFill>
                  <a:srgbClr val="00cc99"/>
                </a:solidFill>
                <a:latin typeface="Courier New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p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4" name="Line 14"/>
          <p:cNvSpPr/>
          <p:nvPr/>
        </p:nvSpPr>
        <p:spPr>
          <a:xfrm flipH="1" flipV="1">
            <a:off x="4267080" y="5486400"/>
            <a:ext cx="609840" cy="533520"/>
          </a:xfrm>
          <a:prstGeom prst="line">
            <a:avLst/>
          </a:prstGeom>
          <a:ln w="1260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5038560" y="5715000"/>
            <a:ext cx="18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n array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6" name="Line 16"/>
          <p:cNvSpPr/>
          <p:nvPr/>
        </p:nvSpPr>
        <p:spPr>
          <a:xfrm flipH="1">
            <a:off x="4724280" y="2286000"/>
            <a:ext cx="1524240" cy="5335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6331320" y="19810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mension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8" name="Footer Placeholder 16"/>
          <p:cNvSpPr/>
          <p:nvPr/>
        </p:nvSpPr>
        <p:spPr>
          <a:xfrm>
            <a:off x="990720" y="6400800"/>
            <a:ext cx="647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BFDB-4C7B-46D5-A598-E6FBDCB2BBE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WebGL constant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ost constants are defined in the canvas object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desktop OpenGL, they were in #include files such as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gl.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desktop OpenG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Enable(GL_DEPTH_TE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WebG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.enable(gl.DEPTH_TE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gl.clear(gl.COLOR_BUFFER_BI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990720" y="6400800"/>
            <a:ext cx="647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WebGL and GLS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bGL requires shaders and is based less on a state machine model than a data flow mod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ost state variables, attributes and related pre 3.1 OpenGL functions have been deprecat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ction happens in shad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Job of application is to get data to GPU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B149-6660-48E7-82EB-3A882F5C0A2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990720" y="6400800"/>
            <a:ext cx="647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GLS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188280" indent="-1882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penGL Shading Languag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-like with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864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rix and vector types (2, 3, 4 dimension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864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verloaded opera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864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++ like construc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milar to Nvidia’s Cg and Microsoft HLS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de sent to shaders as source cod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bGL  functions compile, link and get information to shad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22A5-A7CA-4ADC-8A90-40D52293A9F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990720" y="6400800"/>
            <a:ext cx="647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3143-6A5F-401A-91CD-F4101206C80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rogramming with WebGL</a:t>
            </a:r>
            <a:br>
              <a:rPr sz="3700"/>
            </a:b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art 1: Background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3276720"/>
            <a:ext cx="76964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990720" y="6400800"/>
            <a:ext cx="647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095B-321B-4DFA-876C-FC3E6A9C967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penGL Architectur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6" descr="AN01F28.jpg"/>
          <p:cNvPicPr/>
          <p:nvPr/>
        </p:nvPicPr>
        <p:blipFill>
          <a:blip r:embed="rId1"/>
          <a:stretch/>
        </p:blipFill>
        <p:spPr>
          <a:xfrm>
            <a:off x="2362320" y="2362320"/>
            <a:ext cx="5437080" cy="1904760"/>
          </a:xfrm>
          <a:prstGeom prst="rect">
            <a:avLst/>
          </a:prstGeom>
          <a:ln w="0">
            <a:noFill/>
          </a:ln>
        </p:spPr>
      </p:pic>
      <p:sp>
        <p:nvSpPr>
          <p:cNvPr id="62" name="Footer Placeholder 5"/>
          <p:cNvSpPr/>
          <p:nvPr/>
        </p:nvSpPr>
        <p:spPr>
          <a:xfrm>
            <a:off x="990720" y="6400800"/>
            <a:ext cx="647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581E-D1A7-4A14-B4F7-B4A07BA0135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oftware Organiza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65" name="Picture 36" descr="an02f04.jpg"/>
          <p:cNvPicPr/>
          <p:nvPr/>
        </p:nvPicPr>
        <p:blipFill>
          <a:blip r:embed="rId1"/>
          <a:stretch/>
        </p:blipFill>
        <p:spPr>
          <a:xfrm>
            <a:off x="343080" y="2666880"/>
            <a:ext cx="8664480" cy="1981440"/>
          </a:xfrm>
          <a:prstGeom prst="rect">
            <a:avLst/>
          </a:prstGeom>
          <a:ln w="0">
            <a:noFill/>
          </a:ln>
        </p:spPr>
      </p:pic>
      <p:sp>
        <p:nvSpPr>
          <p:cNvPr id="66" name="Footer Placeholder 4"/>
          <p:cNvSpPr/>
          <p:nvPr/>
        </p:nvSpPr>
        <p:spPr>
          <a:xfrm>
            <a:off x="990720" y="6400800"/>
            <a:ext cx="647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5F1D-0151-4DB6-88DE-A73E6F510AF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 OpenGL Simple Program 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enerate a square on a solid backgroun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2438280" y="2286000"/>
            <a:ext cx="3364200" cy="3571920"/>
          </a:xfrm>
          <a:prstGeom prst="rect">
            <a:avLst/>
          </a:prstGeom>
          <a:ln w="0">
            <a:noFill/>
          </a:ln>
        </p:spPr>
      </p:pic>
      <p:sp>
        <p:nvSpPr>
          <p:cNvPr id="71" name="Footer Placeholder 5"/>
          <p:cNvSpPr/>
          <p:nvPr/>
        </p:nvSpPr>
        <p:spPr>
          <a:xfrm>
            <a:off x="990720" y="6400800"/>
            <a:ext cx="647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t used to be easy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5800" y="1447560"/>
            <a:ext cx="7772400" cy="4724280"/>
          </a:xfrm>
          <a:prstGeom prst="rect">
            <a:avLst/>
          </a:prstGeom>
          <a:ln w="0">
            <a:noFill/>
          </a:ln>
        </p:spPr>
      </p:pic>
      <p:sp>
        <p:nvSpPr>
          <p:cNvPr id="7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BA02-124A-466F-A311-C6DA4D1F16E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" name="TextBox 5"/>
          <p:cNvSpPr/>
          <p:nvPr/>
        </p:nvSpPr>
        <p:spPr>
          <a:xfrm>
            <a:off x="228600" y="1523880"/>
            <a:ext cx="8458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&lt;GL/glut.h&gt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mydisplay()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Clear(GL_COLOR_BUFFER_BIT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Begin(GL_QUAD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Vertex2f(-0.5, -0.5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Vertex2f(-0,5, 0,5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Vertex2f(0.5, 0.5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Vertex2f(0.5, -0.5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End(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ain(int argc, char** argv)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utCreateWindow("simple");    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utDisplayFunc(mydisplay);   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utMainLoop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" name="Footer Placeholder 5"/>
          <p:cNvSpPr/>
          <p:nvPr/>
        </p:nvSpPr>
        <p:spPr>
          <a:xfrm>
            <a:off x="990720" y="6400800"/>
            <a:ext cx="647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8631-0105-4CB4-A1B8-D3BF56BD91E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What happened?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ost OpenGL functions deprecat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mediate vs retained m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ke use of GP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kes heavy use of state variable default values that no longer exis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ew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ndow parame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owever, processing loop is the sam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ooter Placeholder 4"/>
          <p:cNvSpPr/>
          <p:nvPr/>
        </p:nvSpPr>
        <p:spPr>
          <a:xfrm>
            <a:off x="990720" y="6400800"/>
            <a:ext cx="647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Execution in Browser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5527-D031-4C2E-99A5-0ABCC555BF5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83" name="Content Placeholder 11" descr="html.eps"/>
          <p:cNvPicPr/>
          <p:nvPr/>
        </p:nvPicPr>
        <p:blipFill>
          <a:blip r:embed="rId1"/>
          <a:srcRect l="-38240" t="0" r="-38240" b="0"/>
          <a:stretch/>
        </p:blipFill>
        <p:spPr>
          <a:xfrm>
            <a:off x="685800" y="1447920"/>
            <a:ext cx="7772400" cy="4724280"/>
          </a:xfrm>
          <a:prstGeom prst="rect">
            <a:avLst/>
          </a:prstGeom>
          <a:ln w="0">
            <a:noFill/>
          </a:ln>
        </p:spPr>
      </p:pic>
      <p:sp>
        <p:nvSpPr>
          <p:cNvPr id="84" name="Footer Placeholder 4"/>
          <p:cNvSpPr/>
          <p:nvPr/>
        </p:nvSpPr>
        <p:spPr>
          <a:xfrm>
            <a:off x="990720" y="6400800"/>
            <a:ext cx="647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E266-FF26-4672-ACD8-FDDFD270E23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Event Loop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member that the sample program specifies a render function which is a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ent listener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 callback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func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ery program should have a render callb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a static application we need only execute the render function o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dynamic application, the render function can call itself recursively but each redrawing of the display must be triggered by an ev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990720" y="6400800"/>
            <a:ext cx="647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6T15:43:07Z</dcterms:created>
  <dc:creator>Ed Angel</dc:creator>
  <dc:description/>
  <dc:language>en-US</dc:language>
  <cp:lastModifiedBy>Ed Angel</cp:lastModifiedBy>
  <dcterms:modified xsi:type="dcterms:W3CDTF">2014-03-31T17:40:41Z</dcterms:modified>
  <cp:revision>74</cp:revision>
  <dc:subject/>
  <dc:title>PowerPoint Presentation</dc:title>
</cp:coreProperties>
</file>