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E4E04-A216-4B69-8C02-EE5C1EC155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FB9FC-F892-4822-9B6F-F23E2BFD37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E03F0-D397-4D5A-8DC5-9C60D8CFD7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39C07-03FF-4A03-A765-D7C37AA987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42705-75D2-47AA-B4E7-6B40B21DD7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57A81-EA0B-4104-AFAF-22A2B9CCAC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81A9D-E5D1-4E83-BF6C-3DE14267F5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3C20B-A408-424E-9150-157B2094AA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CF117-E5FE-4616-9D0D-F6100A217D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3BA87-CC5F-4439-8B20-60E272E385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56592-2325-47EA-B239-3257FC23A9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6EDCF-6BE3-4F32-BC4B-BC89F34B41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FE4BD-934F-4D6F-8148-76BEAF1AD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6828B-47D2-412B-AF9D-7806C3EEE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297E-8761-45B9-8D36-C8C359477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53D97-265F-4A79-96F5-DCCB464C14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6002-278C-48AA-969F-6AE5B77AEF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6AEB-3E59-4D0D-AE8E-DB16E7F044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8EDF-773A-4D8F-8AF6-D20A25D6D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B1F7-A401-4AD8-BD62-188BEAB2E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86AB0-76B0-4904-BB36-E95195151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6674-1FA2-4F16-AE40-541401BF7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119A-FC1F-4BE4-ABB3-DB7B82B90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258D3-B903-4587-9BCF-41A3176E4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039E-4A82-4BAE-8CDB-D5F1C50CBB5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78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9193-5102-4DB1-B7F6-21CB2366ABD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5E5F-6966-4E1B-836E-CF950D9B75C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ample: Vertex Shad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ttribute vec4 vColor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arying vec4 fColor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l_Position = vPosition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Color = vColor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AB77-D408-4EE7-852E-F6F2B29E699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rresponding Fragment Shad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ecision mediump float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arying vec3 fColor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l_FragColor = fColor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ending Colors from Applic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1F28-832E-42C8-AF14-59053F8519A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685800" y="1595520"/>
            <a:ext cx="845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cBuffer = gl.createBuffe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bindBuffer( gl.ARRAY_BUFFER, cBuffer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bufferData( gl.ARRAY_BUFFER, flatten(colors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STATIC_DRAW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 vColor = gl.getAttribLocation( program, "vColor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vertexAttribPointer( vColor, 3, gl.FLOAT, false, 0, 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enableVertexAttribArray( vColor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ending a Uniform Variabl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B42B-06DA-4C48-AE86-34127E97030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838080" y="159552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in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4 color = vec4(1.0, 0.0, 0.0, 1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Loc = gl.getUniformLocation( program, ”color" )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uniform4f( colorLoc, color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in fragment shader (similar in vertex sha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vec4 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_FragColor = 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80FC-7789-4898-8F47-B8F3D82CA26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perators and Func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ndard C func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gono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ithme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malize, reflect, leng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verloading of vector and matrix typ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4 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c4 b, c, d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 = b*a; // a column vector stored as a 1d arr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 = a*b; // a row vector stored as a 1d arr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7A71-0A3D-4D7C-8766-D46DA03C988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wizzling and Sele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180720" indent="-180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refer to array elements by element using [] or selection (.) operator with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, y, z, 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, g, b,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, t, p, 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a[2], a.b, a.z, a.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 the s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wizzling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operator lets us manipulate compone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vec4 a, b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a.yz = vec2(1.0, 2.0, 3.0, 4.0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b = a.yxzw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ogramming with WebGL</a:t>
            </a:r>
            <a:br>
              <a:rPr sz="3700"/>
            </a:b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art 3: Shader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41148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of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2616-E97C-449E-BEA8-9433BB4394A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85E7-DB15-4A94-860E-BD453EA29A6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ata Typ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types: int, float, boo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ectors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at vec2, vec3, vec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so int (ivec) and boolean (bv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trices: mat2, mat3, mat4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d by colum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 referencing m[row][column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++ style constructo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c3 a =vec3(1.0, 2.0, 3.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c2 b = vec2(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EF74-A51E-49D8-A2D1-D78B025F6D3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No Pointer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re are no pointers in GLS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an use C structs whic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be copied back from func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ecause matrices and vectors are basic types they can be passed into and output from GLSL functions, e.g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t3 func(mat3 a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ariables passed by copy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A2E1-DAE4-4F80-AA22-A8FB33D4662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Qualifier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SL has many of the same qualifiers such a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C/C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others due to the nature of the execu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can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per prim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per vert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per frag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any time in th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ex attributes are interpolated by the rasterizer into fragment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6625-ACB1-4853-AD07-2FF55B14FDE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ttribute Qualifi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e-qualified variables can change at most once per ver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 few built in variables such as gl_Position but most have been depre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defined (in application progra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ttribute float tempera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ttribute vec3 velo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75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cent versions of GLSL use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out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ualifiers to get to and from shad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86C1-65D5-48DB-9EAB-02150600AF1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Arial"/>
              </a:rPr>
              <a:t>Uniform Qualified</a:t>
            </a: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ariables that are constant for an entire primitiv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be changed in application and sent to shad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not be changed in sha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ed to pass information to shader such as the time or a bounding box of a primitive or transformation matri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AAC5-6BEF-4678-A483-0814B0050C3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arying Qualified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174960" indent="-1749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ariables that are passed from vertex shader to fragment sha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utomatically interpolated by the rasteriz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ith WebGL, GLSL uses the varying qualifier in both shad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varying vec4 color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re recent versions of WebGL use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n vertex shader and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n the fragment sha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out vec4 color; //vertex sha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n vec4 color;  // fragment sha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76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ur Naming Conven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4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178920" indent="-178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ttributes passed to vertex shader have names beginning with v (v Position, vColor) in both the application and the sha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92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e that these are different entities with the same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ariable variables begin with f (fColor) in both shad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92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have same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form variables are unadorned and can have the same name in application and shad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89D8-3707-4315-8D0C-FABD6EA3887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16:27:13Z</dcterms:created>
  <dc:creator>Ed Angel</dc:creator>
  <dc:description/>
  <dc:language>en-US</dc:language>
  <cp:lastModifiedBy>Ed Angel</cp:lastModifiedBy>
  <dcterms:modified xsi:type="dcterms:W3CDTF">2014-03-31T17:42:06Z</dcterms:modified>
  <cp:revision>82</cp:revision>
  <dc:subject/>
  <dc:title>PowerPoint Presentation</dc:title>
</cp:coreProperties>
</file>