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68B3-1BE7-4AA5-98E7-47B300F3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2FE-3155-41EA-8539-CC38FC0B4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ED0F-A0E4-4308-9396-EF302E6BA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341F-58E6-4823-8EFE-BD82751D1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18EF-4BED-47BA-9C63-6750B746C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E29F-FBC2-42D4-AD71-33AF8D110C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12DB-2DB4-4985-B497-52EC539B4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DFB6-56A6-463E-A82E-C26461718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6393-C4A2-4263-86D2-59A3F87F2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16A8-894C-4C96-B722-E8C2C9B58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5457-7BD2-4A02-BF03-7FFD58146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DFC-4D8D-47B0-B696-C1C7E4E23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DD9A-4729-4668-81BC-6D541721B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F2B3-7DD1-4732-B224-399D3FE04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A0F-9BE4-40EB-B32E-84C9632155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925-1DE4-4A80-B18E-D4842087C0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ubber Band Lin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x one poi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aw line to location of curs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return state of crossed objects when line mo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522-AFD1-4EB3-8539-DF77317FA2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057400" y="4267080"/>
            <a:ext cx="4419720" cy="2133720"/>
          </a:xfrm>
          <a:prstGeom prst="rect">
            <a:avLst/>
          </a:prstGeom>
          <a:solidFill>
            <a:srgbClr val="00cc99">
              <a:alpha val="31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Isosceles Triangle 6"/>
          <p:cNvSpPr/>
          <p:nvPr/>
        </p:nvSpPr>
        <p:spPr>
          <a:xfrm>
            <a:off x="3733920" y="457200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us 8"/>
          <p:cNvSpPr/>
          <p:nvPr/>
        </p:nvSpPr>
        <p:spPr>
          <a:xfrm>
            <a:off x="5029200" y="4419720"/>
            <a:ext cx="457200" cy="4572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Straight Arrow Connector 11"/>
          <p:cNvCxnSpPr/>
          <p:nvPr/>
        </p:nvCxnSpPr>
        <p:spPr>
          <a:xfrm flipV="1">
            <a:off x="2590920" y="4647960"/>
            <a:ext cx="266724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2"/>
          <p:cNvCxnSpPr/>
          <p:nvPr/>
        </p:nvCxnSpPr>
        <p:spPr>
          <a:xfrm flipV="1">
            <a:off x="2590920" y="4876200"/>
            <a:ext cx="274392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3"/>
          <p:cNvCxnSpPr/>
          <p:nvPr/>
        </p:nvCxnSpPr>
        <p:spPr>
          <a:xfrm flipV="1">
            <a:off x="2590920" y="5028840"/>
            <a:ext cx="274392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 flipV="1">
            <a:off x="2666520" y="5257080"/>
            <a:ext cx="259164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Straight Arrow Connector 15"/>
          <p:cNvCxnSpPr/>
          <p:nvPr/>
        </p:nvCxnSpPr>
        <p:spPr>
          <a:xfrm flipV="1">
            <a:off x="2590560" y="5409720"/>
            <a:ext cx="2515320" cy="61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16"/>
          <p:cNvCxnSpPr/>
          <p:nvPr/>
        </p:nvCxnSpPr>
        <p:spPr>
          <a:xfrm flipV="1">
            <a:off x="2666520" y="5637960"/>
            <a:ext cx="22107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Footer Placeholder 13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itBl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E9C-1E07-4E48-B666-8AA711C7EF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C508-4FA7-48FE-843B-98CDBA02EB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reading and writing of blocks of bits or by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pare for later discussion compositing and blen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riting into Buff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does not contain a function for writing bits into frame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exture functions inst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the fragment shader to do bit level operations on graphics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 Block Transfer (BitBlt) operations act on blocks of bits with a single instr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D319-C736-470B-9291-6C74F30662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90E-DBC1-4BAD-91D2-D47F3985FC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itBl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ptually, we can consider all of memory as a large two-dimensional array of pix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read and write rectangular block of pix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rame buffer is part of this mem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905120" y="3886200"/>
            <a:ext cx="4572000" cy="20574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267080" y="4114800"/>
            <a:ext cx="198144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209680" y="4952880"/>
            <a:ext cx="990720" cy="762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H="1" flipV="1">
            <a:off x="6095880" y="4800600"/>
            <a:ext cx="9144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784920" y="52578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3276720" y="4495680"/>
            <a:ext cx="14475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460600" y="59436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into the fram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13624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49200" y="4916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1600200" y="4723920"/>
            <a:ext cx="60948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1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4CE-4560-4592-BAFA-BE5EA34F83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Writing Model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destination pixel before writing sour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07F05"/>
          <p:cNvPicPr/>
          <p:nvPr/>
        </p:nvPicPr>
        <p:blipFill>
          <a:blip r:embed="rId1"/>
          <a:stretch/>
        </p:blipFill>
        <p:spPr>
          <a:xfrm>
            <a:off x="1143000" y="2666880"/>
            <a:ext cx="6221520" cy="284508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D60-D6E9-45BF-9E8F-834890ED18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it Writing M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urce and destination bits are combined bit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6 possible functions (one per column in t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07F06"/>
          <p:cNvPicPr/>
          <p:nvPr/>
        </p:nvPicPr>
        <p:blipFill>
          <a:blip r:embed="rId1"/>
          <a:stretch/>
        </p:blipFill>
        <p:spPr>
          <a:xfrm>
            <a:off x="457200" y="3657600"/>
            <a:ext cx="8172360" cy="2639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527120" y="2819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793840" y="2971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346640" y="27432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>
            <a:off x="2666880" y="3124080"/>
            <a:ext cx="60984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4571640" y="320040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4952520" y="3352680"/>
            <a:ext cx="76212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200400" y="3657600"/>
            <a:ext cx="228600" cy="266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419720" y="3657600"/>
            <a:ext cx="228600" cy="266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4800600" y="3657600"/>
            <a:ext cx="228600" cy="266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1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96A-DD95-4044-9621-EE890B30B7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XOR mod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OR is especially useful for swapping blocks of memory such as menus that are stored off 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e strategy used for rubber band lines and curs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76120" y="2819520"/>
            <a:ext cx="667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screen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 S a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rsor Movem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what happens as we move a cursor across the 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over parts of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return to original colors when cursor moves a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5822-A51A-4C82-A310-C0ED043E8B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2057400" y="4267080"/>
            <a:ext cx="4419720" cy="2133720"/>
            <a:chOff x="2057400" y="4267080"/>
            <a:chExt cx="4419720" cy="2133720"/>
          </a:xfrm>
        </p:grpSpPr>
        <p:sp>
          <p:nvSpPr>
            <p:cNvPr id="108" name="Rectangle 5"/>
            <p:cNvSpPr/>
            <p:nvPr/>
          </p:nvSpPr>
          <p:spPr>
            <a:xfrm>
              <a:off x="2057400" y="4267080"/>
              <a:ext cx="4419720" cy="2133720"/>
            </a:xfrm>
            <a:prstGeom prst="rect">
              <a:avLst/>
            </a:prstGeom>
            <a:solidFill>
              <a:srgbClr val="00cc99">
                <a:alpha val="3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Isosceles Triangle 7"/>
            <p:cNvSpPr/>
            <p:nvPr/>
          </p:nvSpPr>
          <p:spPr>
            <a:xfrm>
              <a:off x="3733920" y="4571640"/>
              <a:ext cx="838080" cy="7621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8"/>
            <p:cNvSpPr/>
            <p:nvPr/>
          </p:nvSpPr>
          <p:spPr>
            <a:xfrm>
              <a:off x="5334120" y="5029200"/>
              <a:ext cx="761760" cy="762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Plus 6"/>
            <p:cNvSpPr/>
            <p:nvPr/>
          </p:nvSpPr>
          <p:spPr>
            <a:xfrm>
              <a:off x="3581280" y="5105160"/>
              <a:ext cx="457200" cy="4572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2361960" y="5181480"/>
              <a:ext cx="685800" cy="53352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Footer Placeholder 10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20:31:18Z</dcterms:created>
  <dc:creator>Ed Angel</dc:creator>
  <dc:description/>
  <dc:language>en-US</dc:language>
  <cp:lastModifiedBy>Ed Angel</cp:lastModifiedBy>
  <dcterms:modified xsi:type="dcterms:W3CDTF">2014-03-31T17:52:50Z</dcterms:modified>
  <cp:revision>194</cp:revision>
  <dc:subject/>
  <dc:title>PowerPoint Presentation</dc:title>
</cp:coreProperties>
</file>