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80B5-E4C7-432C-B1D1-C92B93546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F025-38F1-4E3F-AD85-4D297E519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7E19-FDAC-4A48-8EE9-4DEA8B5D6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657A-425F-4B04-89D2-6CE7051501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522C-F26A-47D0-B6A8-5E050C21B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D44E-CF6C-486F-B04C-9718D8DE8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1BAC-8330-4C90-BD04-2CA3E3284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36BE-8353-4424-B127-428242E74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6531-33F8-4E45-A11F-41CF474D0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C5BB-CE6F-46A7-8064-679EEF8E5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C039-7056-4478-94C5-F6EB8607A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CB6E-ECDA-41CF-8BB4-A694F0309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66E8-AE2E-41B4-A8DF-26DC487F077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CC2F-7FA7-4740-8FE4-1ACB91B78D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D17A-693F-4DA6-8154-A9537A6D6A8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m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coordinate system is insufficient to represent 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work in an affine space we can add a single point, 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to the basis vectors to form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2437920" y="4038120"/>
            <a:ext cx="1981440" cy="2210400"/>
            <a:chOff x="2437920" y="4038120"/>
            <a:chExt cx="1981440" cy="2210400"/>
          </a:xfrm>
        </p:grpSpPr>
        <p:sp>
          <p:nvSpPr>
            <p:cNvPr id="96" name="Line 6"/>
            <p:cNvSpPr/>
            <p:nvPr/>
          </p:nvSpPr>
          <p:spPr>
            <a:xfrm>
              <a:off x="3047760" y="52578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 flipV="1">
              <a:off x="3047760" y="40381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8"/>
            <p:cNvSpPr/>
            <p:nvPr/>
          </p:nvSpPr>
          <p:spPr>
            <a:xfrm flipH="1">
              <a:off x="2437920" y="5257800"/>
              <a:ext cx="60948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9"/>
          <p:cNvSpPr/>
          <p:nvPr/>
        </p:nvSpPr>
        <p:spPr>
          <a:xfrm>
            <a:off x="2548440" y="49528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760560" y="46134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063600" y="43434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90340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12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4E5E-36EA-48E2-A910-EEB0799B81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presentation in a Fram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me determined by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in this frame, every vector can be written a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….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ery point can be written 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….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5DAC-5FE8-4114-A9D1-3C79B89F37F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nfusing Points and Vecto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the point and the ve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….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….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appear to have the similar represent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ich confuses the point with the ve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vector has no pos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5790960" y="3962520"/>
            <a:ext cx="1981440" cy="2209320"/>
            <a:chOff x="5790960" y="3962520"/>
            <a:chExt cx="1981440" cy="2209320"/>
          </a:xfrm>
        </p:grpSpPr>
        <p:sp>
          <p:nvSpPr>
            <p:cNvPr id="112" name="Line 5"/>
            <p:cNvSpPr/>
            <p:nvPr/>
          </p:nvSpPr>
          <p:spPr>
            <a:xfrm>
              <a:off x="6400800" y="51814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 flipV="1">
              <a:off x="6400800" y="39625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7"/>
            <p:cNvSpPr/>
            <p:nvPr/>
          </p:nvSpPr>
          <p:spPr>
            <a:xfrm flipH="1">
              <a:off x="5790960" y="5181480"/>
              <a:ext cx="60948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Line 8"/>
          <p:cNvSpPr/>
          <p:nvPr/>
        </p:nvSpPr>
        <p:spPr>
          <a:xfrm flipV="1">
            <a:off x="6400800" y="4419720"/>
            <a:ext cx="914400" cy="761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91992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39332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 flipV="1">
            <a:off x="6629400" y="3657240"/>
            <a:ext cx="914400" cy="7621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67834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4"/>
          <p:cNvSpPr/>
          <p:nvPr/>
        </p:nvSpPr>
        <p:spPr>
          <a:xfrm flipV="1">
            <a:off x="3886200" y="4343040"/>
            <a:ext cx="266688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114800" y="4647960"/>
            <a:ext cx="27432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68840" y="5410080"/>
            <a:ext cx="4010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can be placed an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7238880" y="4267080"/>
            <a:ext cx="152640" cy="152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8"/>
          <p:cNvSpPr/>
          <p:nvPr/>
        </p:nvSpPr>
        <p:spPr>
          <a:xfrm flipH="1" flipV="1">
            <a:off x="7391160" y="4495320"/>
            <a:ext cx="22860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6558120" y="5867280"/>
            <a:ext cx="1598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: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19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BF76-F812-427F-A09F-6F641D3869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pres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D97C-DCD8-4421-9DC4-574FEB8EB50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concepts such as dimension and ba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coordinate systems for representing vectors spaces and frames for representing affine sp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cuss change of frames and ba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A807-8E51-40AA-9F86-1649ABCB656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near Independenc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set of vector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inearly independen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f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..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0 iff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…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a set of vectors is linearly independent, we cannot represent one in terms of the other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a set of vectors is linearly dependent, at least one can be written in terms of the 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E13A-AE4F-4183-9720-1247018F29E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men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a vector space, the maximum number of linearly independent vectors is fixed and is called 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imens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sp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a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dimensional space, any set of n linearly independent vectors form 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as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 the sp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a bas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….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any vector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an be written 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….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re the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} are uniq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A27F-14E3-4000-9D17-8F0521FC11A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pres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til now we have been able to work with geometric entities without using any frame of reference, such as a coordinate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a frame of reference to relate points and objects to our physical world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where is a point? Can’t answer without a referenc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ld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era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E077-637B-446B-B308-AC7E7D384B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ordinate Syste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a bas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….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ector is written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….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list of scalar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….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epresentatio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respect to the given b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write the representation as a row or column array of scala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346480" y="5038560"/>
            <a:ext cx="316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….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562720" y="4419720"/>
                <a:ext cx="66024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Footer Placeholder 6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2133-0CF9-4E9B-AF6A-C074CF3B221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v=2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3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4v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[2 3 –4]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at this representation is with respect to a particular ba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example, in WebGL we will start by representing vectors using the object  basis but later the system needs a representation in terms of the camera or eye ba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984-5451-4514-9389-ED8F299E3C1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ordinate Syste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s correc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th are because vectors have no fixed lo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1447560" y="2209320"/>
            <a:ext cx="1981440" cy="2210400"/>
            <a:chOff x="1447560" y="2209320"/>
            <a:chExt cx="1981440" cy="2210400"/>
          </a:xfrm>
        </p:grpSpPr>
        <p:sp>
          <p:nvSpPr>
            <p:cNvPr id="81" name="Line 4"/>
            <p:cNvSpPr/>
            <p:nvPr/>
          </p:nvSpPr>
          <p:spPr>
            <a:xfrm>
              <a:off x="2057400" y="3429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2057400" y="22093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1447560" y="3429000"/>
              <a:ext cx="60948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Line 8"/>
          <p:cNvSpPr/>
          <p:nvPr/>
        </p:nvSpPr>
        <p:spPr>
          <a:xfrm flipV="1">
            <a:off x="2514600" y="2590560"/>
            <a:ext cx="1066680" cy="609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966760" y="286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5867280" y="29718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 flipV="1">
            <a:off x="5638680" y="2133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5867280" y="3200400"/>
            <a:ext cx="60984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 flipV="1">
            <a:off x="5181480" y="3276360"/>
            <a:ext cx="1067040" cy="609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182920" y="3352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15"/>
          <p:cNvSpPr/>
          <p:nvPr/>
        </p:nvSpPr>
        <p:spPr>
          <a:xfrm>
            <a:off x="457200" y="6400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14-03-31T17:46:26Z</dcterms:modified>
  <cp:revision>101</cp:revision>
  <dc:subject/>
  <dc:title>PowerPoint Presentation</dc:title>
</cp:coreProperties>
</file>