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0B84-6C91-42DC-92BE-FC5892C4F7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08DF2-5E95-41D8-B5F2-DF9B4B8378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57B66-6FA8-4D29-8DFA-AFDF9FA50B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7EE46-F365-45CB-93C2-7650EEF1BC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0DCB4-DA99-4F8C-8BD3-3D55AE7DF7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6E86A-9A07-4FDC-B7B9-677D08D401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63E8D-E726-4256-8A27-D4D357161B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A900A-F4D5-48E3-8DBC-6C123BDAD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88C97-4810-41A3-ABA9-81A741C859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00313-B06D-4EEF-A368-8A4064CBBB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0A345-BAA9-40D9-A319-3B1F8F0068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1B327-30B6-4BE9-A0D6-F18BD5B353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47F74-1BB9-442E-A28E-829D32DB23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D828-E131-4AF7-8CFD-78F3AAC6555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00440"/>
            <a:ext cx="7086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D123-FD17-46C2-BEE6-7776B24147E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oter Placeholder 4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E91D-A5DB-465B-AA60-B2916F398BC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Unique Cas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aking out rotational and color swapping symmetries leaves four unique cas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rst three have a simple interpret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838080" y="3886200"/>
            <a:ext cx="7391520" cy="1611360"/>
          </a:xfrm>
          <a:prstGeom prst="rect">
            <a:avLst/>
          </a:prstGeom>
          <a:ln w="0">
            <a:noFill/>
          </a:ln>
        </p:spPr>
      </p:pic>
      <p:sp>
        <p:nvSpPr>
          <p:cNvPr id="91" name="Footer Placeholder 5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7436-43AD-4D98-A466-78767F2957D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mbiguity Problem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iagonally opposite cases have two equally simple possible interpreta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1828800" y="2895480"/>
            <a:ext cx="5024520" cy="1984320"/>
          </a:xfrm>
          <a:prstGeom prst="rect">
            <a:avLst/>
          </a:prstGeom>
          <a:ln w="0">
            <a:noFill/>
          </a:ln>
        </p:spPr>
      </p:pic>
      <p:sp>
        <p:nvSpPr>
          <p:cNvPr id="96" name="Footer Placeholder 5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10EB-4FF8-4E24-A51C-5AF9A565B92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mbiguity Exampl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wo different possibilities below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re possibilities on next sli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143000" y="3124080"/>
            <a:ext cx="5295960" cy="2462400"/>
          </a:xfrm>
          <a:prstGeom prst="rect">
            <a:avLst/>
          </a:prstGeom>
          <a:ln w="0">
            <a:noFill/>
          </a:ln>
        </p:spPr>
      </p:pic>
      <p:sp>
        <p:nvSpPr>
          <p:cNvPr id="101" name="Footer Placeholder 5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C884-8F8F-4655-8C8E-BC3281CF937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mbiguity Problem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2514600" y="1625760"/>
            <a:ext cx="1079640" cy="1076040"/>
            <a:chOff x="2514600" y="1625760"/>
            <a:chExt cx="1079640" cy="1076040"/>
          </a:xfrm>
        </p:grpSpPr>
        <p:sp>
          <p:nvSpPr>
            <p:cNvPr id="105" name="Rectangle 4"/>
            <p:cNvSpPr/>
            <p:nvPr/>
          </p:nvSpPr>
          <p:spPr>
            <a:xfrm>
              <a:off x="2544840" y="1668600"/>
              <a:ext cx="1011240" cy="99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Oval 5"/>
            <p:cNvSpPr/>
            <p:nvPr/>
          </p:nvSpPr>
          <p:spPr>
            <a:xfrm>
              <a:off x="2514600" y="1652760"/>
              <a:ext cx="73080" cy="72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Oval 6"/>
            <p:cNvSpPr/>
            <p:nvPr/>
          </p:nvSpPr>
          <p:spPr>
            <a:xfrm>
              <a:off x="2514600" y="2619360"/>
              <a:ext cx="7308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Oval 7"/>
            <p:cNvSpPr/>
            <p:nvPr/>
          </p:nvSpPr>
          <p:spPr>
            <a:xfrm>
              <a:off x="3521160" y="1625760"/>
              <a:ext cx="7308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Oval 8"/>
            <p:cNvSpPr/>
            <p:nvPr/>
          </p:nvSpPr>
          <p:spPr>
            <a:xfrm>
              <a:off x="3513240" y="2627280"/>
              <a:ext cx="73080" cy="74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9"/>
          <p:cNvGrpSpPr/>
          <p:nvPr/>
        </p:nvGrpSpPr>
        <p:grpSpPr>
          <a:xfrm>
            <a:off x="5038560" y="1625760"/>
            <a:ext cx="1079640" cy="1076040"/>
            <a:chOff x="5038560" y="1625760"/>
            <a:chExt cx="1079640" cy="1076040"/>
          </a:xfrm>
        </p:grpSpPr>
        <p:sp>
          <p:nvSpPr>
            <p:cNvPr id="111" name="Rectangle 10"/>
            <p:cNvSpPr/>
            <p:nvPr/>
          </p:nvSpPr>
          <p:spPr>
            <a:xfrm>
              <a:off x="5068800" y="1668600"/>
              <a:ext cx="1011240" cy="99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Oval 11"/>
            <p:cNvSpPr/>
            <p:nvPr/>
          </p:nvSpPr>
          <p:spPr>
            <a:xfrm>
              <a:off x="5038560" y="1652760"/>
              <a:ext cx="73080" cy="72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Oval 12"/>
            <p:cNvSpPr/>
            <p:nvPr/>
          </p:nvSpPr>
          <p:spPr>
            <a:xfrm>
              <a:off x="5038560" y="2619360"/>
              <a:ext cx="7308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Oval 13"/>
            <p:cNvSpPr/>
            <p:nvPr/>
          </p:nvSpPr>
          <p:spPr>
            <a:xfrm>
              <a:off x="6045120" y="1625760"/>
              <a:ext cx="7308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Oval 14"/>
            <p:cNvSpPr/>
            <p:nvPr/>
          </p:nvSpPr>
          <p:spPr>
            <a:xfrm>
              <a:off x="6037200" y="2627280"/>
              <a:ext cx="73080" cy="74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15"/>
          <p:cNvGrpSpPr/>
          <p:nvPr/>
        </p:nvGrpSpPr>
        <p:grpSpPr>
          <a:xfrm>
            <a:off x="1095480" y="3978360"/>
            <a:ext cx="6746760" cy="971640"/>
            <a:chOff x="1095480" y="3978360"/>
            <a:chExt cx="6746760" cy="971640"/>
          </a:xfrm>
        </p:grpSpPr>
        <p:grpSp>
          <p:nvGrpSpPr>
            <p:cNvPr id="117" name="Group 16"/>
            <p:cNvGrpSpPr/>
            <p:nvPr/>
          </p:nvGrpSpPr>
          <p:grpSpPr>
            <a:xfrm>
              <a:off x="1095480" y="3978360"/>
              <a:ext cx="1612800" cy="971640"/>
              <a:chOff x="1095480" y="3978360"/>
              <a:chExt cx="1612800" cy="971640"/>
            </a:xfrm>
          </p:grpSpPr>
          <p:sp>
            <p:nvSpPr>
              <p:cNvPr id="118" name="Rectangle 17"/>
              <p:cNvSpPr/>
              <p:nvPr/>
            </p:nvSpPr>
            <p:spPr>
              <a:xfrm>
                <a:off x="1119240" y="4017960"/>
                <a:ext cx="776160" cy="900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Rectangle 18"/>
              <p:cNvSpPr/>
              <p:nvPr/>
            </p:nvSpPr>
            <p:spPr>
              <a:xfrm>
                <a:off x="1908000" y="4017960"/>
                <a:ext cx="776520" cy="900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Oval 19"/>
              <p:cNvSpPr/>
              <p:nvPr/>
            </p:nvSpPr>
            <p:spPr>
              <a:xfrm>
                <a:off x="1095480" y="4002120"/>
                <a:ext cx="52200" cy="65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Oval 20"/>
              <p:cNvSpPr/>
              <p:nvPr/>
            </p:nvSpPr>
            <p:spPr>
              <a:xfrm>
                <a:off x="2655720" y="4884840"/>
                <a:ext cx="52560" cy="65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21"/>
              <p:cNvSpPr/>
              <p:nvPr/>
            </p:nvSpPr>
            <p:spPr>
              <a:xfrm>
                <a:off x="1095480" y="4875120"/>
                <a:ext cx="52200" cy="66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22"/>
              <p:cNvSpPr/>
              <p:nvPr/>
            </p:nvSpPr>
            <p:spPr>
              <a:xfrm>
                <a:off x="1871640" y="3978360"/>
                <a:ext cx="54000" cy="65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3"/>
              <p:cNvSpPr/>
              <p:nvPr/>
            </p:nvSpPr>
            <p:spPr>
              <a:xfrm>
                <a:off x="2649600" y="3986280"/>
                <a:ext cx="52200" cy="666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4"/>
              <p:cNvSpPr/>
              <p:nvPr/>
            </p:nvSpPr>
            <p:spPr>
              <a:xfrm>
                <a:off x="1866960" y="4884840"/>
                <a:ext cx="52200" cy="65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Group 25"/>
            <p:cNvGrpSpPr/>
            <p:nvPr/>
          </p:nvGrpSpPr>
          <p:grpSpPr>
            <a:xfrm>
              <a:off x="3733920" y="3978360"/>
              <a:ext cx="1612800" cy="971640"/>
              <a:chOff x="3733920" y="3978360"/>
              <a:chExt cx="1612800" cy="971640"/>
            </a:xfrm>
          </p:grpSpPr>
          <p:sp>
            <p:nvSpPr>
              <p:cNvPr id="127" name="Rectangle 26"/>
              <p:cNvSpPr/>
              <p:nvPr/>
            </p:nvSpPr>
            <p:spPr>
              <a:xfrm>
                <a:off x="3757680" y="4017960"/>
                <a:ext cx="776160" cy="900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27"/>
              <p:cNvSpPr/>
              <p:nvPr/>
            </p:nvSpPr>
            <p:spPr>
              <a:xfrm>
                <a:off x="4546440" y="4017960"/>
                <a:ext cx="776520" cy="900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Oval 28"/>
              <p:cNvSpPr/>
              <p:nvPr/>
            </p:nvSpPr>
            <p:spPr>
              <a:xfrm>
                <a:off x="3733920" y="4002120"/>
                <a:ext cx="52200" cy="65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Oval 29"/>
              <p:cNvSpPr/>
              <p:nvPr/>
            </p:nvSpPr>
            <p:spPr>
              <a:xfrm>
                <a:off x="5294160" y="4884840"/>
                <a:ext cx="52560" cy="65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Oval 30"/>
              <p:cNvSpPr/>
              <p:nvPr/>
            </p:nvSpPr>
            <p:spPr>
              <a:xfrm>
                <a:off x="3733920" y="4875120"/>
                <a:ext cx="52200" cy="66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Oval 31"/>
              <p:cNvSpPr/>
              <p:nvPr/>
            </p:nvSpPr>
            <p:spPr>
              <a:xfrm>
                <a:off x="4510080" y="3978360"/>
                <a:ext cx="54000" cy="65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Oval 32"/>
              <p:cNvSpPr/>
              <p:nvPr/>
            </p:nvSpPr>
            <p:spPr>
              <a:xfrm>
                <a:off x="5288040" y="3986280"/>
                <a:ext cx="52200" cy="666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Oval 33"/>
              <p:cNvSpPr/>
              <p:nvPr/>
            </p:nvSpPr>
            <p:spPr>
              <a:xfrm>
                <a:off x="4505400" y="4884840"/>
                <a:ext cx="52200" cy="65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Group 34"/>
            <p:cNvGrpSpPr/>
            <p:nvPr/>
          </p:nvGrpSpPr>
          <p:grpSpPr>
            <a:xfrm>
              <a:off x="6229440" y="3978360"/>
              <a:ext cx="1612800" cy="971640"/>
              <a:chOff x="6229440" y="3978360"/>
              <a:chExt cx="1612800" cy="971640"/>
            </a:xfrm>
          </p:grpSpPr>
          <p:sp>
            <p:nvSpPr>
              <p:cNvPr id="136" name="Rectangle 35"/>
              <p:cNvSpPr/>
              <p:nvPr/>
            </p:nvSpPr>
            <p:spPr>
              <a:xfrm>
                <a:off x="6253200" y="4017960"/>
                <a:ext cx="776160" cy="900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36"/>
              <p:cNvSpPr/>
              <p:nvPr/>
            </p:nvSpPr>
            <p:spPr>
              <a:xfrm>
                <a:off x="7042320" y="4017960"/>
                <a:ext cx="776160" cy="900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Oval 37"/>
              <p:cNvSpPr/>
              <p:nvPr/>
            </p:nvSpPr>
            <p:spPr>
              <a:xfrm>
                <a:off x="6229440" y="4002120"/>
                <a:ext cx="52200" cy="65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Oval 38"/>
              <p:cNvSpPr/>
              <p:nvPr/>
            </p:nvSpPr>
            <p:spPr>
              <a:xfrm>
                <a:off x="7790040" y="4884840"/>
                <a:ext cx="52200" cy="65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Oval 39"/>
              <p:cNvSpPr/>
              <p:nvPr/>
            </p:nvSpPr>
            <p:spPr>
              <a:xfrm>
                <a:off x="6229440" y="4875120"/>
                <a:ext cx="52200" cy="66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Oval 40"/>
              <p:cNvSpPr/>
              <p:nvPr/>
            </p:nvSpPr>
            <p:spPr>
              <a:xfrm>
                <a:off x="7005600" y="3978360"/>
                <a:ext cx="54000" cy="65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Oval 41"/>
              <p:cNvSpPr/>
              <p:nvPr/>
            </p:nvSpPr>
            <p:spPr>
              <a:xfrm>
                <a:off x="7783560" y="3986280"/>
                <a:ext cx="52200" cy="666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Oval 42"/>
              <p:cNvSpPr/>
              <p:nvPr/>
            </p:nvSpPr>
            <p:spPr>
              <a:xfrm>
                <a:off x="7000920" y="4884840"/>
                <a:ext cx="52200" cy="65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4" name="Arc 43"/>
          <p:cNvSpPr/>
          <p:nvPr/>
        </p:nvSpPr>
        <p:spPr>
          <a:xfrm rot="10800000">
            <a:off x="2314080" y="1314360"/>
            <a:ext cx="800280" cy="914400"/>
          </a:xfrm>
          <a:prstGeom prst="pie">
            <a:avLst/>
          </a:prstGeom>
          <a:noFill/>
          <a:ln cap="rnd" w="507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rc 44"/>
          <p:cNvSpPr/>
          <p:nvPr/>
        </p:nvSpPr>
        <p:spPr>
          <a:xfrm>
            <a:off x="3040200" y="2182680"/>
            <a:ext cx="799920" cy="914400"/>
          </a:xfrm>
          <a:prstGeom prst="pie">
            <a:avLst/>
          </a:prstGeom>
          <a:noFill/>
          <a:ln cap="rnd" w="507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rc 45"/>
          <p:cNvSpPr/>
          <p:nvPr/>
        </p:nvSpPr>
        <p:spPr>
          <a:xfrm rot="5400000">
            <a:off x="4782960" y="2039760"/>
            <a:ext cx="800280" cy="914400"/>
          </a:xfrm>
          <a:prstGeom prst="pie">
            <a:avLst/>
          </a:prstGeom>
          <a:noFill/>
          <a:ln cap="rnd" w="507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rc 46"/>
          <p:cNvSpPr/>
          <p:nvPr/>
        </p:nvSpPr>
        <p:spPr>
          <a:xfrm rot="16200000">
            <a:off x="5678280" y="1248840"/>
            <a:ext cx="800280" cy="914400"/>
          </a:xfrm>
          <a:prstGeom prst="pie">
            <a:avLst/>
          </a:prstGeom>
          <a:noFill/>
          <a:ln cap="rnd" w="507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47"/>
          <p:cNvSpPr/>
          <p:nvPr/>
        </p:nvSpPr>
        <p:spPr>
          <a:xfrm rot="2040000">
            <a:off x="4654080" y="3539880"/>
            <a:ext cx="720720" cy="1778040"/>
          </a:xfrm>
          <a:prstGeom prst="ellipse">
            <a:avLst/>
          </a:prstGeom>
          <a:noFill/>
          <a:ln w="50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48"/>
          <p:cNvSpPr/>
          <p:nvPr/>
        </p:nvSpPr>
        <p:spPr>
          <a:xfrm rot="2040000">
            <a:off x="3492000" y="3063600"/>
            <a:ext cx="720720" cy="1778040"/>
          </a:xfrm>
          <a:prstGeom prst="ellipse">
            <a:avLst/>
          </a:prstGeom>
          <a:noFill/>
          <a:ln w="50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49"/>
          <p:cNvSpPr/>
          <p:nvPr/>
        </p:nvSpPr>
        <p:spPr>
          <a:xfrm>
            <a:off x="600120" y="3343320"/>
            <a:ext cx="2573280" cy="2116080"/>
          </a:xfrm>
          <a:prstGeom prst="pie">
            <a:avLst/>
          </a:prstGeom>
          <a:noFill/>
          <a:ln cap="rnd" w="507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reeform 50"/>
          <p:cNvSpPr/>
          <p:nvPr/>
        </p:nvSpPr>
        <p:spPr>
          <a:xfrm>
            <a:off x="5972040" y="3657600"/>
            <a:ext cx="2173320" cy="1544760"/>
          </a:xfrm>
          <a:prstGeom prst="pie">
            <a:avLst/>
          </a:prstGeom>
          <a:noFill/>
          <a:ln cap="rnd" w="507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ooter Placeholder 51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67B6-8DE7-4916-97C2-1B248EA8FF1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s Problem Resolvable?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blem is a sampling probl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enough samples to know the local deta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solution in a mathematical sense without extra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re of a problem with volume extension (marching cubes) where selecting “wrong” interpretation can leave a hole in a surf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ultiple methods in literature to give better appeara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ersamp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ok at larger area before deci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CEA7-0EBD-4D84-B5F0-2AF66851C0B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erpolating Edg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can compute where contour intersects edge in multiple way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lfway between ver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polated based on difference between contour value and value at vert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rcRect l="0" t="0" r="50009" b="17499"/>
          <a:stretch/>
        </p:blipFill>
        <p:spPr>
          <a:xfrm>
            <a:off x="2819520" y="4038480"/>
            <a:ext cx="2666880" cy="2057400"/>
          </a:xfrm>
          <a:prstGeom prst="rect">
            <a:avLst/>
          </a:prstGeom>
          <a:ln w="0">
            <a:noFill/>
          </a:ln>
        </p:spPr>
      </p:pic>
      <p:sp>
        <p:nvSpPr>
          <p:cNvPr id="161" name="Footer Placeholder 5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6FC8-E955-4FA8-B26F-37046BA767F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xample: Oval of Cassini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(x,y)=(x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-4a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-b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4267080" y="2666880"/>
            <a:ext cx="3657600" cy="1354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2"/>
          <a:stretch/>
        </p:blipFill>
        <p:spPr>
          <a:xfrm>
            <a:off x="4343400" y="4572000"/>
            <a:ext cx="3505320" cy="13255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842400" y="327672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point inters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538560" y="4952880"/>
            <a:ext cx="36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olating inters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836280" y="2133720"/>
            <a:ext cx="65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ing on a and b we can have 0, 1, or 2 curv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ooter Placeholder 9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A60F-187A-4E3B-9A9B-8A684B669FF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ntour Map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28954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amond Head, Oahu Hawai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hows contours for many contour valu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4876920" cy="4761000"/>
          </a:xfrm>
          <a:prstGeom prst="rect">
            <a:avLst/>
          </a:prstGeom>
          <a:ln w="0">
            <a:noFill/>
          </a:ln>
        </p:spPr>
      </p:pic>
      <p:sp>
        <p:nvSpPr>
          <p:cNvPr id="175" name="Footer Placeholder 5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D0E1-E33A-4FEF-8859-78982F2CDA8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Marching Cubes</a:t>
            </a:r>
            <a:endParaRPr b="1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osurface: solution of g(x,y,z)=c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e same argument to derive method but with a cubic cell (8 vertices, 256 coloring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andard method of volume visualization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uggested by Lorensen and Kline before marching squar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te inherent parallelism of both marching cubes and marching squar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313F-6348-48EB-8A46-E3CC3526E13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Marching Squar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28240" y="1980720"/>
            <a:ext cx="83818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09EB-CB2D-4508-8B5D-795273C320A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9960" y="14670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trivial two-dimensional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method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our p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icit function visu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s to important method for volume vis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 is optional but should be interesting to most of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FE69-7734-4E9F-A402-513D61CBC07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Displaying Implicit Functions</a:t>
            </a:r>
            <a:endParaRPr b="1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sider the implicit fun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g(x,y)=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iven an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, we cannot in general find a corresponding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iven an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, we can test if they are on the curv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91B2-6AFC-4C03-9DCA-4FD81269CCA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Height Fields and Contours</a:t>
            </a:r>
            <a:endParaRPr b="1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many applications, we have the heights given by a function of the form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z=f(x,y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o find all the points that have a given height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, we have to solve the implicit equation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g(x,y)=f(x,y)-t=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uch a function determines the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isocurves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ontours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for the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isovalue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8267-8E3E-4D13-B1BC-ED4E31B457A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Marching Squar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splays isocurves or contours for functions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(x,y) = 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(x,y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n a regular grid yielding samples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{f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x,y)}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se samples can be greater than, less than, or equal 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sider four samples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x,y), f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i+1,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x,y), f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i+1,j+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x,y), f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i,j+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x,y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se samples correspond to the corners of a ce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lor the corners by whether they exceed or are less than the contour value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86AB-5321-466B-A2BF-E98F1189F12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ells and Color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6462720" cy="2979720"/>
          </a:xfrm>
          <a:prstGeom prst="rect">
            <a:avLst/>
          </a:prstGeom>
          <a:ln w="0">
            <a:noFill/>
          </a:ln>
        </p:spPr>
      </p:pic>
      <p:sp>
        <p:nvSpPr>
          <p:cNvPr id="76" name="Footer Placeholder 5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A16B-FC71-40DE-A73A-8FF71AB1E6F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ccum’s Razo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tour must intersect edge between a black and white vertex an odd number of tim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ick simplest interpretation: one cross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1523880" y="3809880"/>
            <a:ext cx="5334120" cy="2494080"/>
          </a:xfrm>
          <a:prstGeom prst="rect">
            <a:avLst/>
          </a:prstGeom>
          <a:ln w="0">
            <a:noFill/>
          </a:ln>
        </p:spPr>
      </p:pic>
      <p:sp>
        <p:nvSpPr>
          <p:cNvPr id="81" name="Footer Placeholder 5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0078-B30E-41FC-979D-3BA851F70F5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16 Cas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608360" cy="4608360"/>
          </a:xfrm>
          <a:prstGeom prst="rect">
            <a:avLst/>
          </a:prstGeom>
          <a:ln w="0">
            <a:noFill/>
          </a:ln>
        </p:spPr>
      </p:pic>
      <p:sp>
        <p:nvSpPr>
          <p:cNvPr id="86" name="Footer Placeholder 5"/>
          <p:cNvSpPr/>
          <p:nvPr/>
        </p:nvSpPr>
        <p:spPr>
          <a:xfrm>
            <a:off x="457200" y="64008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30T06:46:23Z</dcterms:created>
  <dc:creator>Ed Angel</dc:creator>
  <dc:description/>
  <cp:keywords/>
  <dc:language>en-US</dc:language>
  <cp:lastModifiedBy>Ed Angel</cp:lastModifiedBy>
  <cp:lastPrinted>1996-02-24T16:20:58Z</cp:lastPrinted>
  <dcterms:modified xsi:type="dcterms:W3CDTF">2014-03-31T18:04:10Z</dcterms:modified>
  <cp:revision>34</cp:revision>
  <dc:subject/>
  <dc:title>Scientific Visualization  Ed Angel Departments of Computer Science and Electrical and Computer Engineering University of New Mexico Albuquerque, NM USA  angel@cs.unm.edu</dc:title>
</cp:coreProperties>
</file>