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7DDB-F6E0-40A6-81C8-FA5C70623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631B-6B4C-4838-BC57-DAC21AB33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7BB0-0B01-4C18-9CD5-332B7DECD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0439-B5A3-415D-B3F2-409EAC2CB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3886-5FA5-4F64-87FA-B48008305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A98D-DC3F-4578-A279-A53EBAABF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2823-6BC0-43AC-AD40-CA73ED550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FCA7-CAAF-4EAC-ACDC-E75307640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6898-7BBD-49C5-B18A-2FA27C56A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3498-2F3A-4720-910D-17E1AD9B8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45D8-E7B4-421B-9027-C6A25E34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C32D-187B-4C19-AFEE-F155B5C75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BBCE-1A52-4E00-8035-76228B11C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0274-1304-4732-9915-67F37F9F9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FA1F-1E31-4FFF-BAC9-CDCB52613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E4BD-1F1F-492C-BD07-EFF08E482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74EA-54AA-4F04-AA71-D8855D28C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EDB4-F4AA-4E5B-8FE4-38070AC4D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017B-99F2-49BF-A8BA-4C1A9C151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D9A0-1F0D-40C1-A2D6-E62BC12EE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6232-BB8A-49BD-B735-8BA9EE1B0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1379-330D-4043-B556-972F7F7B3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22AE-13DD-4A0C-A121-5961E89FF1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2D5C-4301-4E7C-8EFC-61E3B03DB2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5B2D-9B62-4DE5-87B7-3E9B86694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3F47-2D93-488D-8279-B6CF790E2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682D-3135-4586-BE29-090917C40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EF54-D2DD-40C8-8B26-694F94D56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51DE-FB9C-423D-8749-4DA91E64A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D99C-3169-4C8D-831D-65618B2C2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E9D0-E04E-4492-BBE8-5E13F98BC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BC43-13D0-4C6D-B996-B6027B8982E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CE9C-A114-4D88-A69F-672AD772D68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4B82-A318-4906-AF9B-C699336B35B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Outcod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the 5 cases belo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B: outcode(A) = outcode(B) =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pt line se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C:\BOOK\OpenGL\Paul Final\jpeg_new\AN08F08.jpg"/>
          <p:cNvPicPr/>
          <p:nvPr/>
        </p:nvPicPr>
        <p:blipFill>
          <a:blip r:embed="rId1"/>
          <a:stretch/>
        </p:blipFill>
        <p:spPr>
          <a:xfrm>
            <a:off x="2133720" y="3429000"/>
            <a:ext cx="5333760" cy="2373480"/>
          </a:xfrm>
          <a:prstGeom prst="rect">
            <a:avLst/>
          </a:prstGeom>
          <a:ln w="0">
            <a:noFill/>
          </a:ln>
        </p:spPr>
      </p:pic>
      <p:sp>
        <p:nvSpPr>
          <p:cNvPr id="142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FAE8-5DDF-4751-892E-2C7963234A6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Outcod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D: outcode (C) = 0, outcode(D)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inter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 of 1 in outcode(D) determines which edge to intersec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 if there were a segment from A to a point in a region with 2 ones in outcode, we might have to do two interes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C:\BOOK\OpenGL\Paul Final\jpeg_new\AN08F08.jpg"/>
          <p:cNvPicPr/>
          <p:nvPr/>
        </p:nvPicPr>
        <p:blipFill>
          <a:blip r:embed="rId1"/>
          <a:stretch/>
        </p:blipFill>
        <p:spPr>
          <a:xfrm>
            <a:off x="3048120" y="4842000"/>
            <a:ext cx="3047760" cy="135720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7643-9C05-471E-80A6-E9BFF5EC927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Outcod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F: outcode(E) logically ANDed with outcode(F) (bitwise)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outcodes have a 1 bit in the same 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segment is outside of corresponding side of clipping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C:\BOOK\OpenGL\Paul Final\jpeg_new\AN08F08.jpg"/>
          <p:cNvPicPr/>
          <p:nvPr/>
        </p:nvPicPr>
        <p:blipFill>
          <a:blip r:embed="rId1"/>
          <a:stretch/>
        </p:blipFill>
        <p:spPr>
          <a:xfrm>
            <a:off x="3048120" y="4842000"/>
            <a:ext cx="3047760" cy="1357200"/>
          </a:xfrm>
          <a:prstGeom prst="rect">
            <a:avLst/>
          </a:prstGeom>
          <a:ln w="0">
            <a:noFill/>
          </a:ln>
        </p:spPr>
      </p:pic>
      <p:sp>
        <p:nvSpPr>
          <p:cNvPr id="152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12C3-D124-49E7-98F0-E5E0415AED0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Outcod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H and IJ: same outcodes, neither zero but logical AND yields zer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orten line segment by intersecting with one of sides of windo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 outcode of intersection (new endpoint of shortened line segment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execute algorith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C:\BOOK\OpenGL\Paul Final\jpeg_new\AN08F08.jpg"/>
          <p:cNvPicPr/>
          <p:nvPr/>
        </p:nvPicPr>
        <p:blipFill>
          <a:blip r:embed="rId1"/>
          <a:stretch/>
        </p:blipFill>
        <p:spPr>
          <a:xfrm>
            <a:off x="4952880" y="4876920"/>
            <a:ext cx="3048120" cy="135720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2BBA-BD15-4C14-8E81-52991E375C6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fficienc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many applications, the clipping window is small relative to the size of the entire data ba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line segments are outside one or more side of the window and can be eliminated based on their outc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efficiency when code has to be reexecuted for line segments that must be shortened in more than one ste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C474-E06F-4E9B-BB07-C6830107DE5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hen Sutherland in 3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6-bit outcod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needed, clip line segment against pla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C:\BOOK\OpenGL\Paul Final\jpeg_new\AN08F22.jpg"/>
          <p:cNvPicPr/>
          <p:nvPr/>
        </p:nvPicPr>
        <p:blipFill>
          <a:blip r:embed="rId1"/>
          <a:stretch/>
        </p:blipFill>
        <p:spPr>
          <a:xfrm>
            <a:off x="1143000" y="2855880"/>
            <a:ext cx="4191120" cy="2673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:\BOOK\OpenGL\Paul Final\jpeg_new\AN08F23.jpg"/>
          <p:cNvPicPr/>
          <p:nvPr/>
        </p:nvPicPr>
        <p:blipFill>
          <a:blip r:embed="rId2"/>
          <a:stretch/>
        </p:blipFill>
        <p:spPr>
          <a:xfrm>
            <a:off x="5486400" y="2819520"/>
            <a:ext cx="2819520" cy="263664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6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7833-59D7-4629-A556-6E57668A60D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pping and Normaliz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 clipping in 3D requires intersection of line segments against arbitrary pla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: oblique vie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BOOK\OpenGL\Paul Final\jpeg_new\AN08F26.jpg"/>
          <p:cNvPicPr/>
          <p:nvPr/>
        </p:nvPicPr>
        <p:blipFill>
          <a:blip r:embed="rId1"/>
          <a:stretch/>
        </p:blipFill>
        <p:spPr>
          <a:xfrm>
            <a:off x="2286000" y="4038480"/>
            <a:ext cx="3740040" cy="2079720"/>
          </a:xfrm>
          <a:prstGeom prst="rect">
            <a:avLst/>
          </a:prstGeom>
          <a:ln w="0">
            <a:noFill/>
          </a:ln>
        </p:spPr>
      </p:pic>
      <p:sp>
        <p:nvSpPr>
          <p:cNvPr id="172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F9A2-84C9-4380-B13E-5410A3136E9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lane-Line Interse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:\BOOK\OpenGL\Paul Final\jpeg_new\AN08F24.jpg"/>
          <p:cNvPicPr/>
          <p:nvPr/>
        </p:nvPicPr>
        <p:blipFill>
          <a:blip r:embed="rId1"/>
          <a:stretch/>
        </p:blipFill>
        <p:spPr>
          <a:xfrm>
            <a:off x="3048120" y="1752480"/>
            <a:ext cx="2438280" cy="17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90920" y="3886200"/>
                <a:ext cx="294624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Footer Placeholder 6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3067-C069-4254-B044-3D840F2F7CA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rmalized For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1" name="Picture 4" descr="C:\BOOK\OpenGL\Paul Final\jpeg_new\AN08F27.jpg"/>
          <p:cNvPicPr/>
          <p:nvPr/>
        </p:nvPicPr>
        <p:blipFill>
          <a:blip r:embed="rId1"/>
          <a:srcRect l="0" t="0" r="0" b="17323"/>
          <a:stretch/>
        </p:blipFill>
        <p:spPr>
          <a:xfrm>
            <a:off x="1371600" y="2057400"/>
            <a:ext cx="6296040" cy="12193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375920" y="335268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n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803480" y="33526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821880" y="4037040"/>
            <a:ext cx="67813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ation is part of viewing (pre clip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fter normalization, we clip against sid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parallelepi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intersection calculation now requir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loating point subtraction, e.g.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&gt;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507840" y="16002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8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F72C-7757-456A-94D7-ACA7818FE62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4162-16C8-42F4-82CE-0347CA98AF8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pping li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of implementation algorith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pping polygons (next lecture)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cus on pipeline plus a few classic algorith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AA5C-0904-4295-BCC2-7AEB006D6BA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D against clipping wind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D against clipping volu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sy for line segments polyg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rd for curves and tex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t to lines and polygons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43"/>
          <p:cNvSpPr/>
          <p:nvPr/>
        </p:nvSpPr>
        <p:spPr>
          <a:xfrm>
            <a:off x="7543800" y="3962520"/>
            <a:ext cx="53352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47" descr="C:\BOOK\OpenGL\Paul Final\jpeg_new\AN08F21.jpg"/>
          <p:cNvPicPr/>
          <p:nvPr/>
        </p:nvPicPr>
        <p:blipFill>
          <a:blip r:embed="rId1"/>
          <a:srcRect l="0" t="0" r="0" b="17528"/>
          <a:stretch/>
        </p:blipFill>
        <p:spPr>
          <a:xfrm>
            <a:off x="1143000" y="3962520"/>
            <a:ext cx="6477120" cy="1971720"/>
          </a:xfrm>
          <a:prstGeom prst="rect">
            <a:avLst/>
          </a:prstGeom>
          <a:ln w="0">
            <a:noFill/>
          </a:ln>
        </p:spPr>
      </p:pic>
      <p:sp>
        <p:nvSpPr>
          <p:cNvPr id="67" name="Footer Placeholder 6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C7A7-9123-4AE0-88D5-DE52A63A617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pping 2D Line Segm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rute force approach: compute intersections with all sides of clipping windo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efficient: one division per inter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BOOK\OpenGL\Paul Final\jpeg_new\AN08F06.jpg"/>
          <p:cNvPicPr/>
          <p:nvPr/>
        </p:nvPicPr>
        <p:blipFill>
          <a:blip r:embed="rId1"/>
          <a:stretch/>
        </p:blipFill>
        <p:spPr>
          <a:xfrm>
            <a:off x="1828800" y="3809880"/>
            <a:ext cx="4862520" cy="2036880"/>
          </a:xfrm>
          <a:prstGeom prst="rect">
            <a:avLst/>
          </a:prstGeom>
          <a:ln w="0">
            <a:noFill/>
          </a:ln>
        </p:spPr>
      </p:pic>
      <p:sp>
        <p:nvSpPr>
          <p:cNvPr id="72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729D-F793-47D3-883D-151C518C298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hen-Sutherland Algorith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dea: eliminate as many cases as possible without computing interse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rt with four lines that determine the sides of the clipping windo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752480" y="44956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49528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90920" y="38862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>
            <a:off x="1523880" y="556272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30720" y="4800600"/>
            <a:ext cx="111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334160" y="4800600"/>
            <a:ext cx="108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149280" y="3886200"/>
            <a:ext cx="111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223440" y="5715000"/>
            <a:ext cx="108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2"/>
          <p:cNvSpPr/>
          <p:nvPr/>
        </p:nvSpPr>
        <p:spPr>
          <a:xfrm flipV="1">
            <a:off x="3581280" y="4114800"/>
            <a:ext cx="91440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4419720" y="4038480"/>
            <a:ext cx="15228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5"/>
          <p:cNvSpPr/>
          <p:nvPr/>
        </p:nvSpPr>
        <p:spPr>
          <a:xfrm>
            <a:off x="3505320" y="4952880"/>
            <a:ext cx="15228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1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DA4E-D620-43BD-A67D-8BAAD9D685C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Cas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se 1: both endpoints of line segment inside all four li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w (accept) line segment as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se 2: both endpoints outside all lines and on same side of a l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ard (reject) the line se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2519280" y="3483000"/>
            <a:ext cx="33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5165640" y="3100320"/>
            <a:ext cx="0" cy="17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3213000" y="2971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2330280" y="4378320"/>
            <a:ext cx="33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216400" y="3738600"/>
            <a:ext cx="111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080440" y="3738600"/>
            <a:ext cx="108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78760" y="2971800"/>
            <a:ext cx="111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643200" y="4505400"/>
            <a:ext cx="108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3429000" y="3581280"/>
            <a:ext cx="685440" cy="741240"/>
            <a:chOff x="3429000" y="3581280"/>
            <a:chExt cx="685440" cy="741240"/>
          </a:xfrm>
        </p:grpSpPr>
        <p:sp>
          <p:nvSpPr>
            <p:cNvPr id="100" name="Line 12"/>
            <p:cNvSpPr/>
            <p:nvPr/>
          </p:nvSpPr>
          <p:spPr>
            <a:xfrm flipV="1">
              <a:off x="3478320" y="3633840"/>
              <a:ext cx="587880" cy="635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13"/>
            <p:cNvSpPr/>
            <p:nvPr/>
          </p:nvSpPr>
          <p:spPr>
            <a:xfrm>
              <a:off x="4016880" y="3581280"/>
              <a:ext cx="97560" cy="105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3429000" y="4217400"/>
              <a:ext cx="97560" cy="105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6705720" y="3200400"/>
            <a:ext cx="880560" cy="893880"/>
            <a:chOff x="6705720" y="3200400"/>
            <a:chExt cx="880560" cy="893880"/>
          </a:xfrm>
        </p:grpSpPr>
        <p:sp>
          <p:nvSpPr>
            <p:cNvPr id="104" name="Line 18"/>
            <p:cNvSpPr/>
            <p:nvPr/>
          </p:nvSpPr>
          <p:spPr>
            <a:xfrm flipV="1">
              <a:off x="6769080" y="3263760"/>
              <a:ext cx="755280" cy="766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19"/>
            <p:cNvSpPr/>
            <p:nvPr/>
          </p:nvSpPr>
          <p:spPr>
            <a:xfrm>
              <a:off x="7461000" y="3200400"/>
              <a:ext cx="125280" cy="1270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20"/>
            <p:cNvSpPr/>
            <p:nvPr/>
          </p:nvSpPr>
          <p:spPr>
            <a:xfrm>
              <a:off x="6705720" y="3967200"/>
              <a:ext cx="125280" cy="1270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Footer Placeholder 20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E2F6-15B8-4A6C-BDB5-81C160ECED2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Cas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se 3: One endpoint inside, one outs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do at least one inter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se 4: Both outs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have part ins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do at least one inter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2062080" y="5006880"/>
            <a:ext cx="33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708440" y="4624560"/>
            <a:ext cx="0" cy="17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2755800" y="4495680"/>
            <a:ext cx="0" cy="198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1873080" y="5902200"/>
            <a:ext cx="33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759200" y="5262480"/>
            <a:ext cx="111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623240" y="5262480"/>
            <a:ext cx="108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377160" y="4343400"/>
            <a:ext cx="111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3809880" y="4724280"/>
            <a:ext cx="685440" cy="741240"/>
            <a:chOff x="3809880" y="4724280"/>
            <a:chExt cx="685440" cy="741240"/>
          </a:xfrm>
        </p:grpSpPr>
        <p:sp>
          <p:nvSpPr>
            <p:cNvPr id="119" name="Line 12"/>
            <p:cNvSpPr/>
            <p:nvPr/>
          </p:nvSpPr>
          <p:spPr>
            <a:xfrm flipV="1">
              <a:off x="3859200" y="4776840"/>
              <a:ext cx="587880" cy="635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4397760" y="4724280"/>
              <a:ext cx="97560" cy="105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3809880" y="5360400"/>
              <a:ext cx="97560" cy="105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15"/>
          <p:cNvGrpSpPr/>
          <p:nvPr/>
        </p:nvGrpSpPr>
        <p:grpSpPr>
          <a:xfrm>
            <a:off x="2438280" y="4572000"/>
            <a:ext cx="881280" cy="893880"/>
            <a:chOff x="2438280" y="4572000"/>
            <a:chExt cx="881280" cy="893880"/>
          </a:xfrm>
        </p:grpSpPr>
        <p:sp>
          <p:nvSpPr>
            <p:cNvPr id="123" name="Line 16"/>
            <p:cNvSpPr/>
            <p:nvPr/>
          </p:nvSpPr>
          <p:spPr>
            <a:xfrm flipV="1">
              <a:off x="2502000" y="4635360"/>
              <a:ext cx="755640" cy="766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3193920" y="4572000"/>
              <a:ext cx="125640" cy="1270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2438280" y="5338800"/>
              <a:ext cx="125640" cy="1270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9"/>
          <p:cNvGrpSpPr/>
          <p:nvPr/>
        </p:nvGrpSpPr>
        <p:grpSpPr>
          <a:xfrm>
            <a:off x="1981080" y="4267080"/>
            <a:ext cx="881280" cy="893880"/>
            <a:chOff x="1981080" y="4267080"/>
            <a:chExt cx="881280" cy="893880"/>
          </a:xfrm>
        </p:grpSpPr>
        <p:sp>
          <p:nvSpPr>
            <p:cNvPr id="127" name="Line 20"/>
            <p:cNvSpPr/>
            <p:nvPr/>
          </p:nvSpPr>
          <p:spPr>
            <a:xfrm flipV="1">
              <a:off x="2044800" y="4330440"/>
              <a:ext cx="755640" cy="766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2736720" y="4267080"/>
              <a:ext cx="125640" cy="1270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22"/>
            <p:cNvSpPr/>
            <p:nvPr/>
          </p:nvSpPr>
          <p:spPr>
            <a:xfrm>
              <a:off x="1981080" y="5033880"/>
              <a:ext cx="125640" cy="1270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Footer Placeholder 23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E02D-FAF6-4A91-BB4A-9409934994B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efining Outcod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each endpoint, define an outc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utcodes divide space into 9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ation of outcode requires at most 4 subtra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75840" y="236232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38640" y="3048120"/>
            <a:ext cx="37389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if y &gt;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0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if y &lt;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0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if x &gt;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0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if x &lt;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0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C:\BOOK\OpenGL\Paul Final\jpeg_new\AN08F07.jpg"/>
          <p:cNvPicPr/>
          <p:nvPr/>
        </p:nvPicPr>
        <p:blipFill>
          <a:blip r:embed="rId1"/>
          <a:stretch/>
        </p:blipFill>
        <p:spPr>
          <a:xfrm>
            <a:off x="4876920" y="2819520"/>
            <a:ext cx="3733560" cy="201924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7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8T21:16:11Z</dcterms:created>
  <dc:creator>Ed Angel</dc:creator>
  <dc:description/>
  <dc:language>en-US</dc:language>
  <cp:lastModifiedBy>Ed Angel</cp:lastModifiedBy>
  <dcterms:modified xsi:type="dcterms:W3CDTF">2014-03-31T17:58:24Z</dcterms:modified>
  <cp:revision>228</cp:revision>
  <dc:subject/>
  <dc:title>PowerPoint Presentation</dc:title>
</cp:coreProperties>
</file>