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292D4-BFA5-4F57-8790-3B33872749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1BB3A-CD73-42D5-B92E-2C7E6DD649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68A56-70D6-45EE-AA74-B416C51EC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16A97-03BB-4B92-B249-6B612D1C5E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9EBB1-190B-4E2E-8FF0-0228D810E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ED31B-5532-4652-8829-541711A9B5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F1612-FA32-48D0-B83A-9CBB3354AB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6E903-DEA2-4D0A-9246-4E14B7F3C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17E3F-E15B-4AC3-96E7-23C7C980F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7017B-12D8-4A58-94F1-0A8AB1F24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C1EF5-0CAD-4FD7-BF80-9E9DEE480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CC2A9-6302-4C39-B20F-AE3857C43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BC5BE-EE11-41DF-8CAE-ED92EF1FE7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B2B7F-F012-4B34-BEA3-B2DC1A332C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201E-AFA4-4D1C-A015-FF13F8F2013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440"/>
            <a:ext cx="6934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8F04-8784-48F0-9D1A-AAFBC2F6809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cursive Divis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nd leftmost vertex and spli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A68A-8340-4083-817E-DAA87DB26F8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8" name="Picture 5" descr="AN06f38.jpg"/>
          <p:cNvPicPr/>
          <p:nvPr/>
        </p:nvPicPr>
        <p:blipFill>
          <a:blip r:embed="rId1"/>
          <a:stretch/>
        </p:blipFill>
        <p:spPr>
          <a:xfrm>
            <a:off x="2743200" y="2209680"/>
            <a:ext cx="3351240" cy="3780000"/>
          </a:xfrm>
          <a:prstGeom prst="rect">
            <a:avLst/>
          </a:prstGeom>
          <a:ln w="0">
            <a:noFill/>
          </a:ln>
        </p:spPr>
      </p:pic>
      <p:sp>
        <p:nvSpPr>
          <p:cNvPr id="139" name="Footer Placeholder 5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6B0D-110D-4BF3-8DE4-694B5DECAA6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ttribut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84680" indent="-1846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ttributes determine the appearance of objec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or (points, lines, polyg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ze and width (points, 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pple pattern (lines, polyg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gon m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23760" indent="-1846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 as filled: solid color or stipp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3760" indent="-1846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 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3760" indent="-1846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 ver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ly a few (gl_PointSize) are supported by WebGL func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2F32-B89B-43E2-82DA-CC8DE40877C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GB colo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ach color component is stored separately in the frame buff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ually 8 bits per component in buff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lor values can range from 0.0 (none) to 1.0 (all) using floats or over the range from 0 to 255 using unsigned by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an02f25"/>
          <p:cNvPicPr/>
          <p:nvPr/>
        </p:nvPicPr>
        <p:blipFill>
          <a:blip r:embed="rId1"/>
          <a:stretch/>
        </p:blipFill>
        <p:spPr>
          <a:xfrm>
            <a:off x="2286000" y="4495680"/>
            <a:ext cx="4130640" cy="1733760"/>
          </a:xfrm>
          <a:prstGeom prst="rect">
            <a:avLst/>
          </a:prstGeom>
          <a:ln w="0">
            <a:noFill/>
          </a:ln>
        </p:spPr>
      </p:pic>
      <p:sp>
        <p:nvSpPr>
          <p:cNvPr id="148" name="Footer Placeholder 5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038E-76E6-4448-A80B-F7F805FDDDD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dexed Colo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lors are indices into tables of RGB valu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quires less mem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es usually 8 b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as important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in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more colors for sh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an02f29.jpg"/>
          <p:cNvPicPr/>
          <p:nvPr/>
        </p:nvPicPr>
        <p:blipFill>
          <a:blip r:embed="rId1"/>
          <a:stretch/>
        </p:blipFill>
        <p:spPr>
          <a:xfrm>
            <a:off x="1676520" y="4267080"/>
            <a:ext cx="5068800" cy="2024280"/>
          </a:xfrm>
          <a:prstGeom prst="rect">
            <a:avLst/>
          </a:prstGeom>
          <a:ln w="0">
            <a:noFill/>
          </a:ln>
        </p:spPr>
      </p:pic>
      <p:sp>
        <p:nvSpPr>
          <p:cNvPr id="153" name="Footer Placeholder 5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BE0C-6A06-4954-9446-D1D5FF06AA1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mooth Colo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fault is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smooth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shad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sterizer interpolates vertex colors across visible polyg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ternative is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lat shad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or of first vertex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s fill co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 in sha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3157560" cy="3276720"/>
          </a:xfrm>
          <a:prstGeom prst="rect">
            <a:avLst/>
          </a:prstGeom>
          <a:ln w="0">
            <a:noFill/>
          </a:ln>
        </p:spPr>
      </p:pic>
      <p:sp>
        <p:nvSpPr>
          <p:cNvPr id="158" name="Footer Placeholder 5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etting Color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lors are ultimately set in the fragment shader but can be determined in either shader or in the applic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pplication color: pass to vertex shader as a uniform variable or as a vertex attribu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ertex shader color: pass to fragment shader as varying variab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ragment color: can alter via shader cod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9664-BAB9-419D-9F1D-ABAD5F058AD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4B24-AD31-4926-8136-86E27777726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ogramming with WebGL</a:t>
            </a:r>
            <a:br>
              <a:rPr sz="3700"/>
            </a:b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art 4: Color and Attribut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560" y="327672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of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9068-66EF-448D-88D7-41FB4042DFE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panding primitive se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dding colo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ertex attribute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40A2-09A1-4A04-9B7D-9DF5EC497A1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ebGLPrimi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6840" rIns="9684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183240" y="5540400"/>
            <a:ext cx="2516760" cy="366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_TRIANGLE_STRI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6" name="Group 14"/>
          <p:cNvGrpSpPr/>
          <p:nvPr/>
        </p:nvGrpSpPr>
        <p:grpSpPr>
          <a:xfrm>
            <a:off x="1038240" y="4067280"/>
            <a:ext cx="1068120" cy="1353600"/>
            <a:chOff x="1038240" y="4067280"/>
            <a:chExt cx="1068120" cy="1353600"/>
          </a:xfrm>
        </p:grpSpPr>
        <p:sp>
          <p:nvSpPr>
            <p:cNvPr id="67" name="Freeform 15"/>
            <p:cNvSpPr/>
            <p:nvPr/>
          </p:nvSpPr>
          <p:spPr>
            <a:xfrm>
              <a:off x="1038240" y="4067280"/>
              <a:ext cx="1068120" cy="499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5f5f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" name="Freeform 16"/>
            <p:cNvSpPr/>
            <p:nvPr/>
          </p:nvSpPr>
          <p:spPr>
            <a:xfrm>
              <a:off x="1266840" y="4067280"/>
              <a:ext cx="839520" cy="499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5f5f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" name="Freeform 17"/>
            <p:cNvSpPr/>
            <p:nvPr/>
          </p:nvSpPr>
          <p:spPr>
            <a:xfrm>
              <a:off x="1190520" y="4494240"/>
              <a:ext cx="687240" cy="428760"/>
            </a:xfrm>
            <a:prstGeom prst="pie">
              <a:avLst/>
            </a:prstGeom>
            <a:gradFill rotWithShape="0">
              <a:gsLst>
                <a:gs pos="0">
                  <a:srgbClr val="afafaf"/>
                </a:gs>
                <a:gs pos="100000">
                  <a:srgbClr val="5f5f5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" name="Freeform 18"/>
            <p:cNvSpPr/>
            <p:nvPr/>
          </p:nvSpPr>
          <p:spPr>
            <a:xfrm>
              <a:off x="1190520" y="4494240"/>
              <a:ext cx="687240" cy="49968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" name="Freeform 19"/>
            <p:cNvSpPr/>
            <p:nvPr/>
          </p:nvSpPr>
          <p:spPr>
            <a:xfrm>
              <a:off x="1190520" y="4921200"/>
              <a:ext cx="611280" cy="499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" name="Freeform 20"/>
            <p:cNvSpPr/>
            <p:nvPr/>
          </p:nvSpPr>
          <p:spPr>
            <a:xfrm>
              <a:off x="1495440" y="4992480"/>
              <a:ext cx="534960" cy="428400"/>
            </a:xfrm>
            <a:prstGeom prst="pie">
              <a:avLst/>
            </a:prstGeom>
            <a:gradFill rotWithShape="0">
              <a:gsLst>
                <a:gs pos="0">
                  <a:srgbClr val="afafaf"/>
                </a:gs>
                <a:gs pos="100000">
                  <a:srgbClr val="5f5f5f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3" name="Group 22"/>
          <p:cNvGrpSpPr/>
          <p:nvPr/>
        </p:nvGrpSpPr>
        <p:grpSpPr>
          <a:xfrm>
            <a:off x="3911760" y="4761000"/>
            <a:ext cx="1220760" cy="570960"/>
            <a:chOff x="3911760" y="4761000"/>
            <a:chExt cx="1220760" cy="570960"/>
          </a:xfrm>
        </p:grpSpPr>
        <p:sp>
          <p:nvSpPr>
            <p:cNvPr id="74" name="Freeform 23"/>
            <p:cNvSpPr/>
            <p:nvPr/>
          </p:nvSpPr>
          <p:spPr>
            <a:xfrm>
              <a:off x="3911760" y="4761000"/>
              <a:ext cx="687240" cy="420120"/>
            </a:xfrm>
            <a:prstGeom prst="pie">
              <a:avLst/>
            </a:prstGeom>
            <a:gradFill rotWithShape="0">
              <a:gsLst>
                <a:gs pos="0">
                  <a:srgbClr val="008e6b"/>
                </a:gs>
                <a:gs pos="100000">
                  <a:srgbClr val="00cc99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" name="Freeform 24"/>
            <p:cNvSpPr/>
            <p:nvPr/>
          </p:nvSpPr>
          <p:spPr>
            <a:xfrm>
              <a:off x="3911760" y="4761000"/>
              <a:ext cx="839520" cy="420120"/>
            </a:xfrm>
            <a:prstGeom prst="pie">
              <a:avLst/>
            </a:prstGeom>
            <a:gradFill rotWithShape="0">
              <a:gsLst>
                <a:gs pos="0">
                  <a:srgbClr val="008e6b"/>
                </a:gs>
                <a:gs pos="100000">
                  <a:srgbClr val="00cc99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" name="Freeform 25"/>
            <p:cNvSpPr/>
            <p:nvPr/>
          </p:nvSpPr>
          <p:spPr>
            <a:xfrm>
              <a:off x="3911760" y="4970160"/>
              <a:ext cx="1220760" cy="203400"/>
            </a:xfrm>
            <a:prstGeom prst="pie">
              <a:avLst/>
            </a:prstGeom>
            <a:gradFill rotWithShape="0">
              <a:gsLst>
                <a:gs pos="0">
                  <a:srgbClr val="008e6b"/>
                </a:gs>
                <a:gs pos="100000">
                  <a:srgbClr val="00cc99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" name="Freeform 26"/>
            <p:cNvSpPr/>
            <p:nvPr/>
          </p:nvSpPr>
          <p:spPr>
            <a:xfrm>
              <a:off x="3911760" y="5041800"/>
              <a:ext cx="1220760" cy="290160"/>
            </a:xfrm>
            <a:prstGeom prst="pie">
              <a:avLst/>
            </a:prstGeom>
            <a:gradFill rotWithShape="0">
              <a:gsLst>
                <a:gs pos="0">
                  <a:srgbClr val="008e6b"/>
                </a:gs>
                <a:gs pos="100000">
                  <a:srgbClr val="00cc99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8" name="Rectangle 27"/>
          <p:cNvSpPr/>
          <p:nvPr/>
        </p:nvSpPr>
        <p:spPr>
          <a:xfrm>
            <a:off x="3285720" y="5487840"/>
            <a:ext cx="2242440" cy="366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_TRIANGLE_FA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Rectangle 29"/>
          <p:cNvSpPr/>
          <p:nvPr/>
        </p:nvSpPr>
        <p:spPr>
          <a:xfrm>
            <a:off x="399960" y="2814480"/>
            <a:ext cx="1419480" cy="366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_POINT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0" name="Group 30"/>
          <p:cNvGrpSpPr/>
          <p:nvPr/>
        </p:nvGrpSpPr>
        <p:grpSpPr>
          <a:xfrm>
            <a:off x="1033560" y="2436840"/>
            <a:ext cx="285120" cy="242640"/>
            <a:chOff x="1033560" y="2436840"/>
            <a:chExt cx="285120" cy="242640"/>
          </a:xfrm>
        </p:grpSpPr>
        <p:sp>
          <p:nvSpPr>
            <p:cNvPr id="81" name="Rectangle 31"/>
            <p:cNvSpPr/>
            <p:nvPr/>
          </p:nvSpPr>
          <p:spPr>
            <a:xfrm>
              <a:off x="1080720" y="2436840"/>
              <a:ext cx="33120" cy="2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" name="Rectangle 32"/>
            <p:cNvSpPr/>
            <p:nvPr/>
          </p:nvSpPr>
          <p:spPr>
            <a:xfrm>
              <a:off x="1225440" y="2476800"/>
              <a:ext cx="32760" cy="2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" name="Rectangle 33"/>
            <p:cNvSpPr/>
            <p:nvPr/>
          </p:nvSpPr>
          <p:spPr>
            <a:xfrm>
              <a:off x="1033560" y="2592360"/>
              <a:ext cx="33120" cy="2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" name="Rectangle 34"/>
            <p:cNvSpPr/>
            <p:nvPr/>
          </p:nvSpPr>
          <p:spPr>
            <a:xfrm>
              <a:off x="1285560" y="2651400"/>
              <a:ext cx="33120" cy="2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85" name="Group 36"/>
          <p:cNvGrpSpPr/>
          <p:nvPr/>
        </p:nvGrpSpPr>
        <p:grpSpPr>
          <a:xfrm>
            <a:off x="1996920" y="2676240"/>
            <a:ext cx="838080" cy="498240"/>
            <a:chOff x="1996920" y="2676240"/>
            <a:chExt cx="838080" cy="498240"/>
          </a:xfrm>
        </p:grpSpPr>
        <p:sp>
          <p:nvSpPr>
            <p:cNvPr id="86" name="Line 37"/>
            <p:cNvSpPr/>
            <p:nvPr/>
          </p:nvSpPr>
          <p:spPr>
            <a:xfrm flipV="1">
              <a:off x="1996920" y="2676240"/>
              <a:ext cx="520560" cy="48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" name="Line 38"/>
            <p:cNvSpPr/>
            <p:nvPr/>
          </p:nvSpPr>
          <p:spPr>
            <a:xfrm>
              <a:off x="2517480" y="2845440"/>
              <a:ext cx="317520" cy="32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88" name="Rectangle 39"/>
          <p:cNvSpPr/>
          <p:nvPr/>
        </p:nvSpPr>
        <p:spPr>
          <a:xfrm>
            <a:off x="1716120" y="3244680"/>
            <a:ext cx="1282320" cy="366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_LIN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" name="Freeform 41"/>
          <p:cNvSpPr/>
          <p:nvPr/>
        </p:nvSpPr>
        <p:spPr>
          <a:xfrm>
            <a:off x="5686560" y="2678040"/>
            <a:ext cx="1055520" cy="10605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" name="Rectangle 42"/>
          <p:cNvSpPr/>
          <p:nvPr/>
        </p:nvSpPr>
        <p:spPr>
          <a:xfrm>
            <a:off x="5207400" y="3830760"/>
            <a:ext cx="1830960" cy="366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_LINE_LOO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" name="Freeform 44"/>
          <p:cNvSpPr/>
          <p:nvPr/>
        </p:nvSpPr>
        <p:spPr>
          <a:xfrm>
            <a:off x="3502080" y="1960560"/>
            <a:ext cx="1441440" cy="9874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" name="Rectangle 45"/>
          <p:cNvSpPr/>
          <p:nvPr/>
        </p:nvSpPr>
        <p:spPr>
          <a:xfrm>
            <a:off x="3138480" y="3166920"/>
            <a:ext cx="1968120" cy="366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_LINE_STRI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" name="Freeform 47"/>
          <p:cNvSpPr/>
          <p:nvPr/>
        </p:nvSpPr>
        <p:spPr>
          <a:xfrm>
            <a:off x="2535120" y="3832200"/>
            <a:ext cx="387360" cy="277920"/>
          </a:xfrm>
          <a:prstGeom prst="pie">
            <a:avLst/>
          </a:pr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" name="Freeform 48"/>
          <p:cNvSpPr/>
          <p:nvPr/>
        </p:nvSpPr>
        <p:spPr>
          <a:xfrm>
            <a:off x="2978280" y="4054320"/>
            <a:ext cx="715680" cy="427320"/>
          </a:xfrm>
          <a:prstGeom prst="pie">
            <a:avLst/>
          </a:prstGeom>
          <a:solidFill>
            <a:srgbClr val="66ff6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" name="Rectangle 49"/>
          <p:cNvSpPr/>
          <p:nvPr/>
        </p:nvSpPr>
        <p:spPr>
          <a:xfrm>
            <a:off x="2107080" y="4603680"/>
            <a:ext cx="1830960" cy="366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_TRIANGL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" name="Footer Placeholder 35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5E0C-2E3F-4216-9E1E-5236EFB4D7D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olygon Issu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bGL will only display triang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Simp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edges cannot cro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nve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All points on line segment between two points in a polygon are also in the polyg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Fl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all vertices are in the sam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pplication program must tessellate a polygon into triangles (triangul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enGL 4.1 contains a tessellator but not WebG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1447920" y="5334120"/>
            <a:ext cx="2057400" cy="685800"/>
          </a:xfrm>
          <a:prstGeom prst="flowChartCollat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7086600" y="4800600"/>
            <a:ext cx="1066680" cy="914400"/>
          </a:xfrm>
          <a:prstGeom prst="pi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595160" y="6019920"/>
            <a:ext cx="21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simple polyg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319440" y="586728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convex polyg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" name="Footer Placeholder 8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olygon Test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ceptually simple to test for simplicity and convex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ime consuming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arlier versions assumed both and left testing to the applic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esent version only renders triang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ed algorithm to triangulate an arbitrary polyg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2106-2B3B-47D2-9C2A-7B53A7E27AE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ood and Bad Triangl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ng thin triangles render badl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quilateral triangles render wel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ximize minimum ang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launay triangulation for unstructured poi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B940-DCA6-4B22-B17E-9676F217B18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" name="Straight Connector 6"/>
          <p:cNvSpPr/>
          <p:nvPr/>
        </p:nvSpPr>
        <p:spPr>
          <a:xfrm>
            <a:off x="1981080" y="2666880"/>
            <a:ext cx="2590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" name="Straight Connector 8"/>
          <p:cNvSpPr/>
          <p:nvPr/>
        </p:nvSpPr>
        <p:spPr>
          <a:xfrm>
            <a:off x="4572000" y="2209680"/>
            <a:ext cx="24382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" name="Straight Connector 9"/>
          <p:cNvSpPr/>
          <p:nvPr/>
        </p:nvSpPr>
        <p:spPr>
          <a:xfrm flipV="1">
            <a:off x="1981080" y="2209680"/>
            <a:ext cx="2590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" name="Straight Connector 16"/>
          <p:cNvSpPr/>
          <p:nvPr/>
        </p:nvSpPr>
        <p:spPr>
          <a:xfrm flipV="1">
            <a:off x="4572000" y="2971800"/>
            <a:ext cx="24382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" name="Straight Connector 22"/>
          <p:cNvSpPr/>
          <p:nvPr/>
        </p:nvSpPr>
        <p:spPr>
          <a:xfrm>
            <a:off x="1981080" y="2666880"/>
            <a:ext cx="5029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" name="Footer Placeholder 9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riangulariz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vex polyg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art with abc, remove b, then acd, …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DA24-3F24-4D96-9BB5-58DCA607C75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Heptagon 6"/>
          <p:cNvSpPr/>
          <p:nvPr/>
        </p:nvSpPr>
        <p:spPr>
          <a:xfrm>
            <a:off x="2895480" y="2057400"/>
            <a:ext cx="3200400" cy="281952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Straight Connector 8"/>
          <p:cNvSpPr/>
          <p:nvPr/>
        </p:nvSpPr>
        <p:spPr>
          <a:xfrm>
            <a:off x="3212280" y="2616120"/>
            <a:ext cx="569880" cy="226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" name="Straight Connector 10"/>
          <p:cNvSpPr/>
          <p:nvPr/>
        </p:nvSpPr>
        <p:spPr>
          <a:xfrm flipH="1">
            <a:off x="3782880" y="2057400"/>
            <a:ext cx="71280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4" name="Straight Connector 12"/>
          <p:cNvSpPr/>
          <p:nvPr/>
        </p:nvSpPr>
        <p:spPr>
          <a:xfrm flipH="1">
            <a:off x="3782520" y="2616120"/>
            <a:ext cx="1995480" cy="226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Straight Connector 14"/>
          <p:cNvSpPr/>
          <p:nvPr/>
        </p:nvSpPr>
        <p:spPr>
          <a:xfrm flipH="1">
            <a:off x="3782520" y="3870360"/>
            <a:ext cx="2313000" cy="100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" name="TextBox 15"/>
          <p:cNvSpPr/>
          <p:nvPr/>
        </p:nvSpPr>
        <p:spPr>
          <a:xfrm>
            <a:off x="3433320" y="4876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TextBox 16"/>
          <p:cNvSpPr/>
          <p:nvPr/>
        </p:nvSpPr>
        <p:spPr>
          <a:xfrm>
            <a:off x="2821320" y="2362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" name="TextBox 17"/>
          <p:cNvSpPr/>
          <p:nvPr/>
        </p:nvSpPr>
        <p:spPr>
          <a:xfrm>
            <a:off x="251712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" name="TextBox 19"/>
          <p:cNvSpPr/>
          <p:nvPr/>
        </p:nvSpPr>
        <p:spPr>
          <a:xfrm>
            <a:off x="434592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" name="Footer Placeholder 13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Non-convex (concave)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2" name="Content Placeholder 5" descr="AN06f37.jpg"/>
          <p:cNvPicPr/>
          <p:nvPr/>
        </p:nvPicPr>
        <p:blipFill>
          <a:blip r:embed="rId1"/>
          <a:srcRect l="-43734" t="0" r="-43734" b="0"/>
          <a:stretch/>
        </p:blipFill>
        <p:spPr>
          <a:xfrm>
            <a:off x="228600" y="1447920"/>
            <a:ext cx="7772400" cy="472428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DB93-98A3-444A-8620-51FEC7F0590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457200" y="640080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16:29:12Z</dcterms:created>
  <dc:creator>Ed Angel</dc:creator>
  <dc:description/>
  <dc:language>en-US</dc:language>
  <cp:lastModifiedBy>Ed Angel</cp:lastModifiedBy>
  <dcterms:modified xsi:type="dcterms:W3CDTF">2014-03-31T17:42:34Z</dcterms:modified>
  <cp:revision>70</cp:revision>
  <dc:subject/>
  <dc:title>PowerPoint Presentation</dc:title>
</cp:coreProperties>
</file>