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3720-5922-480E-B7BA-507792B41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43DD-F082-4452-87EF-22F63307D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FFA-49EA-41A5-8471-3AB5CF2CF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2A32-951D-4CE3-BB6B-E6795FA28F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97E6-4FE8-4C31-9436-5F8EABABA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8068-9809-4707-AE02-BA753E823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7962-B7B3-4C7B-8AE4-83F973AA9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CF8-F761-4FE7-9872-14743A4E5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8D2D-3FA9-4791-B46F-9DF31E8F8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85E6-3F7A-4A48-9192-8A0BB529E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AD88-9832-4F19-BE36-927E27E15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FCB0-D113-4952-9CE9-8B347247F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F3FC-7DBB-43ED-BB06-93EA22AE53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B228-0236-426C-BFA2-1448E6B8DD5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C9F-C117-41C2-BBA2-F1303467453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6: Three Dimens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A13B-B0E3-4414-9651-A6703484367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ving to 3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8252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easily make the program three-dimensional by using three dimensional points and starting with a tetrahedr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vertices = 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3(  0.0000,  0.0000, -1.0000 ),        vec3(  0.0000,  0.9428,  0.3333 ),        vec3( -0.8165, -0.4714,  0.3333 ),        vec3(  0.8165, -0.4714,  0.3333 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divide each 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2FC-9BC1-46B3-818A-96F03CB0314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3D Gask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subdivide each of the four 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ears as if we remove a solid tetrahedron from the center leaving four smaller tetrahed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 almost identical to 2D 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AN02F40.jpg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AN02F42.jpg"/>
          <p:cNvPicPr/>
          <p:nvPr/>
        </p:nvPicPr>
        <p:blipFill>
          <a:blip r:embed="rId2"/>
          <a:stretch/>
        </p:blipFill>
        <p:spPr>
          <a:xfrm>
            <a:off x="4724280" y="2438280"/>
            <a:ext cx="2333880" cy="1673280"/>
          </a:xfrm>
          <a:prstGeom prst="rect">
            <a:avLst/>
          </a:prstGeom>
          <a:ln w="0">
            <a:noFill/>
          </a:ln>
        </p:spPr>
      </p:pic>
      <p:sp>
        <p:nvSpPr>
          <p:cNvPr id="60" name="Footer Placeholder 6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E26-D26D-49D5-AFFD-CF52F1CC31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23627" t="25809" r="25986" b="33209"/>
          <a:stretch/>
        </p:blipFill>
        <p:spPr>
          <a:xfrm>
            <a:off x="4572000" y="2590920"/>
            <a:ext cx="4343400" cy="3665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most Corr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rcRect l="24327" t="24726" r="25681" b="32736"/>
          <a:stretch/>
        </p:blipFill>
        <p:spPr>
          <a:xfrm>
            <a:off x="0" y="2743200"/>
            <a:ext cx="4343400" cy="3521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ause the triangles are drawn in the order they are specified in the program, the front triangles are not always rendered in front of triangles behind th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580920" y="33526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t th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971440" y="3657600"/>
            <a:ext cx="60948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548160" y="38862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 th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4876920" y="3962160"/>
            <a:ext cx="990360" cy="1522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Footer Placeholder 10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D8B-6EF9-4510-B0B7-7B3B95E919D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dden-Surface Remov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ant to see only those surfaces in front of other surf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GL uses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idden-surfa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thod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uffer algorithm that saves depth information as objects are rendered so that only the front objects appear in the 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n02f38"/>
          <p:cNvPicPr/>
          <p:nvPr/>
        </p:nvPicPr>
        <p:blipFill>
          <a:blip r:embed="rId1"/>
          <a:stretch/>
        </p:blipFill>
        <p:spPr>
          <a:xfrm>
            <a:off x="2895480" y="4114800"/>
            <a:ext cx="2878200" cy="2109960"/>
          </a:xfrm>
          <a:prstGeom prst="rect">
            <a:avLst/>
          </a:prstGeom>
          <a:ln w="0">
            <a:noFill/>
          </a:ln>
        </p:spPr>
      </p:pic>
      <p:sp>
        <p:nvSpPr>
          <p:cNvPr id="75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CB4-EC67-400C-BAB0-CF7A79BA11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he </a:t>
            </a:r>
            <a:r>
              <a:rPr b="1" i="1" lang="en-US" sz="3700" spc="-1" strike="noStrike">
                <a:solidFill>
                  <a:srgbClr val="3333cc"/>
                </a:solidFill>
                <a:latin typeface="Arial"/>
              </a:rPr>
              <a:t>z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-buffer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lgorithm uses an extra buffer, the z-buffer, to store depth information as geometry travels down the pipe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th buffer is required to be available in WebG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must 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enable(gl.DEPTH_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ed in for each 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clear(gl.COLOR_BUFFER_BIT | gl.DEPTH_BUFFER_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9DD-4E04-404D-B465-9D2420341C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urface vs Volume Subdvision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ur example, we divided the surface of each 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ould also divide the volume using the same mid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idpoints define four smaller tetrahedrons, one for each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eping only these tetrahedrons remove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he midd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text for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BBE-C7A0-49F4-B0ED-27BC7014A04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olume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Picture 6" descr="an02f44.jpg"/>
          <p:cNvPicPr/>
          <p:nvPr/>
        </p:nvPicPr>
        <p:blipFill>
          <a:blip r:embed="rId1"/>
          <a:stretch/>
        </p:blipFill>
        <p:spPr>
          <a:xfrm>
            <a:off x="1828800" y="1676520"/>
            <a:ext cx="5011560" cy="434340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30:00Z</dcterms:created>
  <dc:creator>Ed Angel</dc:creator>
  <dc:description/>
  <dc:language>en-US</dc:language>
  <cp:lastModifiedBy>Ed Angel</cp:lastModifiedBy>
  <dcterms:modified xsi:type="dcterms:W3CDTF">2014-03-31T17:43:27Z</dcterms:modified>
  <cp:revision>74</cp:revision>
  <dc:subject/>
  <dc:title>PowerPoint Presentation</dc:title>
</cp:coreProperties>
</file>