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6AFF3-CEDD-4D3C-99AF-F364BA9B62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7086E-A3FC-4973-9C93-756C5A7219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847CF-E4FB-4B44-A0E7-6408C2282F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268A6-8ACE-4443-B1A2-9D8DAF054D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23B26-415E-48CC-9DF6-28B8022021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3542F-496E-440F-85FB-61F1D21C6E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F46F2-9C45-40AC-9C1E-FB4EC3F23A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3B2B3-5422-4E61-9F46-AB46E2E80D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FE217-24F4-4517-892B-629A3E307F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1026B-9AAB-4FCA-BE9F-2CED7BCC8A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D9AB4-B7A4-4C7E-9280-0BEC2634E8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4E5B2-0E63-409C-9F81-2CBD9C7D00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5630C-3A7D-4A08-8177-28BAD65DED5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00440"/>
            <a:ext cx="563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F27E8-37CD-45DD-8375-BE629704E5E9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ntroduction to Computer Graphics with WebG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nding Director, Arts, Research, Technology and Science Laborato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9DB64-01D5-4368-B9D1-B0CDB974FF9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icking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62120" y="327672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0B66F-3A4C-4CB3-9184-CC995926AA9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6248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bjectiv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6201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ow do we identify objects on the displa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verview three method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ing an off-screen buffer and co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ounding box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Why is Picking Difficult?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iven a point in the canvas how do map this point back to an object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ack of uniquenes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rward nature of pipelin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ake into account difficulty of getting an exact position with a pointing devi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4FC3F-9EE1-4D62-9D55-F72D2DBD1E88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Select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5238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upported by fixed function OpenGL pipelin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ach primitive is given an id by the application indicating to which object it belongs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s the scene is rendered, the id’s of primitives that render near the mouse are put in a hit lis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amine the hit list after the renderin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65E57-8290-4CC5-871E-7D0C832997E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Select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182520" indent="-1825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mplement by creating a window that corresponds to small area around mous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48640" indent="-18288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can track whether or not a primitive renders to this wind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8640" indent="-18288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 not want to display this rende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8640" indent="-18288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nder off-screen to an extra color buffer or user back buffer and don’t do a swa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quires a rendering which puts depths into hit recor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ossible to implement with WebG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E51F5-3B10-4796-AC32-DB3B3C5D113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icking with Color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e can use gl.readPixels to get the color at any location in window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dea is to use color to identify object bu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tiple objects can have the same co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shaded object will display many col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lution: assign a unique color to each object and render off-scree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gl.readPixels to get color at mouse lo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a table to map this color to an ob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B7034-42B4-4D78-ADBD-03DDB32CE50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icking with Bounding Box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04560" y="15238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oth previous methods require an extra rendering each time we do a pick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lternative is to use a table of (axis-aligned) bounding boxes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p mouse location to object through tabl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63A14-D9EE-420E-B9BF-C530FBFC852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Isosceles Triangle 4"/>
          <p:cNvSpPr/>
          <p:nvPr/>
        </p:nvSpPr>
        <p:spPr>
          <a:xfrm>
            <a:off x="3772080" y="4572000"/>
            <a:ext cx="1600200" cy="15238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3772080" y="4572000"/>
            <a:ext cx="1600200" cy="1523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6"/>
          <p:cNvSpPr/>
          <p:nvPr/>
        </p:nvSpPr>
        <p:spPr>
          <a:xfrm>
            <a:off x="4419720" y="556272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7"/>
          <p:cNvSpPr/>
          <p:nvPr/>
        </p:nvSpPr>
        <p:spPr>
          <a:xfrm>
            <a:off x="4952880" y="4800600"/>
            <a:ext cx="15264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8"/>
          <p:cNvSpPr/>
          <p:nvPr/>
        </p:nvSpPr>
        <p:spPr>
          <a:xfrm>
            <a:off x="3048120" y="487692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Box 9"/>
          <p:cNvSpPr/>
          <p:nvPr/>
        </p:nvSpPr>
        <p:spPr>
          <a:xfrm>
            <a:off x="5651640" y="4495680"/>
            <a:ext cx="267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ide bounding 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side tri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10"/>
          <p:cNvSpPr/>
          <p:nvPr/>
        </p:nvSpPr>
        <p:spPr>
          <a:xfrm>
            <a:off x="5727960" y="5715000"/>
            <a:ext cx="267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ide bounding 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ide tri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11"/>
          <p:cNvSpPr/>
          <p:nvPr/>
        </p:nvSpPr>
        <p:spPr>
          <a:xfrm>
            <a:off x="470880" y="5562720"/>
            <a:ext cx="282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side bounding 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side tri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Straight Arrow Connector 13"/>
          <p:cNvCxnSpPr/>
          <p:nvPr/>
        </p:nvCxnSpPr>
        <p:spPr>
          <a:xfrm flipV="1">
            <a:off x="2361960" y="5028840"/>
            <a:ext cx="610200" cy="4579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3" name="Straight Arrow Connector 16"/>
          <p:cNvCxnSpPr/>
          <p:nvPr/>
        </p:nvCxnSpPr>
        <p:spPr>
          <a:xfrm flipH="1" flipV="1">
            <a:off x="4723920" y="5790600"/>
            <a:ext cx="991440" cy="6102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4" name="Straight Arrow Connector 18"/>
          <p:cNvCxnSpPr/>
          <p:nvPr/>
        </p:nvCxnSpPr>
        <p:spPr>
          <a:xfrm flipH="1" flipV="1">
            <a:off x="5181120" y="4952880"/>
            <a:ext cx="534240" cy="766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5" name="Footer Placeholder 15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6T16:02:00Z</dcterms:created>
  <dc:creator>Ed Angel</dc:creator>
  <dc:description/>
  <dc:language>en-US</dc:language>
  <cp:lastModifiedBy>Ed Angel</cp:lastModifiedBy>
  <dcterms:modified xsi:type="dcterms:W3CDTF">2014-03-31T17:45:38Z</dcterms:modified>
  <cp:revision>85</cp:revision>
  <dc:subject/>
  <dc:title>PowerPoint Presentation</dc:title>
</cp:coreProperties>
</file>