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DE83-A4AC-43BC-961E-3776DD46F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3EB9-C317-4E0E-8EB8-B865E691E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E352-1561-4E4F-AC7B-4B841DCC7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2733-2750-47DA-ACC4-DE0B3F265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1CE0-8A7B-4AFF-9FB4-3E2322938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3ACB-2BB1-4F25-BBB0-8FB4EA2909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D3E1-7C1B-4BFA-87C9-02FA99FB70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B9C0-1A4A-4732-A44F-5F4C4CF8E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2B16-BC39-4D0B-BCE2-6C6B0E1A4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356A-A5E0-4892-B57F-F85017877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08F0-AD7E-46EF-BAFC-E845E5C66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D8D2-65E3-4E74-96C9-91F00CCAC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C77C-E06E-4082-8553-E02DD1BC0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772A-3FFD-4179-B90D-84EE1A718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3726-2956-489B-851D-050EEF7B3C6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705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C28A-C011-4A96-BF78-878DBFC8748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Enhanc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E9A7-E2AC-4BA3-A165-5693FBDAA04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04920" y="137160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ion mediump flo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2 fTexCoor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sampler2D tex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d = 1.0/256.0;  //spacing between te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x = fTexCoord.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y = fTexCoord.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 = 10.0*abs( texture2D( texture, vec2(x+d, y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xture2D( texture, vec2(x-d, y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0.0*abs( texture2D( texture, vec2(x, y+d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xture2D( texture, vec2(x, y-d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.w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onolulu Imag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2963-D9B7-4BAD-A317-721725D090A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38040" y="1633680"/>
            <a:ext cx="3700440" cy="448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419720" y="1676520"/>
            <a:ext cx="3643200" cy="441936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1833480" y="62485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571720" y="62485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8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obel Edge Detect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nline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approximate gradient at each poi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 smoothed finite difference approximations to x and y components separate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play magnitude of approximate gradi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with fragment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7FFF-D4C0-4256-8B11-B27D11257D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obel Edge Detect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A9A0-5A5B-4A76-9B4F-9CAA14588D3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80880" y="1447920"/>
            <a:ext cx="9753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gx = 3.0*texture2D( texture, vec2(x+d,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texture2D( texture, vec2(x+d, y+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texture2D( texture, vec2(x+d, y-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3.0*texture2D( texture, vec2(x-d,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xture2D( texture, vec2(x-d, y+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xture2D( texture, vec2(x-d, y-d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gy = 3.0*texture2D( texture, vec2(x, y+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texture2D( texture, vec2(x+d, y+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texture2D( texture, vec2(x-d, y+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3.0*texture2D( texture, vec2(x, y-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xture2D( texture, vec2(x+d, y-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xture2D( texture, vec2(x-d, y-d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 = vec4(sqrt(gx*gx + gy*gy), 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.w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obel Edge Detect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7" name="Content Placeholder 5" descr="sobel.tiff"/>
          <p:cNvPicPr/>
          <p:nvPr/>
        </p:nvPicPr>
        <p:blipFill>
          <a:blip r:embed="rId1"/>
          <a:srcRect l="-45393" t="0" r="-45393" b="0"/>
          <a:stretch/>
        </p:blipFill>
        <p:spPr>
          <a:xfrm>
            <a:off x="685800" y="160020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FDBA-5B45-41A9-B1E5-D9EFD7AAC10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Multiple Textur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matrix add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eate two samplers, texture1 and texture2, that contain the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fragment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_FragColor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ampler2D(texture1, vec2(x, y)) +sampler2D(texture2, vec2(x,y)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FE9A-0D93-442D-B49E-BABFE5F1C40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4 Way Parallelis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cent GPUs and graphics cards support textures up to 8K x 8K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scalar imaging, we can do twice as well using all four color compon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D26B-147D-44EE-9875-FB6285C530C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48120" y="3886200"/>
                <a:ext cx="220968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dexed and Pseudo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play luminance (2D) image as texture map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eat pixel value as independent variable for separate functions for each color compon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0717-30A2-4CD1-9FE0-EB03F5B0932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57200" y="36576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color = texture2D(texture, fTexCoor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color.g&lt;0.5) color.g = 2.0*color.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color.g = 2.0 - 2.0*color.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.b = 1.0-color.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 =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op View of 2D Sinc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5" name="Content Placeholder 4" descr="hat1.tiff"/>
          <p:cNvPicPr/>
          <p:nvPr/>
        </p:nvPicPr>
        <p:blipFill>
          <a:blip r:embed="rId1"/>
          <a:srcRect l="-30644" t="0" r="-30644" b="0"/>
          <a:stretch/>
        </p:blipFill>
        <p:spPr>
          <a:xfrm>
            <a:off x="-609480" y="1905120"/>
            <a:ext cx="6518160" cy="396216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6E1A-2850-4502-8BDA-2345CD476E5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hat2.tiff"/>
          <p:cNvPicPr/>
          <p:nvPr/>
        </p:nvPicPr>
        <p:blipFill>
          <a:blip r:embed="rId2"/>
          <a:stretch/>
        </p:blipFill>
        <p:spPr>
          <a:xfrm>
            <a:off x="4876920" y="1905120"/>
            <a:ext cx="3985920" cy="396216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Next Ste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more storage for most GPGPU calcul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filt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iter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shared mem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lution: Use texture memory and off-screen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0E9B-AA3B-42F1-B1A8-8CE2F9176FF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ing Applic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5CFB-1029-483A-A217-B5E6C2C2AE2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E42E-D587-4FB5-8ED0-829A65F180D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the fragment shader to do image process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 filt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eudo 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multiple textur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rix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GPG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3179-EAD1-41B3-964D-0B33B2C7D5F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ccumulation Techniqu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ositing and blending are limited by resolution of the frame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ically 8 bits per color compon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accumulation buff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as a high resolution buffer (16 or more bits per component) that avoided this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uld write into it or read from it with a scale fa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ower than direct compositing into the frame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w deprecated but can do techniques with floating point frame buff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D1C5-D2C7-45F9-81D0-3715C004968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ultirender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osite multiple imag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age Filtering (convolu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shifted and scaled versions of an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ole scene antialias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 primitives a little for each r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pth of Fiel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 viewer a little for each render keeping one plane unchang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tion eff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s and Im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se that we send a rectangle (two triangles) to the vertex shader and render it with an n x m texture m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se that in addition we use an n x m canv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is now a one-to-one correspondence between each texel and each frag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nce we can regard fragment operations as imaging operations on the texture m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DF4F-5064-4D9B-87B1-EE89498F980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PGPU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ing back at these examples, we can note that the only purpose of the geometry is to trigger the execution of the imaging operations in the fragment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equently, we can look at what we have done as large matrix operations rather than graphics oper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s to the field of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eral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rpos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mputing with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GP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GPGPU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6454-C8D4-446A-A40F-B3E12C8CD89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d two matr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y two matr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ast Fourier Trans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s speed and parallelism of G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t how do we get out result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 point frame buf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CL (WebC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FB6B-2359-4FB1-85CD-08D25FB7E3D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Multiple Texe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se we have a 1024 x 1024 texture in the texture object “image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ampler2D(image, vec2(x,y)) returns the the value of the texture at (x,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ampler2D(image, vec2(x+1.0/1024.0), y); returns the value of the texel to the right of (x,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use any combination of texels surrounding (x, y) in the fragment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3E17-ECD7-4D61-968E-3543B4AFCC7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03:22:18Z</dcterms:created>
  <dc:creator>Ed Angel</dc:creator>
  <dc:description/>
  <dc:language>en-US</dc:language>
  <cp:lastModifiedBy>Ed Angel</cp:lastModifiedBy>
  <dcterms:modified xsi:type="dcterms:W3CDTF">2014-03-31T17:54:51Z</dcterms:modified>
  <cp:revision>216</cp:revision>
  <dc:subject/>
  <dc:title>PowerPoint Presentation</dc:title>
</cp:coreProperties>
</file>