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0DD5-3A94-4532-9271-F310B7EC0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F34D-9392-49D2-BE8C-E6F4E415B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3119-851D-4722-BD4D-0F426FBC0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79F6-EBFA-448F-BC55-CD83DEB92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DD55-A19E-4844-BC67-D0FF57847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1E25-92D6-484C-ABC8-E267DA14B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6C4F-1204-4DEC-8A4D-D2FCFDF14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0481-14A4-4305-806D-7C9A2A1ED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BEAC-8DBC-4C5E-BA69-1BD3F5000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C1D9-6CB9-4E60-A1D8-C747303DF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627A-B11D-4459-AE51-F052E877E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3148-FE8E-409B-B614-A69901F2C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5BE8-20C7-45EE-B107-C7B8CA52A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7A70-9C1A-4906-86E0-12282C6DA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95DD-78D5-4082-88AD-2B066A35B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4963-2EA0-46F2-BF23-5FDC5AB4A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6C06-68BB-4841-AC23-C4A8ABC5A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501B-B5FD-43F9-8CE8-E9EA9877B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5AC6-4A47-4467-B32C-A78D5C485C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A8B8-69C6-47DF-A6ED-CEA399C3F8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7E6A-0D57-4679-AEE3-ECF320FF1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E01F-9D6D-44FC-9BAA-F4EA303C2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17CB-4117-42C9-93ED-5001D25C7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E6BA-0BED-4EB6-9732-4DDD1A85F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2736-CF2B-437A-B724-CCF3D7F47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1380-3B2B-4353-A496-E7935998E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B6EC-C03D-4840-947B-F4B52F76A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F795-0F8C-4872-86C6-5880492A7F6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80520" y="6400440"/>
            <a:ext cx="7086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E296-00A0-4257-AD70-F7FFCD6F822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FF54-19FA-439B-9F25-DB83900A562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ftp://ftp.cs.unm.edu/pub/angel/BOOK/SECOND_EDITION/FIGURES/JPEG/an03f11.jpg"/>
          <p:cNvPicPr/>
          <p:nvPr/>
        </p:nvPicPr>
        <p:blipFill>
          <a:blip r:embed="rId1"/>
          <a:stretch/>
        </p:blipFill>
        <p:spPr>
          <a:xfrm>
            <a:off x="2209680" y="3733920"/>
            <a:ext cx="4419720" cy="2678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X Window Inpu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X Window System introduced a client-server model for a network of workst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penGL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aphics Serv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bitmap display with a pointing device and a key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CE99-E16D-479C-9C24-3509D45E4C2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put Mod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put devices contain 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which can be used to send a signal to the operating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ton on 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ing or releasing a 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n triggered, input devices return information (their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 to the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use returns position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board returns ASCII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A62D-94A3-4BB2-A9F8-6882EE9A9FD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quest Mo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put provided to program only when user triggers the devi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ypical of keyboard inpu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erase (backspace), edit, correct until enter (return) key (the trigger) is depre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ftp://ftp.cs.unm.edu/pub/angel/BOOK/SECOND_EDITION/FIGURES/JPEG/an03f08.jpg"/>
          <p:cNvPicPr/>
          <p:nvPr/>
        </p:nvPicPr>
        <p:blipFill>
          <a:blip r:embed="rId1"/>
          <a:stretch/>
        </p:blipFill>
        <p:spPr>
          <a:xfrm>
            <a:off x="685800" y="4343400"/>
            <a:ext cx="7601040" cy="1082520"/>
          </a:xfrm>
          <a:prstGeom prst="rect">
            <a:avLst/>
          </a:prstGeom>
          <a:ln w="0">
            <a:noFill/>
          </a:ln>
        </p:spPr>
      </p:pic>
      <p:sp>
        <p:nvSpPr>
          <p:cNvPr id="110" name="Footer Placeholder 5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950F-1855-430E-B349-6344BBA98F3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vent Mo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systems have more than one input device, each of which can be triggered at an arbitrary time by a us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ch trigger generates a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whose measure is put in a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ent queu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which can be examined by the user progr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ftp://ftp.cs.unm.edu/pub/angel/BOOK/SECOND_EDITION/FIGURES/JPEG/an03f10.jpg"/>
          <p:cNvPicPr/>
          <p:nvPr/>
        </p:nvPicPr>
        <p:blipFill>
          <a:blip r:embed="rId1"/>
          <a:stretch/>
        </p:blipFill>
        <p:spPr>
          <a:xfrm>
            <a:off x="380880" y="4800600"/>
            <a:ext cx="8359920" cy="90504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5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B733-16A0-4347-8258-C6C87D28F69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vent Typ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indow: resize, expose, iconif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use: click one or more butt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tion: move mou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eyboard: press or release a ke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dle: nonev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what should be done if no other event is in que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181E-8730-4B14-A917-EB1B8240259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put and Intera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52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334A-18AB-4138-B656-69147128F97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the basic input dev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al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cal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 M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ent-driven inpu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double buffering for smooth anim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amming event input with WebG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A4CB-FDEB-4770-811B-8E73C1B7F5C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ject Sketchpa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van Sutherland (MIT 1963) established the basic interactive paradigm that characterizes interactive computer graphic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sees a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n the disp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points to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ic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the object with an input device (light pen, mouse, trackbal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 changes (moves, rotates, morph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0648-2A97-4985-A0A8-A0C2BDDAF19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raphical Inpu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vices can be described either b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cal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returned to program via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bject ident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and when input is obta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or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36E1-4EE2-4EFA-B9D7-E70A3977275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hysical Devi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2" name="Picture 5" descr="ftp://ftp.cs.unm.edu/pub/angel/BOOK/SECOND_EDITION/FIGURES/JPEG/an03f01.jpg"/>
          <p:cNvPicPr/>
          <p:nvPr/>
        </p:nvPicPr>
        <p:blipFill>
          <a:blip r:embed="rId1"/>
          <a:stretch/>
        </p:blipFill>
        <p:spPr>
          <a:xfrm>
            <a:off x="762120" y="1828800"/>
            <a:ext cx="1712880" cy="1550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ftp://ftp.cs.unm.edu/pub/angel/BOOK/SECOND_EDITION/FIGURES/JPEG/an03f02.jpg"/>
          <p:cNvPicPr/>
          <p:nvPr/>
        </p:nvPicPr>
        <p:blipFill>
          <a:blip r:embed="rId2"/>
          <a:stretch/>
        </p:blipFill>
        <p:spPr>
          <a:xfrm>
            <a:off x="2895480" y="1600200"/>
            <a:ext cx="2409840" cy="1670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ftp://ftp.cs.unm.edu/pub/angel/BOOK/SECOND_EDITION/FIGURES/JPEG/an03f04.jpg"/>
          <p:cNvPicPr/>
          <p:nvPr/>
        </p:nvPicPr>
        <p:blipFill>
          <a:blip r:embed="rId3"/>
          <a:stretch/>
        </p:blipFill>
        <p:spPr>
          <a:xfrm>
            <a:off x="304920" y="4267080"/>
            <a:ext cx="2979720" cy="127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ftp://ftp.cs.unm.edu/pub/angel/BOOK/SECOND_EDITION/FIGURES/JPEG/an03f05.jpg"/>
          <p:cNvPicPr/>
          <p:nvPr/>
        </p:nvPicPr>
        <p:blipFill>
          <a:blip r:embed="rId4"/>
          <a:stretch/>
        </p:blipFill>
        <p:spPr>
          <a:xfrm>
            <a:off x="6400800" y="1447920"/>
            <a:ext cx="2182680" cy="2116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ftp://ftp.cs.unm.edu/pub/angel/BOOK/SECOND_EDITION/FIGURES/JPEG/an03f06.jpg"/>
          <p:cNvPicPr/>
          <p:nvPr/>
        </p:nvPicPr>
        <p:blipFill>
          <a:blip r:embed="rId5"/>
          <a:stretch/>
        </p:blipFill>
        <p:spPr>
          <a:xfrm>
            <a:off x="3352680" y="3962520"/>
            <a:ext cx="2649600" cy="18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ftp://ftp.cs.unm.edu/pub/angel/BOOK/SECOND_EDITION/FIGURES/JPEG/an03f07.jpg"/>
          <p:cNvPicPr/>
          <p:nvPr/>
        </p:nvPicPr>
        <p:blipFill>
          <a:blip r:embed="rId6"/>
          <a:stretch/>
        </p:blipFill>
        <p:spPr>
          <a:xfrm>
            <a:off x="6172200" y="4343400"/>
            <a:ext cx="2496960" cy="1487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6"/>
          <p:cNvSpPr/>
          <p:nvPr/>
        </p:nvSpPr>
        <p:spPr>
          <a:xfrm>
            <a:off x="838800" y="34279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3656160" y="34290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6476760" y="35812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988560" y="571500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ab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4190760" y="57913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y s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476400" y="586728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15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8ADB-82C4-46DA-B00A-7D06D7D29C6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cremental (Relative) Devi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vices such as the data tablet return a position directly to the operating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vices such as the mouse, trackball, and joy stick return incremental inputs (or velocities) to the operating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integrate these inputs to obtain an absolute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ion of cylinders in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 of track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obtain absolute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get variable sensi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B66E-A181-4381-8994-E513C6B9084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ogical Devi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the C and C++ co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++: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in &gt;&gt; x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: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canf (“%d”, &amp;x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input devic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’t tell from the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ld be keyboard, file, output from another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code provides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ogical inpu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number (an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is returned to the program regardless of the physical de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B02F-6B1E-4F02-ADC1-8D12E6B1084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raphical Logical Devi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aphical input is more varied than input to standard programs which is usually numbers, characters, or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wo older APIs (GKS, PHIGS) defined six types of logical inpu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return a 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c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return ID of an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yboa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return strings of charac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ok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return array of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lua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return floating point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oi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return one of n i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8088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5T21:57:35Z</dcterms:created>
  <dc:creator>Ed Angel</dc:creator>
  <dc:description/>
  <dc:language>en-US</dc:language>
  <cp:lastModifiedBy>Ed Angel</cp:lastModifiedBy>
  <dcterms:modified xsi:type="dcterms:W3CDTF">2014-03-31T17:44:06Z</dcterms:modified>
  <cp:revision>66</cp:revision>
  <dc:subject/>
  <dc:title>PowerPoint Presentation</dc:title>
</cp:coreProperties>
</file>