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87AE-E69F-4155-B0C6-ED1B99E92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7453-BECF-43D8-8075-376B4C64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F008-0EDF-47E1-8722-A1A9DEA2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D567-2DCB-4067-A7EB-79DBAB22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49F9-4631-470E-B5EF-D3DCDBD04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E86-FC59-4860-A3EA-A46C8215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1611-FC95-403C-8A38-96D7ED29A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2E8A-67C9-4773-B2FA-117915FF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DF1B-EC85-4334-929E-D44D579D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400A-0140-449E-9568-3F8CD6F4F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A3F2-704C-4452-89E4-ADB886093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9FD7-62DB-40F2-BD7D-9F2FF2B22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1FBB-FDF3-4AC0-BC6C-E9C9B13F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326-CC63-411C-8889-A9D0C5E2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9D84-D62E-4E21-80EC-1B72DF794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F48A-EA76-4541-81DD-F4F9E9F9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A613-5A7F-467E-AF4C-50C18172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21A1-2B60-4ACE-B398-A58B7D82A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3724-D06C-4CCC-8CD5-D800E5767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B476-4C53-44BC-B548-0E291729D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B8F5-2161-4A10-9180-313B7461C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DF60-6573-4050-BF3A-E9A143B84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DC19-5390-43B6-A747-CA38DEF20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024E-FA1C-46E4-97FC-B4DC2A4C2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436C-30E5-49F0-A61E-C3F77AD92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A278-6591-4AF5-A7C6-498EEFB3C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B95B-7037-4524-BF44-694EE662C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AF7D-A436-4E8A-AADE-200E06DB6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CBE2-E8A4-47EA-A220-AF4E422D2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2391-7B8B-4BC1-A040-E2F305C2BC7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80520" y="640044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A4DA-5299-4B5D-89F0-F9AB6476C0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119C-BABF-4A74-B5CC-2BAB808884A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609480" y="312408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function ren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clear(gl.COLOR_BUFFER_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theta += 0.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uniform1f(thetaLoc, 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drawArrays(gl.TRIANGLE_STRIP, 0, 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rend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09480" y="2286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ar thetaLoc = gl.getUniformLocation(program, "thet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27B4-980B-41F2-8BA6-090CCD9D81C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57200" y="21337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attribute vec4 vPos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uniform float th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_Position.x = -sin(theta) * vPosition.x + cos(theta) * vPosition.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_Position.y = sin(theta) * vPosition.y + cos(theta) * vPosition.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_Position.z = 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_Position.w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ouble Buffer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hough we are rendering the square, it always into a buffer that is not display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owser uses double buff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display front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dering into back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a buffer sw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vents display of a partial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4FC-F340-4A82-A380-B9C4A8F9C5F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ggering a Buffer Swa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owsers refresh the display at ~60 Hz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isplay of front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buffer sw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igger a buffer swap though an ev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options for rotating squ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val ti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estAnimFr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A58-8E0B-4300-A5E0-2F841BB1E96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erval Tim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cutes a function after a specified number of millisecon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generates a buffer sw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an interval of 0 generates buffer swaps as fast as possi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458F-0D61-4D60-96BD-E8F5073B43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838080" y="31989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946a"/>
                </a:solidFill>
                <a:latin typeface="Times New Roman"/>
              </a:rPr>
              <a:t>setInterval(render, interval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questAnimFram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D7AD-2087-4E6F-97E9-9743DD5A9D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333440" y="2286000"/>
            <a:ext cx="647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function rend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clear(gl.COLOR_BUFFER_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theta += 0.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uniform1f(thetaLoc, 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drawArrays(gl.TRIANGLE_STRIP, 0, 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requestAnimFrame(rend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 an Interv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65D8-293C-41FA-90CB-35ED760AB18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609480" y="220968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function ren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setTimeout( functio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requestAnimFrame(rend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clear(gl.COLOR_BUFFER_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theta += 0.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uniform1f(thetaLoc, 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drawArrays(gl.TRIANGLE_STRIP, 0, 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, 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C684-E72C-44FD-81FE-24386693E7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ni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0F76-3F84-4780-A937-B6532B3087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allback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ing interface for event-driven input uses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allback functions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ent listen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a callback for each event the graphics system recogn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wsers enters an event loop and responds to those events for which it has callbacks regis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allback function is executed when the event occ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ecution in a Brows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C13B-910D-45DE-9864-0B86E6E9127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ontent Placeholder 8" descr="html.eps"/>
          <p:cNvPicPr/>
          <p:nvPr/>
        </p:nvPicPr>
        <p:blipFill>
          <a:blip r:embed="rId1"/>
          <a:srcRect l="-38240" t="0" r="-38240" b="0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65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ecution in a Brows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 with HTML 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th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contain th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s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les are loaded asynchronously and JS code is execu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n wha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owser is in an event loop and waits for an ev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BFB-6F0C-439E-926E-17C11EE215E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nload Even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happens with our JS file containing the graphics part of our applicatio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he “action” is within functions such as init() and render(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equently these functions are never executed and we see no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lution: use the onload window event to initiate execution of the init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oad event occurs when all files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.onload = ini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3A65-BA0D-4856-89B6-1D0665A84C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ng Squa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four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imate display by rerendering with different values of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A5F6-4E30-445D-8221-A146215175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N03newF20.EPS"/>
          <p:cNvPicPr/>
          <p:nvPr/>
        </p:nvPicPr>
        <p:blipFill>
          <a:blip r:embed="rId1"/>
          <a:stretch/>
        </p:blipFill>
        <p:spPr>
          <a:xfrm>
            <a:off x="685800" y="2209680"/>
            <a:ext cx="6172200" cy="315432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 but Slow Metho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F92-F8D7-464A-8FD2-526B086A262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80880" y="205740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for(var theta = 0.0; theta &lt;thetaMax; theta += dtheta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ertices[0] = vec2(Math.sin(theta), Math.cos.(theta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ertices[1] = vec2(Math.sin(theta), -Math.cos.(theta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ertices[2] = vec2(-Math.sin(theta), -Math.cos.(theta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vertices[3] = vec2(-Math.sin(theta), Math.cos.(theta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gl.bufferSubData(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rend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946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etter Wa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nd original vertices to vertex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shader as a uniform varia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 vertices in vertex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nder recursive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E97-68AB-40E4-971C-7ED80973AC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22:35:19Z</dcterms:created>
  <dc:creator>Ed Angel</dc:creator>
  <dc:description/>
  <dc:language>en-US</dc:language>
  <cp:lastModifiedBy>Ed Angel</cp:lastModifiedBy>
  <dcterms:modified xsi:type="dcterms:W3CDTF">2014-03-31T17:44:25Z</dcterms:modified>
  <cp:revision>86</cp:revision>
  <dc:subject/>
  <dc:title>PowerPoint Presentation</dc:title>
</cp:coreProperties>
</file>