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3F235-20FF-410A-87AB-35360CD9FB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8A772-A08C-4ACA-8DA9-460E585ED9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41D2D-0AD4-44D1-BB8F-B2604881DB1F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776BFD-9BCC-4679-8C45-F4C0F8BD1DAB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932ACF-B3BF-43F9-A759-B1523ADD24DF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A01E9-6920-4D72-ADEE-C9B4FC2924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2421C-A9AB-4081-9B08-461A23D6A64C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04CED-59C9-4E95-848E-72FD232DE39D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5F321-E4E7-4E7C-9830-0DFC2B92A53B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5BE49-7253-4C0C-A97B-F62895AAC86E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446E4-2E53-4641-A5F4-4AC88D295CC5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7CB44-0E89-43F4-BBCD-E5DF3A10E4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44886-1E65-4A7A-801D-7A21D3152D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D4892-7976-45BD-94D4-4A2CE3970F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34970-991C-442E-9287-E1668A1775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46BEC-12C6-49A3-B50F-DD3AC65DDE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B7016-BEE3-4897-9212-38514340A8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87146-0F9F-433C-B0C0-AB47C33F9C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9F1B0-760B-4CE7-8F80-B6EA6F63A7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CF484-A4B1-4972-99C2-3F1BC3AB58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13DA0-D8B3-4CA5-B87A-71C6915531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4E231-AB54-4BBC-AD05-BAA690512A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16341-294D-4E26-8272-548B3B5B37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0A193-9FB4-47F5-ACB1-00529C54DD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66B5-0665-4325-9285-2BCD9F35CBA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400440"/>
            <a:ext cx="6324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mpty Texture Objec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304920" y="1676520"/>
            <a:ext cx="7877160" cy="37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ure1 = gl.createTextur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activeTexture( gl.TEXTURE0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bindTexture( gl.TEXTURE_2D, texture1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gl.texImage2D(gl.TEXTURE_2D, 0, gl.RGBA, 512, 512, 0, gl.RGB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gl.UNSIGNED_BYTE, nul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generateMipmap(gl.TEXTURE_2D);    gl.texParameteri( gl.TEXTURE_2D, gl.TEXTURE_MIN_FILTE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NEAREST_MIPMAP_LINEAR );    gl.texParameteri( gl.TEXTURE_2D, gl.TEXTURE_MAG_FILTE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NEAREST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6DCC-E7B5-4A24-92FD-5870206418F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reating a FBO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44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create a framebuffer object in a similar manner to other objec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reating an FBO creates an empty FB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ust add needed resourc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add a renderbuffer to render i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add a texture which can also be rendered i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hidden surface removal we must add a depth buffer attachment to the renderbuff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FF05-3C68-4F6A-A748-DCF69A62A39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Frame Buffer Objec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0" y="1523880"/>
            <a:ext cx="9144000" cy="50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 framebuffer = gl.createFramebuffer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bindFramebuffer(gl.FRAMEBUFFER, framebuffe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mebuffer.width = 51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mebuffer.height = 51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renderbuffer = gl.createRenderbuffer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//gl.bindRenderbuffer(gl.RENDERBUFFER, renderbuffe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//gl.renderbufferStorage(gl.RENDERBUFFE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gl.DEPTH_COMPONENT16, 512, 51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Attach color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framebufferTexture2D(gl.FRAMEBUFFER, gl.COLOR_ATTACHMENT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TEXTURE_2D, texture1, 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gl.framebufferRenderbuffer(gl.FRAMEBUFFER, gl.DEPTH_ATTACHMEN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gl.RENDERBUFFER, renderbuffe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check for complet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 status = gl.checkFramebufferStatus(gl.FRAMEBUFFE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(status != gl.FRAMEBUFFER_COMPLETE) alert('Frame Buffer Not Complete'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A1D6-1CA9-4AEA-AC39-B9858F50E1C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est of Initializ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ame as previous exampl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cate VA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ll VAO with data for render to tex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itialize two program objects with different shad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rst for render to tex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for rendering with created tex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5AC7-4A9C-4D6A-9B83-A3980C3AB14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Framebuffer Object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33523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ok at methods that use memory on the graphics car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roduce off screen render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arn how to create framebuffer objec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te a renderbuff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tach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3B1D-CF57-4851-8EAD-1B177DA83FE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Discrete Processing in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cent GPUs contain large amounts of mem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xture mem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mebuff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oating po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ragment shaders support discrete operations at the pixel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parate pixel (texel) pipeli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9B00-63DF-4B05-82D0-D7AFAF7E208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ccessing the Framebuffe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e 3.1 OpenGL had functions that allowed access to the framebuffer and other OpenGL buff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aw Pix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d Pix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py Pix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tB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umulation Buffer 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l deprecat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026B-7DB4-48D9-9C71-520E6A377A9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Going between CPU and GPU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77920" y="1496880"/>
            <a:ext cx="8588160" cy="536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have already seen that we can write pixels as texels to texture mem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xture objects reduce transfers between CPU and GPU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ransfer of pixel data back to CPU slow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ant to manipulate pixels without going back to CPU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age proces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PGP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BBE7-59BC-476C-B122-CDC9D14968F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Framebuffer Object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ramebuffer Objects (FBOs)  are buffers  that are created by the applic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under control of window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not be display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attach a renderbuffer to a FBO and can render off screen into the attached buff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ached buffer can then be detached and used as a texture map for an on-screen render to the default frame buff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0189-E273-4311-8788-442CA1F59C6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ender to Textur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xtures are shared by all instances of the fragment shad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f we render to a texture attachment we can create a new texture image that can be used in subsequent rendering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se a double buffering strategy for operations such as convolu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D176-63E0-437F-BF96-CA87EDB9DA0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tep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65040" y="1600200"/>
            <a:ext cx="8413920" cy="536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reate an Empty Texture Objec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reate a FB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ttach renderbuffer for texture im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ind FB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nder sce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tach renderbuff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ind textur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nder with new text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58A4-0261-4159-A59E-86F7D18B3E6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4T23:59:14Z</dcterms:created>
  <dc:creator>Ed Angel</dc:creator>
  <dc:description/>
  <dc:language>en-US</dc:language>
  <cp:lastModifiedBy>Ed Angel</cp:lastModifiedBy>
  <dcterms:modified xsi:type="dcterms:W3CDTF">2014-03-31T17:55:20Z</dcterms:modified>
  <cp:revision>140</cp:revision>
  <dc:subject/>
  <dc:title>PowerPoint Presentation</dc:title>
</cp:coreProperties>
</file>