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BE64-CE66-48B2-8B8B-FEBE4BA8F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20A-1978-45AF-96EC-4535CFDC7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51B1-35E4-47FE-A3A4-10E61CA64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1C94-5BEA-4C1A-A88F-A7232E9D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53B-1AA7-4C34-93D2-DECA06AB9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4189-3CDF-4F01-AC7A-26C4EABA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17C0-C052-4C6D-9604-2D9E2F1C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B60-1DF9-4FD0-B6EC-C21DD43D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67B2-637B-4E6E-9162-0BCA4875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723-BA54-43A6-9D99-1FBF534AC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24CE-5560-482D-9BE4-7FB89CEA8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F55F-C263-42BC-A48D-5736E6B0D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680C-3CFB-41BE-9ACC-11C6D502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08B8-DCAE-420B-917D-B8D1ED2F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A72-EA4B-4543-AEA2-6006B79B0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AF3-B9D8-4C54-B289-8A9E4F31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AE4-17E4-41F6-80F3-6837E1CD1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5D08-3891-419D-AD91-8A38CA5F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8A64-81B0-475E-B297-6543EA87B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A906-5E86-41FB-96EF-8FFCE1988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6B09-2B77-4B9B-88D2-23072B92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5F9-ADF2-474C-924D-A15A23A7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B582-7027-4CE1-8291-8BB646CC6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E801-43DB-45B5-AE1C-1730698BD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2290-C1B2-4C8E-A42F-41B5D3BE1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2CFD-FC4E-47EC-AD24-716D90BA0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940A-94C8-4B55-B461-54C32635A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5BD2-F6CB-4048-8727-10947AA0B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2FBF-E697-4E98-AC2D-7AB7B12B82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1408-4405-45DF-A0D2-82585077B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9F44-591A-4125-818F-EF7BBC2FA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80D6-532E-4903-BD30-1EABE9B7A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827B-B9F3-4250-AB67-3CE133225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0320-EA29-451F-965D-C89454BE4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53CE-168D-47AD-AA73-5755CAACD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F44F-8A24-4F77-B52D-0EE31C146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A55A-920B-46D4-96E5-4FB2FB5BE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1D8D-16E6-4220-B614-D3A85330F53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14040" y="640044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5B5-66E5-41A0-8703-905E2E634D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4132-F7DC-46F7-B248-469F8EA57C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llel 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:\BOOK\OpenGL\Paul Final\Art\jpeg\AN05F02.jpg"/>
          <p:cNvPicPr/>
          <p:nvPr/>
        </p:nvPicPr>
        <p:blipFill>
          <a:blip r:embed="rId1"/>
          <a:stretch/>
        </p:blipFill>
        <p:spPr>
          <a:xfrm>
            <a:off x="609480" y="1676520"/>
            <a:ext cx="6215040" cy="414972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A684-9CF8-4B7F-8142-AB0A8CAA68F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rthographic 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ors are orthogonal to projection sur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:\BOOK\OpenGL\Paul Final\Art\jpeg\AN05F04.jpg"/>
          <p:cNvPicPr/>
          <p:nvPr/>
        </p:nvPicPr>
        <p:blipFill>
          <a:blip r:embed="rId1"/>
          <a:stretch/>
        </p:blipFill>
        <p:spPr>
          <a:xfrm>
            <a:off x="1981080" y="2286000"/>
            <a:ext cx="4114800" cy="355284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56B-2DD4-43CF-A2C1-B1BDBBCD794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ultiview Orthographic 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ion plane parallel to principal 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form front, top, side 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:\BOOK\OpenGL\Paul Final\Art\jpeg\AN05F05.jpg"/>
          <p:cNvPicPr/>
          <p:nvPr/>
        </p:nvPicPr>
        <p:blipFill>
          <a:blip r:embed="rId1"/>
          <a:stretch/>
        </p:blipFill>
        <p:spPr>
          <a:xfrm>
            <a:off x="3657600" y="2590920"/>
            <a:ext cx="3809880" cy="3784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09600" y="274176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metric (not multi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raphic 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971800" y="3429000"/>
            <a:ext cx="60948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231680" y="3274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359480" y="5332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032280" y="556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7080" y="4341960"/>
            <a:ext cx="36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D and  architec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ften display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iews plus isometr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11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7FFC-8DFB-47F7-AADB-BB32005576D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tages and Disadvant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serves both distances and ang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pes pre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for measu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not see what object really looks like because many surfaces hidden from 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e add the iso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3C3-AC09-4AAD-B5D2-5B007DF8996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xonometric Proj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projection plane to move relative to 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:\BOOK\OpenGL\Paul Final\Art\jpeg\AN05F06.jpg"/>
          <p:cNvPicPr/>
          <p:nvPr/>
        </p:nvPicPr>
        <p:blipFill>
          <a:blip r:embed="rId1"/>
          <a:srcRect l="0" t="0" r="60101" b="7364"/>
          <a:stretch/>
        </p:blipFill>
        <p:spPr>
          <a:xfrm>
            <a:off x="5105520" y="2133720"/>
            <a:ext cx="3200400" cy="4038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58640" y="2438280"/>
            <a:ext cx="458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by how many angl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ner of a projected cub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: tri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: di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: is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2819520" y="3505320"/>
            <a:ext cx="1447560" cy="1447200"/>
            <a:chOff x="2819520" y="3505320"/>
            <a:chExt cx="1447560" cy="1447200"/>
          </a:xfrm>
        </p:grpSpPr>
        <p:sp>
          <p:nvSpPr>
            <p:cNvPr id="149" name="Line 7"/>
            <p:cNvSpPr/>
            <p:nvPr/>
          </p:nvSpPr>
          <p:spPr>
            <a:xfrm>
              <a:off x="2819520" y="3581280"/>
              <a:ext cx="68580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3505320" y="411444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 flipV="1">
              <a:off x="3505320" y="3505320"/>
              <a:ext cx="76176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Line 11"/>
          <p:cNvSpPr/>
          <p:nvPr/>
        </p:nvSpPr>
        <p:spPr>
          <a:xfrm flipV="1">
            <a:off x="3505320" y="4266720"/>
            <a:ext cx="8380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 flipV="1">
            <a:off x="2666520" y="41911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246840" y="3505320"/>
            <a:ext cx="58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475440" y="3962520"/>
            <a:ext cx="58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941920" y="3962520"/>
            <a:ext cx="58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1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6F86-F360-471D-A7A2-B697B34A1E7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ypes of Axonometric Proj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C:\BOOK\OpenGL\Paul Final\Art\jpeg\AN05F07.jpg"/>
          <p:cNvPicPr/>
          <p:nvPr/>
        </p:nvPicPr>
        <p:blipFill>
          <a:blip r:embed="rId1"/>
          <a:stretch/>
        </p:blipFill>
        <p:spPr>
          <a:xfrm>
            <a:off x="304920" y="2590920"/>
            <a:ext cx="8553240" cy="269244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1CE1-B3E3-4218-911A-9AEE2177D8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tages and Disadvant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s are scaled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oreshorten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but can find scaling fac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s preserved but angles are no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ion of a circle in a plane not parallel to the projection plane is an elli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see three principal faces of a box-like 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optical illusions 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 lines appear to div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not look real because far objects are scaled the same as near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in CAD 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2B83-C7B4-4466-9FB5-68DC09FAB1A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lique 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bitrary relationship between projectors and projection pla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:\BOOK\OpenGL\Paul Final\Art\jpeg\AN05F08.jpg"/>
          <p:cNvPicPr/>
          <p:nvPr/>
        </p:nvPicPr>
        <p:blipFill>
          <a:blip r:embed="rId1"/>
          <a:srcRect l="0" t="0" r="0" b="6496"/>
          <a:stretch/>
        </p:blipFill>
        <p:spPr>
          <a:xfrm>
            <a:off x="609480" y="2362320"/>
            <a:ext cx="809640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06C6-E551-4237-A515-0B7910BD4F0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tages and Disadvant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ick the angles to emphasize a particular 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hitecture: plan oblique, elevation obl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gles in faces parallel to projection plane are preserved while we can still see “around” s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physical world, cannot create with simple camera; possible with bellows camera or special lens (architectur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76720" y="3886200"/>
            <a:ext cx="13716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3809880" y="4114800"/>
            <a:ext cx="3812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6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557-7BD0-4B8D-8305-664843A845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spective 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ors coverge at center of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C:\BOOK\OpenGL\Paul Final\Art\jpeg\AN05F09.jpg"/>
          <p:cNvPicPr/>
          <p:nvPr/>
        </p:nvPicPr>
        <p:blipFill>
          <a:blip r:embed="rId1"/>
          <a:stretch/>
        </p:blipFill>
        <p:spPr>
          <a:xfrm>
            <a:off x="2057400" y="2209680"/>
            <a:ext cx="3902040" cy="347976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E7EA-5D52-43B2-869C-1741CC7E1DF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assical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F1AA-8ED5-4D4C-960C-22D6AD907E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anishing Poi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lines (not parallel to the projection plan) on the object converge at a single point in the projection (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vanishing poin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awing simple perspectives by hand uses these vanishing point(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2819520" y="3657600"/>
            <a:ext cx="3047760" cy="2286000"/>
            <a:chOff x="2819520" y="3657600"/>
            <a:chExt cx="3047760" cy="2286000"/>
          </a:xfrm>
        </p:grpSpPr>
        <p:sp>
          <p:nvSpPr>
            <p:cNvPr id="187" name="Rectangle 4"/>
            <p:cNvSpPr/>
            <p:nvPr/>
          </p:nvSpPr>
          <p:spPr>
            <a:xfrm>
              <a:off x="2819520" y="5029200"/>
              <a:ext cx="175248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4572000" y="3657600"/>
              <a:ext cx="129528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 flipV="1">
              <a:off x="4572000" y="3657600"/>
              <a:ext cx="1295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 flipV="1">
              <a:off x="2819520" y="3657600"/>
              <a:ext cx="304776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Line 9"/>
          <p:cNvSpPr/>
          <p:nvPr/>
        </p:nvSpPr>
        <p:spPr>
          <a:xfrm flipH="1" flipV="1">
            <a:off x="5943600" y="3733920"/>
            <a:ext cx="914400" cy="9144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024960" y="4572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ish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D526-2524-4854-AFBA-0243343F8F8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-Point Perspectiv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rincipal face parallel to projection pla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vanishing points for cu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:\BOOK\OpenGL\Paul Final\Art\jpeg\AN05F10a.jpg"/>
          <p:cNvPicPr/>
          <p:nvPr/>
        </p:nvPicPr>
        <p:blipFill>
          <a:blip r:embed="rId1"/>
          <a:srcRect l="0" t="0" r="0" b="16942"/>
          <a:stretch/>
        </p:blipFill>
        <p:spPr>
          <a:xfrm>
            <a:off x="3352680" y="2895480"/>
            <a:ext cx="2754360" cy="312444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7F56-1DDB-40AD-976B-E99C9C7F68E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wo-Point Perspectiv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principal direction parallel to projection pla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vanishing points for cu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C:\BOOK\OpenGL\Paul Final\Art\jpeg\AN05F10b.jpg"/>
          <p:cNvPicPr/>
          <p:nvPr/>
        </p:nvPicPr>
        <p:blipFill>
          <a:blip r:embed="rId1"/>
          <a:srcRect l="0" t="0" r="0" b="17624"/>
          <a:stretch/>
        </p:blipFill>
        <p:spPr>
          <a:xfrm>
            <a:off x="2895480" y="2590920"/>
            <a:ext cx="3086280" cy="3098520"/>
          </a:xfrm>
          <a:prstGeom prst="rect">
            <a:avLst/>
          </a:prstGeom>
          <a:ln w="0">
            <a:noFill/>
          </a:ln>
        </p:spPr>
      </p:pic>
      <p:sp>
        <p:nvSpPr>
          <p:cNvPr id="203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DADA-E3E5-4F1F-B657-2350E326AA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ne-Point Perspective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principal face parallel to projection pla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vanishing point for cu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C:\BOOK\OpenGL\Paul Final\Art\jpeg\AN05F10c.jpg"/>
          <p:cNvPicPr/>
          <p:nvPr/>
        </p:nvPicPr>
        <p:blipFill>
          <a:blip r:embed="rId1"/>
          <a:srcRect l="0" t="0" r="0" b="15140"/>
          <a:stretch/>
        </p:blipFill>
        <p:spPr>
          <a:xfrm>
            <a:off x="3048120" y="2895480"/>
            <a:ext cx="3063600" cy="320040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3877-3764-4A28-88CE-898A7F5D4D4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tages and Disadvant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s further from viewer are projected smaller than the same sized objects closer to the viewer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imin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s reali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qual distances along a line are not projected into equal distances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nonuniform foreshorten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gles preserved only in planes parallel to the projection pla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difficult to construct by hand than parallel projections (but not more difficult by compu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BFE4-4226-45E9-9506-52C42F7B2E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classical view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e and contrast image formation by computer with how images have been formed by architects, artists, and engine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he benefits and drawbacks of each type of 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0EF1-38D7-4C02-BF2D-837F42010A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assical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ing requires three basic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r more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iewer with a projection su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ors that go from the object(s) to the projection su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views are based on the relationship among thes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ewer picks up the object and orients it how she would like to se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is assumed to constructed from fl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 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s, polyhedra, manufactur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3292-50A5-483F-8E17-24970EABA7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lanar Geometric Proj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projections project onto a pla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ors are lines that eith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ge at a center of 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parall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ch projections preserve 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not necessarily 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nplanar projections are needed for applications such as map constr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E49B-9653-4EEB-9A4F-7E06FA5EB68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assical Proj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BOOK\OpenGL\Paul Final\Art\jpeg\AN05F03.jpg"/>
          <p:cNvPicPr/>
          <p:nvPr/>
        </p:nvPicPr>
        <p:blipFill>
          <a:blip r:embed="rId1"/>
          <a:stretch/>
        </p:blipFill>
        <p:spPr>
          <a:xfrm>
            <a:off x="685800" y="1447920"/>
            <a:ext cx="7993080" cy="494352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3945-2403-42BB-84CF-FEF850586C8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spective vs Parall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graphics treats all projections the same and implements them with a single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ical viewing developed different techniques for drawing each type of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damental distinction is between parallel and perspective viewing even though mathematically parallel viewing is the limit of perspective view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B1D0-12DD-4757-B453-DA82C439C1A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axonomy of Planar Geometric Proje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743200" y="25146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74320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32448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2971800"/>
            <a:ext cx="1219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489640" y="29718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274320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219320" y="396252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3244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4724280" y="39625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21932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43434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905120" y="457200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on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04920" y="44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rap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809880" y="45720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27432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27432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1219320" y="533412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121932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274320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434340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457200" y="57150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2209680" y="5715000"/>
            <a:ext cx="129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3809880" y="57150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6324480" y="3962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7848720" y="3962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5715000" y="42670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4267080" y="42670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7238880" y="42670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4"/>
          <p:cNvSpPr/>
          <p:nvPr/>
        </p:nvSpPr>
        <p:spPr>
          <a:xfrm>
            <a:off x="2590920" y="17524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ar geometric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441972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4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127E-0683-41EB-B8C4-C985EBA5A5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erspective 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BOOK\OpenGL\Paul Final\Art\jpeg\AN05F01.jpg"/>
          <p:cNvPicPr/>
          <p:nvPr/>
        </p:nvPicPr>
        <p:blipFill>
          <a:blip r:embed="rId1"/>
          <a:stretch/>
        </p:blipFill>
        <p:spPr>
          <a:xfrm>
            <a:off x="685800" y="1471680"/>
            <a:ext cx="6629400" cy="4746600"/>
          </a:xfrm>
          <a:prstGeom prst="rect">
            <a:avLst/>
          </a:prstGeom>
          <a:ln w="0">
            <a:noFill/>
          </a:ln>
        </p:spPr>
      </p:pic>
      <p:sp>
        <p:nvSpPr>
          <p:cNvPr id="117" name="Footer Placeholder 5"/>
          <p:cNvSpPr/>
          <p:nvPr/>
        </p:nvSpPr>
        <p:spPr>
          <a:xfrm>
            <a:off x="9144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3:58:53Z</dcterms:created>
  <dc:creator>Ed Angel</dc:creator>
  <dc:description/>
  <dc:language>en-US</dc:language>
  <cp:lastModifiedBy>Ed Angel</cp:lastModifiedBy>
  <dcterms:modified xsi:type="dcterms:W3CDTF">2014-03-31T17:49:02Z</dcterms:modified>
  <cp:revision>125</cp:revision>
  <dc:subject/>
  <dc:title>PowerPoint Presentation</dc:title>
</cp:coreProperties>
</file>