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E839-6358-400C-8AE3-378D942BE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D55C-AC12-49FF-90E9-36DE3F389D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698E4-8769-4660-8D0D-D18D0FB2165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5C6E9-6445-4D93-8397-05B7FE5AA89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163DE-8C9E-46F4-8755-059BFC37770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56DBC-3A4E-4BD3-809D-FCB896B74D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E204C-4075-434F-9D3A-8F588582B03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9484A-6F3B-4E57-970E-76E8BB177C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06EF2-B1E1-467F-93EA-D53E2602C20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9C695-6BAB-437D-B0F4-A1215CA139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3AA42-0BD7-4DA5-A191-6D098649F83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434CAD-6910-4913-A599-F8E328B49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1673-E4F7-4D32-B61B-1A713B2589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2FC5F-28FC-4646-A1CB-8BBE7913EDC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8CC905-2743-4F0F-903B-1409D707E32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A84B4C-0326-4BA9-AFB2-52F87716F77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8465F8-1A72-4A08-8174-09B994A93A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B8C58-4E0B-4B86-A4A5-CA39327900C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721346-47D7-45BF-9CF3-717078243F8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B81B58-BB9C-460A-B7D6-C85434FF581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1429B7-ECF2-4E2A-A7BB-C52673C296D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E68052-9040-41FF-A29A-47FE36AF456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F279E1-72AC-4722-9900-DA78D0B04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48B9-71BC-418C-B6AD-C23A27C4046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8B6C37-FEF5-4C8E-9423-62B82B76F3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5B223-9896-45F6-B5C1-03B3E33A4BE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17DD4-5199-451C-92F8-06AB89217A1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D530B-E81E-4A70-A1C7-5D527A18514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1517C-0394-4FB3-BC0A-4D1DD65881C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8AB9-095C-46D3-ACE6-9448EE19D22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13DF1-85C9-4AD9-BC2C-A9D870A75B7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857FB-BA97-4030-8F38-DAE42039C8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4DE3B-76B9-4E75-806D-35E7953ABFF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5B10F-1F46-4C6F-9EE9-594FC733A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A2E-EACC-4DA8-AF79-81DA56A81F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FE2DB-4C2D-490E-AE07-01B2A29551C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9BE05-CDAB-4482-AB6A-0BFA50CDD64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8351D-7DF0-4663-B736-94EB0623F18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7AC88-29EE-49DC-BCD9-747616D7965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1A9D86-AFCA-40EB-B9B8-CC179881F3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69EF0-6B4D-4DF1-AAE2-201210DF210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2EFB58-72B1-4FC1-AD01-2C5FE9DDFD5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085A10-9961-4F5B-A123-21C7831C6E8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649872-834A-41E9-9F7F-0B72D8CBF08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95E97C-44C2-4EE3-A65A-CBC980693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D9C-AD2B-4973-818B-8D07CC3D478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B7436-5728-4701-97E0-30FB4AB025C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79A12B-4134-4606-A1FD-CB9B2CFA859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30542-F52B-42B3-A647-F47DFC20BD6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1E7733-7A66-4C9D-83BC-E966DA05F44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00FFD-83C3-41DC-B755-9E33F9647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8BA-624F-479C-8B2B-9388A890B9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C4A-5014-4AF1-9607-EF5A81F752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174-33F1-4DD4-AE32-3AB93275C6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0C0-27D1-4064-B18A-D49B8230E7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B9E-9DDF-4DF6-82B7-14FED57CF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94D0-7AA1-46DE-ABBF-15389820E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C0D-B05A-4920-B12A-81D467BB69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5C0-05C4-402D-8D7A-A85CCD7375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9D1-A794-42FC-82D6-9D4419573B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212-0F66-48FC-9961-F0DEF5E371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FEB-B8F4-4384-B2EE-E77A4316D5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6F34A-CCF7-4BA5-81EE-7E3509C297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7C85C-5567-40EC-AAC4-D01E111BD6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98B02-283A-47F5-AFC6-9B8A4626FC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5CC1D-2DD0-4789-8655-D1E7C98673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F7C4F-B1A4-47DF-A983-CAA69D7AD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1191-240E-415F-A0F6-6EBA87B8A0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CA48B-E8D4-406F-B8FB-652B3DA878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2B535-CC7B-4FE7-9C1F-97B3ECC0E2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9D0BF-D270-477A-A3E1-8CA14EC6E9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F073C-6F1C-44D8-A562-B37FF8717C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9DA04-CF1D-4E7C-A5B2-972726B102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FF189-4FFD-4F93-98AF-C8C9FF1428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40062-AB1B-44AA-992A-1AB2744252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E17E6-B982-4DA0-9926-79844C3736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4D010-8BB1-4E9F-86C7-153F7C6A72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10B81-9254-47EC-B132-7171D01EB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FDBB-F79B-41BA-A523-0CEF0220B4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6451F-6F65-454C-89DE-B71AFF0FF7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4E79A4-1C47-4B1B-A84C-D9243C3A99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A7A86-B8E3-47F3-BAF3-4556734551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8CD93-C2D3-464E-8263-6AB78666C5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2A4877-A90F-4BBD-B570-A575CB0999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FC01F-8E4F-4A85-8A17-069D8FCE75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1BFE2-83ED-4D30-8CD9-21C1F56F4A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4B91D5-11F2-4BAF-8ABE-C23A7CC2D0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443CB-C9E2-491B-84C5-05FCB00506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B1F4-68F2-4F68-B130-2D2BEC1D5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3B2C-B96F-4C12-A8B6-E7FDABDDC6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BBD6-DF54-481C-AA6D-389B52E003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DCAFD-A9B0-4FA9-8D1C-763A33D3A7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CE3D-23BD-4AA3-816A-3739F40F367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ACCC-2B74-49E6-A94F-889B234828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C04C-B432-4CFE-AFD6-2A044D9CD2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ADA9-C2F8-4285-9812-299659B2A5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0ADB-CDE7-4FEF-A2AE-64B2D8159D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7990-C953-4535-8C3F-B8B8E3ADDC5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37D9-38FC-43BA-BD23-4FFD35FB79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2EEA-072B-4646-A061-399373EED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8076-4E3F-4CD9-A620-E8C385ACA5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4560-6860-4D39-AD35-4396800C373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FF8E8-FA0D-4054-B699-AA66F5B5D84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522AB-13AF-42B3-82E2-69970770B0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4ABE8-CEBC-4428-AED4-2AC9EB6A73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D6E7E-1AE0-4CE0-BD24-E9B26A06014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8E8E8-8D2B-4E6E-9D20-910CD0237F4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CE5E5-AED3-414D-A490-B3CE1C1E93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5CA23-AF1B-48CD-9A2C-1C2A2FBFFE2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37D5A-149F-4C1D-A292-B944ABCBA70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18563-E175-4DA2-B92A-E92169085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4E40-1634-45C1-8D86-7B1C94B097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57C6B-FDAE-4BD4-8E19-088805CFC7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02D00-743C-41AE-85E5-9DB5CC372E5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62170-BF07-4D35-9A53-C7F0F9A555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1FF00A-62D8-478E-A10B-9EA0A749B3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4EF460-3943-4B95-934F-DC93D00CB9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ADF9DB-835B-42FB-AAB4-F79BC444CA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054974-A8D5-49BF-8050-A9A55E537BB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C7D70-1C22-4E97-BC21-EAE4E443063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07E0FB-9502-481C-B6FA-9A68F7D0F5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024AEF-7F46-4697-A396-5A8BB2CB9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B899-99B1-4FF0-9EB9-726BCF8E23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12A8EF-25FE-49CA-8961-FF7CBB85A5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CE4907-785A-47A6-B12A-6C817E1541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5CF41F-E9EE-46C3-8B25-13E907601F1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A53DA0-FD67-41A6-9B6E-1EF296D638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A2D1C0-570F-44F7-972C-5294FE563B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E94FF-0A73-4471-9D7C-2801E66AB9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280FE-96D0-4687-8D49-976AD1C93E9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281C1-D453-41F1-BFCA-4C47BC4E261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E0478-36B4-4A09-B2A1-CE11FC586FC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41B13-F63A-453D-98FC-C7872C240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3FCE-5766-43DD-93D7-9D06BC0AD3A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39B3-78C8-4E60-A430-E6F727FD7D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81BF1-C886-4B85-A0EF-96A7C06C97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C5B5-9B8E-4168-A8CC-CFDC0840EB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23AE8-9B1C-42C3-BF42-4FC4F84FA55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3236-7217-4EDB-A7B1-6CE2858E508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CE3C-A1A8-4E8E-9313-6C725DC2F1B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C1E7A-8912-4F25-9BEA-DAAB12A2655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C5AE3-8333-4EC7-86EE-F1A931EE37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FD6F8-B042-49FF-AE95-0C045110F3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CD576A-C1C8-46A1-856A-204CF9C86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F099-8F3B-4DCA-AD16-32EC7E98EF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2565-D68E-4286-9008-206C395153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9457-E969-4588-901E-D6B78E6BE7D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8E6C-1F12-46BA-8864-3235EBFEC93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5E9C-1916-4A88-9C8B-8176C8CD25E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0842-FB9B-4C2B-A34E-4516C898170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8810-8B2A-486B-9B38-4A4CF898D1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EC6-D605-4194-8DB5-8E289D76972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37DF-9273-4D0B-904C-FFBE515DD62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CE37-1343-40BE-B880-D6E61C8BB7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0AC1-3827-4DED-A52C-9555CC468B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14A1-1F8E-4F20-9D6A-5C0BBEB8290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" y="640044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opengl.org/" TargetMode="External"/><Relationship Id="rId2" Type="http://schemas.openxmlformats.org/officeDocument/2006/relationships/hyperlink" Target="http://www.kronos.org/webgl" TargetMode="External"/><Relationship Id="rId3" Type="http://schemas.openxmlformats.org/officeDocument/2006/relationships/hyperlink" Target="http://www.chromeexperiments.com/webgl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FC22-612B-4A3D-B37E-061DDA3E90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troduction to Computer Graphics with Web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Emeritus of Computer Sci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nding Director, Arts, Research, Technology and Science Labora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EdBook009.JPG"/>
          <p:cNvPicPr/>
          <p:nvPr/>
        </p:nvPicPr>
        <p:blipFill>
          <a:blip r:embed="rId1"/>
          <a:stretch/>
        </p:blipFill>
        <p:spPr>
          <a:xfrm>
            <a:off x="7238880" y="4267080"/>
            <a:ext cx="1771920" cy="2362320"/>
          </a:xfrm>
          <a:prstGeom prst="rect">
            <a:avLst/>
          </a:prstGeom>
          <a:ln w="0">
            <a:noFill/>
          </a:ln>
        </p:spPr>
      </p:pic>
      <p:sp>
        <p:nvSpPr>
          <p:cNvPr id="520" name="Footer Placeholder 5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F1D-6031-4276-B18F-53DB3E37DAD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feren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puter Graphics (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GL Programmer’s Guide (the Redbook)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ES 2.0 Programming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GL Programming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GL Beginner’s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GL: Up and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: The Definitive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F1AB-4233-4AD3-9FA7-4479037E200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b Resourc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ww.cs.unm.edu/~angel/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ww.cs.unm.edu/~angel/WebGL/7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1"/>
                </a:solidFill>
                <a:uFillTx/>
                <a:latin typeface="Arial"/>
                <a:hlinkClick r:id="rId1"/>
              </a:rPr>
              <a:t>www.opengl.o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t.webgl.o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1"/>
                </a:solidFill>
                <a:uFillTx/>
                <a:latin typeface="Arial"/>
                <a:hlinkClick r:id="rId2"/>
              </a:rPr>
              <a:t>www.kronos.org/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1"/>
                </a:solidFill>
                <a:uFillTx/>
                <a:latin typeface="Arial"/>
                <a:hlinkClick r:id="rId3"/>
              </a:rPr>
              <a:t>www.chromeexperiments.com/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ingwebgl.co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916D-1411-4ED1-A0F0-BAF138B4AA7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e lectures are for a senior/graduate elective for computer science and engineering majors(and others with good programming skill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urse is based on a modern approach using programmable shaders in the new textbook:  Ed Angel and Dave Shreiner, Interactive Computer Graphics, A Top-down Approach with WebGL(Seventh Edition), Addison-Wes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e lectures cover Chapters 1-7 in detail and survey Chapters 8-1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eek 1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deo 1.1: Introd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deo 1.2: Detailed Outline and Examp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deo 1.3: Example Code in J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deo 1.4: What is Computer Graphic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deo 1.5: Image 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ing: Chapter 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rcises: Run some examples on your brows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4BF5-31BC-4E62-AD33-1A2D5AC27DA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ideo 1.1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d Backgrou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91E3-253E-4EF5-8858-569FF7B2EC7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E87F-8260-4B03-8BA7-C4299C90977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ntact In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gel@cs.unm.ed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ww.cs.unm.edu/~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B655-2A58-4A64-9F74-7BBBD6FCC1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oad introduction to Computer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p-down approa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ader-Based Web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s with HTML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runs in latest brow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D7E6-A4C9-49DC-AA61-A792C42624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Prerequisites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od programming skills in C (or C++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sic Data Structur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Linear Algeb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: CS/ECE 412 is neither a pre- or corequisi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able overl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not take both for cre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29C3-EF07-4133-886C-D6AF350F6AC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equirem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9044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 Assigned Pro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rm Pro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p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www.cs.unm.edu/~angel/ONLINE_GRAPHIC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assignments, projects and other inf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y is this course different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ader-bas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computer graphics use OpenGL but still use fixed-function pipe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not require sh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not make use of the full capabilities of the graphics processing unit (GP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HTML5, WebGL runs in the latest brow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s use of local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ystem depend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6F0C-04E0-464A-9CB4-77749D1E9F1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457200" y="64008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 and Shreiner: Interactive Computer Graphics 7E © Addison-Wesle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9T19:57:33Z</dcterms:created>
  <dc:creator>Ed Angel</dc:creator>
  <dc:description/>
  <dc:language>en-US</dc:language>
  <cp:lastModifiedBy>Ed Angel</cp:lastModifiedBy>
  <dcterms:modified xsi:type="dcterms:W3CDTF">2014-03-31T17:36:42Z</dcterms:modified>
  <cp:revision>64</cp:revision>
  <dc:subject/>
  <dc:title>PowerPoint Presentation</dc:title>
</cp:coreProperties>
</file>