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68680-D90A-4577-885A-C4618C507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52A94-D15E-49C8-B002-138102615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55ACE-3D51-473C-9865-2C774E2C8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C4F7-BC52-4C5B-9498-DF1763887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AB6B-41F8-495E-A4E5-1E7CE8A31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5666-6C45-472C-81DD-E21D85AF2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C799-EFF6-4207-B431-8504494444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F1DE-42E6-4124-97E5-B2038C0F4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A505-6A9F-4F61-AB35-83FE80691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C922-9E33-4126-8EE4-E964E046F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5983-31BB-48EB-B5EC-F22BA141C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EF61-3B50-4306-AFA0-14697909D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CB26-10A0-4B37-AF2D-763E8C2FF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3DC9-FCB3-45D8-AC9D-8E6B98787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47C8-8EF8-48D6-9696-3D3BA596B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083-84C1-4100-A293-FF7BF795D1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5B5F-E07E-43C7-9F22-97A4826BF5A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43CE-A173-4F6C-89C3-991B943FDC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dexing into Cube Ma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6248160" y="2666880"/>
            <a:ext cx="2133000" cy="1752480"/>
            <a:chOff x="6248160" y="2666880"/>
            <a:chExt cx="2133000" cy="1752480"/>
          </a:xfrm>
        </p:grpSpPr>
        <p:sp>
          <p:nvSpPr>
            <p:cNvPr id="120" name="Cloud"/>
            <p:cNvSpPr/>
            <p:nvPr/>
          </p:nvSpPr>
          <p:spPr>
            <a:xfrm>
              <a:off x="6858000" y="3903840"/>
              <a:ext cx="486360" cy="3304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 flipV="1">
              <a:off x="7060680" y="3182040"/>
              <a:ext cx="501480" cy="89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6"/>
            <p:cNvSpPr/>
            <p:nvPr/>
          </p:nvSpPr>
          <p:spPr>
            <a:xfrm>
              <a:off x="6451200" y="2666880"/>
              <a:ext cx="1929960" cy="175248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Cloud"/>
            <p:cNvSpPr/>
            <p:nvPr/>
          </p:nvSpPr>
          <p:spPr>
            <a:xfrm>
              <a:off x="7365600" y="2769840"/>
              <a:ext cx="487080" cy="3304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H="1" flipV="1">
              <a:off x="6248160" y="3078720"/>
              <a:ext cx="770040" cy="92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10"/>
          <p:cNvSpPr/>
          <p:nvPr/>
        </p:nvSpPr>
        <p:spPr>
          <a:xfrm>
            <a:off x="59457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3936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09480" y="2209680"/>
            <a:ext cx="563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at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largest magnitude compon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R to determine face of 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wo components give texture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12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8A6-12CD-4868-8E61-22ECBC8A8E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Implem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supports only cube ma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ktop OpenGL also supports sphere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must form map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images from a real cam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images with Web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map it to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8DCD-62FC-4B78-B204-7237D267D5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e Map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form a cube map texture by defining six 2D texture maps that correspond to the sides of a bo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rted by WebGL through cubemap sampl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4 texColor = textureCube(mycube, texcoord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coordinates must be 3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ually are given by the vertex location so we don’t need compute separate tex co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ABC-B9E1-424F-AA66-44483A4388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Environment Maps with Shader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vironment maps are usually computed in world coordinates which can differ from object coordinates because of the modeling matri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ave to keep track of modeling matrix and pass it to the shaders as a uniform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also use reflection map or refraction map for effects such as simulating w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8BC5-285C-4EF2-9EF8-FB30B5AEF4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assume environment is very far from object (equivalent to the difference between near and distant light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 cannot be concave (no self reflections possibl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reflections between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 reflection map for each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 new map if viewer mo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3308-4AA1-4A64-B81E-23C9FA8109C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orming Cube Ma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six cameras, each with a 90 degree angle of 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objects1"/>
          <p:cNvPicPr/>
          <p:nvPr/>
        </p:nvPicPr>
        <p:blipFill>
          <a:blip r:embed="rId1"/>
          <a:stretch/>
        </p:blipFill>
        <p:spPr>
          <a:xfrm>
            <a:off x="2666880" y="2514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frontObj"/>
          <p:cNvPicPr/>
          <p:nvPr/>
        </p:nvPicPr>
        <p:blipFill>
          <a:blip r:embed="rId2"/>
          <a:stretch/>
        </p:blipFill>
        <p:spPr>
          <a:xfrm>
            <a:off x="457200" y="4267080"/>
            <a:ext cx="2101680" cy="210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topObj"/>
          <p:cNvPicPr/>
          <p:nvPr/>
        </p:nvPicPr>
        <p:blipFill>
          <a:blip r:embed="rId3"/>
          <a:stretch/>
        </p:blipFill>
        <p:spPr>
          <a:xfrm>
            <a:off x="6629400" y="4343400"/>
            <a:ext cx="2101680" cy="210168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7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DC9-F7AB-433E-9C41-7D2296332DA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s Cube Imag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renderCross"/>
          <p:cNvPicPr/>
          <p:nvPr/>
        </p:nvPicPr>
        <p:blipFill>
          <a:blip r:embed="rId1"/>
          <a:stretch/>
        </p:blipFill>
        <p:spPr>
          <a:xfrm>
            <a:off x="4572000" y="1523880"/>
            <a:ext cx="3814920" cy="397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ube1 copy"/>
          <p:cNvPicPr/>
          <p:nvPr/>
        </p:nvPicPr>
        <p:blipFill>
          <a:blip r:embed="rId2"/>
          <a:srcRect l="12000" t="8001" r="25999" b="12000"/>
          <a:stretch/>
        </p:blipFill>
        <p:spPr>
          <a:xfrm>
            <a:off x="609480" y="2971800"/>
            <a:ext cx="3657600" cy="35402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4E3D-EEBE-4DF9-B9FF-56C02E3E2F6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oing it in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.textureMap2D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.TEXTURE_CUBE_MAP_POSITIVE_X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, rows, columns, border, gl.RGB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.UNSIGNED_BYTE, imag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e for other five ima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ke one texture object out of the six ima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rotating cube inside a cube that reflects the color of the w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wall is a solid color (red, green, blue, cyan, magenta, yellow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face of room can be a texture of one tex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CF9C-2753-4044-80BC-BFCD4BEA5B6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57200" y="4267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red = new Uint8Array([255, 0, 0, 25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green = new Uint8Array([0, 255, 0, 25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blue = new Uint8Array([0, 0, 255, 25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cyan = new Uint8Array([0, 255, 255, 25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magenta = new Uint8Array([255, 0, 255, 25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yellow = new Uint8Array([255, 255, 0, 25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B7A0-DCFF-43DE-98DA-DAF48ECC6C2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57200" y="167652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eMap = gl.createTextu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Texture(gl.TEXTURE_CUBE_MAP, cube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texImage2D(gl.TEXTURE_CUBE_MAP_POSITIVE_X, 0, gl.RG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1, 0, gl.RGBA,gl.UNSIGNED_BYTE, r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texImage2D(gl.TEXTURE_CUBE_MAP_NEGATIVE_X, 0, gl.RG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1, 0, gl.RGBA,gl.UNSIGNED_BYTE, gree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texImage2D(gl.TEXTURE_CUBE_MAP_POSITIVE_Y, 0, gl.RG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1, 0, gl.RGBA,gl.UNSIGNED_BYTE, b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texImage2D(gl.TEXTURE_CUBE_MAP_NEGATIVE_Y, 0, gl.RG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1, 0, gl.RGBA,gl.UNSIGNED_BYTE, cya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texImage2D(gl.TEXTURE_CUBE_MAP_POSITIVE_Z, 0, gl.RG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1, 0, gl.RGBA,gl.UNSIGNED_BYTE, yello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texImage2D(gl.TEXTURE_CUBE_MAP_NEGATIVE_Z, 0, gl.RG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1, 0, gl.RGBA,gl.UNSIGNED_BYTE, magen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activeTexture( gl.TEXTURE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niform1i(gl.getUniformLocation(program, "texMap")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flection and Environment Map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3813-3C11-4B56-B218-44D156BF5B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7E15-F2AB-4AC4-B29F-EA374B05A1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710280" y="1595520"/>
            <a:ext cx="802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3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Nor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modelView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projection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3 th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angles = radians( thet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mpute rotation matrices rx, ry, rz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4 ModelViewMatrix = modelViewMatrix*rz*ry*r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projectionMatrix*ModelViewMatrix*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eyePos  = ModelViewMatrix*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N = ModelViewMatrix*vNor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reflect(eyePos.xyz, N.xyz);  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4E4-0B36-48EB-9345-1A388E3E57D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57280" y="1828800"/>
            <a:ext cx="560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3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amplerCube texM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texColor = textureCube(texMap, 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tex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B386-F429-4E88-9186-562903B58F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here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ginal environmental mapping technique proposed by Blinn and Newell based in using lines of longitude and latitude to map parametric variables to texture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supports sphere mapping which requires a circular texture map equivalent to an image taken with a fisheye le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B1B-4F23-4BF0-AB42-00F25E0AF8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here Ma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5" name="Picture 4" descr="objDM"/>
          <p:cNvPicPr/>
          <p:nvPr/>
        </p:nvPicPr>
        <p:blipFill>
          <a:blip r:embed="rId1"/>
          <a:stretch/>
        </p:blipFill>
        <p:spPr>
          <a:xfrm>
            <a:off x="2590920" y="17524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721A-ED4F-4FA1-ADE9-1DFEC8EB8D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Mapping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lection (Environment) Ma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be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herical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mp Ma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AB1-FCD8-496D-851A-E34F735769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pping Vari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ue4"/>
          <p:cNvPicPr/>
          <p:nvPr/>
        </p:nvPicPr>
        <p:blipFill>
          <a:blip r:embed="rId1"/>
          <a:stretch/>
        </p:blipFill>
        <p:spPr>
          <a:xfrm>
            <a:off x="380880" y="2590920"/>
            <a:ext cx="2772000" cy="27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ue7"/>
          <p:cNvPicPr/>
          <p:nvPr/>
        </p:nvPicPr>
        <p:blipFill>
          <a:blip r:embed="rId2"/>
          <a:stretch/>
        </p:blipFill>
        <p:spPr>
          <a:xfrm>
            <a:off x="335268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ue6"/>
          <p:cNvPicPr/>
          <p:nvPr/>
        </p:nvPicPr>
        <p:blipFill>
          <a:blip r:embed="rId3"/>
          <a:stretch/>
        </p:blipFill>
        <p:spPr>
          <a:xfrm>
            <a:off x="6248520" y="2590920"/>
            <a:ext cx="2695320" cy="2695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09480" y="55627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842280" y="55627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629040" y="55627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p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10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57E0-AE20-4CE2-96A7-7861C70246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nvironment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vironmental (reflection) mapping is way to create the appearance of highly reflective surfaces without ray tracing which requires global calcul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roduced in movies such as The Abyss and Terminator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valent in video gam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 is a form of texture mapp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D198-2450-4448-ACC1-EDD6A1F00A0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2133720" y="3886200"/>
            <a:ext cx="2819160" cy="160020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loud"/>
          <p:cNvSpPr/>
          <p:nvPr/>
        </p:nvSpPr>
        <p:spPr>
          <a:xfrm>
            <a:off x="3048120" y="4267080"/>
            <a:ext cx="1143000" cy="765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Reflecting the Environment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 flipH="1" flipV="1">
            <a:off x="1752480" y="3200040"/>
            <a:ext cx="18288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 flipV="1">
            <a:off x="3428640" y="2666520"/>
            <a:ext cx="15228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3581280" y="2895480"/>
            <a:ext cx="198144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324440" y="263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20256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4122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loud"/>
          <p:cNvSpPr/>
          <p:nvPr/>
        </p:nvSpPr>
        <p:spPr>
          <a:xfrm>
            <a:off x="5410080" y="2136600"/>
            <a:ext cx="1143000" cy="765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12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C21-3DBB-4540-913B-DEC07DAEDD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2"/>
          <p:cNvSpPr/>
          <p:nvPr/>
        </p:nvSpPr>
        <p:spPr>
          <a:xfrm>
            <a:off x="2133720" y="3886200"/>
            <a:ext cx="2819160" cy="160020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loud"/>
          <p:cNvSpPr/>
          <p:nvPr/>
        </p:nvSpPr>
        <p:spPr>
          <a:xfrm>
            <a:off x="3048120" y="4267080"/>
            <a:ext cx="1143000" cy="765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Mapping to a Sphere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1752480" y="3200040"/>
            <a:ext cx="18288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3428640" y="2666520"/>
            <a:ext cx="15228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3581280" y="40381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324440" y="263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0256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4122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loud"/>
          <p:cNvSpPr/>
          <p:nvPr/>
        </p:nvSpPr>
        <p:spPr>
          <a:xfrm>
            <a:off x="5410080" y="2136600"/>
            <a:ext cx="1143000" cy="765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676520" y="2895480"/>
            <a:ext cx="342900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loud"/>
          <p:cNvSpPr/>
          <p:nvPr/>
        </p:nvSpPr>
        <p:spPr>
          <a:xfrm>
            <a:off x="3733920" y="3581280"/>
            <a:ext cx="1143000" cy="765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 flipV="1">
            <a:off x="4343400" y="2590920"/>
            <a:ext cx="15238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1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EED6-8840-495C-9944-58C3055478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Hemisphere Map as a Texture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map all objects to hemisphere, we cannot tell if they are on the sphere or anywhere else along the reflect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the map on the sphere as a texture that can be mapped onto the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use other surfaces as the intermedi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be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linder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0D8-7F7F-4E54-B0A1-F54C1ED37C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24080" y="4419720"/>
            <a:ext cx="838440" cy="560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loud"/>
          <p:cNvSpPr/>
          <p:nvPr/>
        </p:nvSpPr>
        <p:spPr>
          <a:xfrm>
            <a:off x="4876920" y="1676520"/>
            <a:ext cx="838080" cy="560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e Ma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3581280" y="3200040"/>
            <a:ext cx="9907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1905120" y="2666880"/>
            <a:ext cx="3809880" cy="29718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loud"/>
          <p:cNvSpPr/>
          <p:nvPr/>
        </p:nvSpPr>
        <p:spPr>
          <a:xfrm>
            <a:off x="4191120" y="2819520"/>
            <a:ext cx="838080" cy="560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 flipV="1">
            <a:off x="4648320" y="1981080"/>
            <a:ext cx="6858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9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23:40:35Z</dcterms:created>
  <dc:creator>Ed Angel</dc:creator>
  <dc:description/>
  <dc:language>en-US</dc:language>
  <cp:lastModifiedBy>Ed Angel</cp:lastModifiedBy>
  <dcterms:modified xsi:type="dcterms:W3CDTF">2014-03-31T17:54:07Z</dcterms:modified>
  <cp:revision>120</cp:revision>
  <dc:subject/>
  <dc:title>PowerPoint Presentation</dc:title>
</cp:coreProperties>
</file>