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C96-B526-4093-B018-ADB17ECE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811-9100-422E-A355-B2EB47E3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26A1-DD3E-4ED7-844F-543458499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45CF-9870-4291-867C-4683FADEF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D856-A2FC-4878-8D01-3A68D32CD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BF7B-A492-4B6B-AE55-4310E1D90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80A4-9BEC-4393-B5EA-6B076F3BF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5CC6-8CBA-44B1-BF17-6CFBB116A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E191-9AA5-4823-A69A-38C46DB81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3728-CDC6-4AC3-9FFE-22222416D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3DB8-F465-42AF-A1E2-E128F8E35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6CF6-4079-429A-B7BF-28F804E99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7F65-FDD8-43D6-9B11-CB70E2643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ED75-BAF5-4E10-8A23-87797C14F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32D-BAA5-4376-81DA-8CE5B12166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46F-4ADC-4F1D-9E6A-C0613FF7675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D2B-A670-4E37-B049-E26FE010BFE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ee Model of Ca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BOOK\OpenGL\Paul Final\jpeg_new\AN09F06.jpg"/>
          <p:cNvPicPr/>
          <p:nvPr/>
        </p:nvPicPr>
        <p:blipFill>
          <a:blip r:embed="rId1"/>
          <a:stretch/>
        </p:blipFill>
        <p:spPr>
          <a:xfrm>
            <a:off x="1143000" y="2666880"/>
            <a:ext cx="6781680" cy="277812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D31-177E-4D95-8BE6-D59A82506F9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A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use the fact that all the wheels are identical, we get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uch different than dealing with a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BOOK\OpenGL\Paul Final\jpeg_new\AN09F07.jpg"/>
          <p:cNvPicPr/>
          <p:nvPr/>
        </p:nvPicPr>
        <p:blipFill>
          <a:blip r:embed="rId1"/>
          <a:stretch/>
        </p:blipFill>
        <p:spPr>
          <a:xfrm>
            <a:off x="3048120" y="3124080"/>
            <a:ext cx="226368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8B9-B761-490E-8FC3-F28B3D2664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with Trees</a:t>
            </a:r>
            <a:r>
              <a:rPr b="1" i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decide what information to place in nodes and what to put in ed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o dr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ers to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ave information on incremental changes to transformation matrices (can also store in nod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C3A-D606-497F-A80A-B036CEA108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bot A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9" name="Picture 5" descr="C:\BOOK\OpenGL\Paul Final\jpeg\AN09F08.jpg"/>
          <p:cNvPicPr/>
          <p:nvPr/>
        </p:nvPicPr>
        <p:blipFill>
          <a:blip r:embed="rId1"/>
          <a:srcRect l="0" t="0" r="0" b="10176"/>
          <a:stretch/>
        </p:blipFill>
        <p:spPr>
          <a:xfrm>
            <a:off x="685800" y="1600200"/>
            <a:ext cx="8218440" cy="2944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067760" y="48006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o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574520" y="4648320"/>
            <a:ext cx="27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in their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E650-4749-4D57-BDE0-C9A11EDD1F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rticulated Mode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bot arm is an example of 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rticulated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connected a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pecify state of model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ll joint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C:\BOOK\OpenGL\Paul Final\jpeg_new\AN09F09.jpg"/>
          <p:cNvPicPr/>
          <p:nvPr/>
        </p:nvPicPr>
        <p:blipFill>
          <a:blip r:embed="rId1"/>
          <a:stretch/>
        </p:blipFill>
        <p:spPr>
          <a:xfrm>
            <a:off x="5715000" y="2286000"/>
            <a:ext cx="255888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E1AF-E708-4062-A2E1-956D130D259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lationships in Robot A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e rotates independe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angle determines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er arm attached to ba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osition depends on rotation of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also translate relative to base and rotate about connecting j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pper arm attached to lower a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osition depends on both base and lowe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translate relative to lower arm and rotate about joint connecting to lowe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412-466C-4681-80E5-CE9FD5AA91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quired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ion of base: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ate lower arm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base: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e lower arm around joint: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lowe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ate upper arm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upper arm: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u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e upper arm around joint: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u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lu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uu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uu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uppe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DEED-62ED-45AC-AE07-F2AB77C15F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Code for Robo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render = fun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.clear( gl.COLOR_BUFFER_BIT | gl.DEPTH_BUFFER_BIT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= rotate(theta[Base], 0, 1,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= mult(modelViewMatri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(0.0, BASE_HEIGHT, 0.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= mult(modelViewMatri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(theta[LowerArm], 0, 0, 1 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Ar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 = mult(modelViewMatri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(0.0, LOWER_ARM_HEIGHT, 0.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ViewMatrix  = mult(modelViewMatri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(theta[UpperArm], 0, 0, 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Ar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AnimF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(rend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E7A-F431-498F-8DF5-DC9269022E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ee Model of Robo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code shows relationships between parts of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hange “look” of parts easily without altering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example of tree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a general node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no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:\BOOK\OpenGL\Paul Final\jpeg_new\AN09F10.jpg"/>
          <p:cNvPicPr/>
          <p:nvPr/>
        </p:nvPicPr>
        <p:blipFill>
          <a:blip r:embed="rId1"/>
          <a:stretch/>
        </p:blipFill>
        <p:spPr>
          <a:xfrm>
            <a:off x="6734160" y="3124080"/>
            <a:ext cx="1366920" cy="3124440"/>
          </a:xfrm>
          <a:prstGeom prst="rect">
            <a:avLst/>
          </a:prstGeom>
          <a:ln w="0">
            <a:noFill/>
          </a:ln>
        </p:spPr>
      </p:pic>
      <p:sp>
        <p:nvSpPr>
          <p:cNvPr id="164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F99-93CD-4F3F-9098-135E641FA7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ssible Node Stru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7" name="Picture 4" descr="C:\BOOK\OpenGL\Paul Final\jpeg_new\AN09F11.jpg"/>
          <p:cNvPicPr/>
          <p:nvPr/>
        </p:nvPicPr>
        <p:blipFill>
          <a:blip r:embed="rId1"/>
          <a:stretch/>
        </p:blipFill>
        <p:spPr>
          <a:xfrm>
            <a:off x="2743200" y="2286000"/>
            <a:ext cx="3833640" cy="1909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804560" y="1828800"/>
            <a:ext cx="38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for drawing par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to drawing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4190760" y="2209680"/>
            <a:ext cx="60948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442600" y="4419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 of pointers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1676520" y="3200400"/>
            <a:ext cx="990360" cy="220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6040" y="54864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relating node to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9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erarchical Modeling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3276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1E7-1565-4B56-BC3D-A120F91A3B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006-BA15-4532-9B09-EC3C0E9D7B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iz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to deal with multiple childr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we represent a more general tre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we traverse such a data struc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use dynamical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create and delete nodes during exec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6E9-F4C8-40F7-8D75-C0E153C563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the limitations of linear model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ols and 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hierarchical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culated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ree and DAG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C72E-89E0-4A4B-A5B3-12FD26B6A1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stance Trans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a prototype object (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ppearance of the object in the model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cale, orient,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instance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BOOK\OpenGL\Paul Final\jpeg_new\AN09F02.jpg"/>
          <p:cNvPicPr/>
          <p:nvPr/>
        </p:nvPicPr>
        <p:blipFill>
          <a:blip r:embed="rId1"/>
          <a:stretch/>
        </p:blipFill>
        <p:spPr>
          <a:xfrm>
            <a:off x="838080" y="4267080"/>
            <a:ext cx="6932880" cy="199728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069-68AE-4984-9631-990D9D1401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ymbol-Instance Tab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store a model by assigning a number to each symbol and storing the parameters for the instance trans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:\BOOK\OpenGL\Paul Final\jpeg\AN09F03.jpg"/>
          <p:cNvPicPr/>
          <p:nvPr/>
        </p:nvPicPr>
        <p:blipFill>
          <a:blip r:embed="rId1"/>
          <a:stretch/>
        </p:blipFill>
        <p:spPr>
          <a:xfrm>
            <a:off x="2209680" y="3124080"/>
            <a:ext cx="4800600" cy="328320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8BD-F883-4CF9-B22B-43FC362DD40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BOOK\OpenGL\Paul Final\jpeg_new\AN09F05A.jpg"/>
          <p:cNvPicPr/>
          <p:nvPr/>
        </p:nvPicPr>
        <p:blipFill>
          <a:blip r:embed="rId1"/>
          <a:srcRect l="38248" t="32055" r="0" b="0"/>
          <a:stretch/>
        </p:blipFill>
        <p:spPr>
          <a:xfrm>
            <a:off x="2971800" y="3581280"/>
            <a:ext cx="2952720" cy="1292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lationships in Car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mbol-instance table does not show relationships between parts of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model of c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ssis + 4  identical whe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symb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te of forward motion determined by rotational speed of whe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H="1">
            <a:off x="1828440" y="4419720"/>
            <a:ext cx="10666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rc 6"/>
          <p:cNvSpPr/>
          <p:nvPr/>
        </p:nvSpPr>
        <p:spPr>
          <a:xfrm flipH="1" rot="16411200">
            <a:off x="3428640" y="4647960"/>
            <a:ext cx="304920" cy="4572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rc 7"/>
          <p:cNvSpPr/>
          <p:nvPr/>
        </p:nvSpPr>
        <p:spPr>
          <a:xfrm flipH="1" rot="16411200">
            <a:off x="4876560" y="4647960"/>
            <a:ext cx="304920" cy="4572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8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868F-82E4-4E6F-A9DD-632FB9B7D4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tructure Through Function Cal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(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ssi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el(right_fr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el(left_fr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el(right_re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el(left_re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to sh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problem using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EDF-4D60-4AA6-8967-1EB9305AA7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aph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dges (link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ge connects a pair of no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ed or undir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directed path that is a loo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"/>
          <p:cNvSpPr/>
          <p:nvPr/>
        </p:nvSpPr>
        <p:spPr>
          <a:xfrm>
            <a:off x="3733920" y="403848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"/>
          <p:cNvSpPr/>
          <p:nvPr/>
        </p:nvSpPr>
        <p:spPr>
          <a:xfrm>
            <a:off x="2590920" y="449568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3733920" y="5334120"/>
            <a:ext cx="304560" cy="304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4724280" y="4343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133720" y="5334120"/>
            <a:ext cx="304560" cy="304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4038480" y="41911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5029200" y="4572000"/>
            <a:ext cx="91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4038480" y="5334120"/>
            <a:ext cx="198144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 flipV="1">
            <a:off x="3962520" y="4571640"/>
            <a:ext cx="8380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3886200" y="4343400"/>
            <a:ext cx="763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2895120" y="4267080"/>
            <a:ext cx="8384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2362320" y="48006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 flipH="1">
            <a:off x="2437920" y="55627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5181120" y="5105160"/>
            <a:ext cx="762120" cy="6858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5946840" y="5638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20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AF79-A887-43C3-A883-DD49FC862B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e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aph in which each node (except the root) has exactly one parent n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ave multiple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 or terminal node: no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3733920" y="36576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4800600" y="5105520"/>
            <a:ext cx="304920" cy="304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3505320" y="518148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2743200" y="5181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3352680" y="4343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358092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 flipH="1">
            <a:off x="2971800" y="464832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581280" y="4648320"/>
            <a:ext cx="76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038480" y="396252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419720" y="4648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 flipV="1">
            <a:off x="4190760" y="3809880"/>
            <a:ext cx="114300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336280" y="3733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 flipV="1">
            <a:off x="5181120" y="5333760"/>
            <a:ext cx="76212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099120" y="525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19:13:00Z</dcterms:created>
  <dc:creator>Ed Angel</dc:creator>
  <dc:description/>
  <dc:language>en-US</dc:language>
  <cp:lastModifiedBy>Ed Angel</cp:lastModifiedBy>
  <dcterms:modified xsi:type="dcterms:W3CDTF">2014-03-31T17:56:41Z</dcterms:modified>
  <cp:revision>271</cp:revision>
  <dc:subject/>
  <dc:title>PowerPoint Presentation</dc:title>
</cp:coreProperties>
</file>