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851DD-93CA-4CD7-A094-4AD01600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5BC0D-8E7B-48CB-927E-26780B1F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2B780-EE49-426C-9382-BF3F3132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6E63D-4922-4603-B44F-20EF231D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04CC5-F659-46B0-A1E6-472E2FC69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87E10-C571-492E-B5BB-2FF1CAE6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7A107-00B9-4A44-849D-195AFC5B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E91C81-DFD2-43C8-A1D4-8B26C52BA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298C1-E8F9-48C9-9403-A7041603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033C3-405C-4908-8699-95F3BA1F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9C3C0-7B16-4600-B916-DFC02C0C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3A1FC-CD43-4B24-8D9B-108B89CF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D4BE8-C1C4-4673-BD6B-F1E62A61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16606F-3199-4E1C-B974-E5D8BBC6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9304-505F-4DA1-9893-6C49B80B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8691-5EE8-4498-A3B9-B6888679A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A737-BC0C-4CA6-91C2-EE960999C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2A9C-92DB-4FE3-97D1-0F176CEF9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E8D-CFE9-4803-BEA2-B49DA2B70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BE58-9315-413E-BBC8-6F942EE71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595B-9FBB-4E5C-9CF9-ED84567F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A1C0-22AE-44AD-B3E4-51CB64EA8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D584-4244-489A-8F29-DC2D8B555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1CA7-6761-4595-A588-EF54CAC1A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9B4C-A6B3-4905-80D4-093CD2259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8314-2FAB-4A3A-B12D-D0D550934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149-61A7-4D0F-BC0F-FD5B84E669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90360" y="6400440"/>
            <a:ext cx="64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02D-8F8D-4E7B-9E2A-5BA975BEDB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mediate Mode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y specified by vertic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s in space( 2 or 3 dimens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, lines, circles, polygons, curves,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mediate m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ime a vertex is specified in application, its location is sent to the 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style use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bottleneck between CPU and G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d from OpenGL 3.1 and OpenGL ES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49E-981E-4A95-BF2D-9FB7E86DC1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tained Mode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 all vertex attribute data in ar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array to GPU to be rendered immediate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most OK but problem is we would have to send array over each time we need another render of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tter to send array over and store on GPU for multiple render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B9D0-E02C-4865-8E91-DE06403CDA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3.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tally shader-ba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default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application must provide both a vertex and a fragment sh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immediate m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w state vari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2.5 functions deprec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ckward compatibility not requir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s a compatibility ext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0EC-B974-4EB1-83CE-9FB98E28BC2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ther Vers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 1.0 simplified OpenGL 2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 2.0 simplified OpenGL 3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8072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er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G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implementation of ES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ed on newer brow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4.1, 4.2, 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geometry, tessellation, comput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B4A6-7FC8-41F3-9C5C-B46034B63E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2AD-3392-4F0F-A633-A732B3A9FB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Web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1: Backgroun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679-81BE-44CD-A9FB-F425463B785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of the OpenGL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as a stat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as a data flow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36A-E60C-40AA-8D70-1EB04D0FBC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arly History of AP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IPS (1973) formed two committees to come up with a standard graphics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al Kernel System (G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but contained good works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2D and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KS adopted as IS0 and later ANSI standard (1980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KS not easily extended to 3D (GKS-3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 behind hardwar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DBF2-4DAB-4002-B5D1-000B6EBEC9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IGS and 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grammer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H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rarchical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stem (PHIG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ose from CAD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model with retained graphics (struc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Window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/MIT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-server architecture with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X combined the tw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asy to use (all the defects of e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A1D-2A1D-4C91-8D82-71031CD9959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GI and 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licon Graphics (SGI) revolutionized the graphics workstation by implementing the pipeline in hardware (198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access the system, application programmers used a library called 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GL, it was relatively simple to program three dimensional interactive applic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3253-0B3D-4F19-87BF-F8EF2538EB1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uccess of GL lead to OpenGL (1992), a platform-independent API that wa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 enough to the hardware to get excellent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re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windowing and input to avoid window system depende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F6B6-DC47-4874-A928-A68F95EEC9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Evolu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controlled by an Architectural Review Board (AR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s included SGI, Microsoft, Nvidia, HP, 3DLabs, IBM,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Krono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 relatively stable (through version 2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882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882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reflected new hardwar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texture mapping and textur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and fragment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latform specific features through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rn Open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formance is achieved by using GPU rather than C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trol GPU through programs called sha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’s job is to send data to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PU does all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071-08C2-40F8-B96F-5C6EE07E3D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5" name="Picture 5" descr="an01f38.jpg"/>
          <p:cNvPicPr/>
          <p:nvPr/>
        </p:nvPicPr>
        <p:blipFill>
          <a:blip r:embed="rId1"/>
          <a:stretch/>
        </p:blipFill>
        <p:spPr>
          <a:xfrm>
            <a:off x="685800" y="4876920"/>
            <a:ext cx="8077320" cy="59364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5"/>
          <p:cNvSpPr/>
          <p:nvPr/>
        </p:nvSpPr>
        <p:spPr>
          <a:xfrm>
            <a:off x="990720" y="64008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42:09Z</dcterms:created>
  <dc:creator>Ed Angel</dc:creator>
  <dc:description/>
  <dc:language>en-US</dc:language>
  <cp:lastModifiedBy>Ed Angel</cp:lastModifiedBy>
  <dcterms:modified xsi:type="dcterms:W3CDTF">2014-03-31T17:40:18Z</dcterms:modified>
  <cp:revision>68</cp:revision>
  <dc:subject/>
  <dc:title>PowerPoint Presentation</dc:title>
</cp:coreProperties>
</file>