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56530-7613-41DE-BD70-54FA6E393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38824-596F-4593-BBD3-D2BE373F0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052E-40FB-4E58-BEDC-ADBA1FB2D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19EF-A9B7-435F-89AD-26CABC0D4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305F-C77A-4D84-A59F-C10E319AC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7C34-18EB-41C7-B517-6F1E348C3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F418-B396-48B1-B31C-975FD3DBDF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AA2A-F168-4776-A00A-93B1EF4C9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A667-05DB-4905-9975-716AD87F5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1486-0F88-4C01-8285-CAF256539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37C0-9370-4432-96CD-7DB174F24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AD5A-2E37-43C5-A7B1-A56ED1633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A304-AC75-45A3-AB52-8BD3D668E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9A65-8E25-43A6-938A-0DA264841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B2E-7B66-4D32-B2B5-9B07A5677B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913-B8BB-4F98-B21C-012D3355B1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4DDF-699D-4566-A54E-5F32AE39865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turbed Norm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041560" y="261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08280" y="1905120"/>
            <a:ext cx="246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69160" y="2895480"/>
            <a:ext cx="4954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∂d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∂u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d(u,v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469160" y="3809880"/>
            <a:ext cx="4954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∂d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∂v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d(u,v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441440" y="4724280"/>
            <a:ext cx="62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 is small, we can neglect last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761C-668A-4438-BD7C-6C8ACD04C9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proximating the Norm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708280" y="1905120"/>
            <a:ext cx="246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298880" y="2666880"/>
            <a:ext cx="6135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∂d/∂u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(∂d/∂v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" y="3581280"/>
            <a:ext cx="845820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c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angent pla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the normal is displaced in the tangent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precompute the array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∂d/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∂u and ∂d/ ∂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we perturb the normal during 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AEA2-1738-4E91-8E75-D30348628B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Proces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that we start with a function d(u,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sample it to form an array D=[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n ∂d/ ∂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≈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–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-1,j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∂d/ ∂v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≈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– 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-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Embossin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: multipass approach using floating point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Content Placeholder 5" descr="an07f33a.jpg"/>
          <p:cNvPicPr/>
          <p:nvPr/>
        </p:nvPicPr>
        <p:blipFill>
          <a:blip r:embed="rId1"/>
          <a:srcRect l="-6470" t="0" r="-6470" b="0"/>
          <a:stretch/>
        </p:blipFill>
        <p:spPr>
          <a:xfrm>
            <a:off x="304920" y="3276720"/>
            <a:ext cx="4513320" cy="27432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AA6-130C-432F-95D3-BB96C8291F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an07f33b.jpg"/>
          <p:cNvPicPr/>
          <p:nvPr/>
        </p:nvPicPr>
        <p:blipFill>
          <a:blip r:embed="rId2"/>
          <a:stretch/>
        </p:blipFill>
        <p:spPr>
          <a:xfrm>
            <a:off x="5029200" y="3429000"/>
            <a:ext cx="3540240" cy="2438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1076040" y="213372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Polygon and a Rotating Ligh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9F23-9A89-4FE3-8191-748063DC41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ow to do this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oblem is that we want to apply the perturbation at all points on the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solve by vertex lighting (unless polygons are very smal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lly want to apply to every frag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’t do that in fixed function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can do with a fragment program!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 bumpmap.html and bumpmap.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mp Map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B592-2B12-4007-9740-EE268D5C77F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F25-C646-48BA-9CA8-3631AC32A0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bump ma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ue6"/>
          <p:cNvPicPr/>
          <p:nvPr/>
        </p:nvPicPr>
        <p:blipFill>
          <a:blip r:embed="rId1"/>
          <a:stretch/>
        </p:blipFill>
        <p:spPr>
          <a:xfrm>
            <a:off x="3048120" y="2819520"/>
            <a:ext cx="2695320" cy="2695320"/>
          </a:xfrm>
          <a:prstGeom prst="rect">
            <a:avLst/>
          </a:prstGeom>
          <a:ln w="0">
            <a:noFill/>
          </a:ln>
        </p:spPr>
      </p:pic>
      <p:sp>
        <p:nvSpPr>
          <p:cNvPr id="62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FA3-3350-477B-9DC9-15506E58FC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cc"/>
                </a:solidFill>
                <a:latin typeface="Arial"/>
              </a:rPr>
              <a:t>Modeling an Orange</a:t>
            </a:r>
            <a:endParaRPr b="1" lang="en-US" sz="4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modeling an oran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map a photo of an orange onto a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es d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not be correct if we move viewer or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shades of dimples rather than their correct 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ally we need to perturb normal across surface of object and compute a new color at each interior poi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17A2-22BF-42D3-9DE7-999F9316C72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mp Mapping (Blinn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a smooth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1295280" y="3276720"/>
            <a:ext cx="6019920" cy="2387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 flipH="1" flipV="1">
            <a:off x="1523880" y="281952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4952880" y="2285640"/>
            <a:ext cx="3812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V="1">
            <a:off x="3429000" y="2285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659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81204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10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3716-4A9C-4BC5-B3D6-ABE6BB51C4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ugher Ver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1295280" y="3276720"/>
            <a:ext cx="6019920" cy="2387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 flipH="1" flipV="1">
            <a:off x="2590560" y="2514600"/>
            <a:ext cx="5331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3733920" y="22860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 flipV="1">
            <a:off x="3429000" y="2285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1393920" y="3294000"/>
            <a:ext cx="5921280" cy="2308320"/>
          </a:xfrm>
          <a:prstGeom prst="pie">
            <a:avLst/>
          </a:pr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041720" y="1946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6501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132520" y="28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12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4A3D-EC72-4F44-8D23-D95718F60B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angent Plan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2209680" y="3124080"/>
            <a:ext cx="4038840" cy="2286000"/>
          </a:xfrm>
          <a:prstGeom prst="ellipse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4572000" y="289548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3"/>
          <p:cNvSpPr/>
          <p:nvPr/>
        </p:nvSpPr>
        <p:spPr>
          <a:xfrm flipV="1">
            <a:off x="4572000" y="1981080"/>
            <a:ext cx="91440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4"/>
          <p:cNvSpPr/>
          <p:nvPr/>
        </p:nvSpPr>
        <p:spPr>
          <a:xfrm flipH="1" flipV="1">
            <a:off x="3885840" y="2514600"/>
            <a:ext cx="6858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325280" y="2556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5571000" y="16765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6435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11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B85-E838-40E9-AB48-7C4C2C65592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qu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206800" y="3102120"/>
            <a:ext cx="473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 ∂x/ ∂u, ∂y/ ∂u, ∂z/ ∂u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630080" y="2035080"/>
            <a:ext cx="53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,v) = [x(u,v), y(u,v), z(u,v)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2289240" y="3733920"/>
            <a:ext cx="473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 ∂x/ ∂v, ∂y/ ∂v, ∂z/ ∂v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2214360" y="4834080"/>
            <a:ext cx="410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7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CB1-3751-484D-A80F-F3CB54310C6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placement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77120" y="1905120"/>
            <a:ext cx="29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d(u,v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03240" y="2666880"/>
            <a:ext cx="732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u,v) is the bump or displacemen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d(u,v)| &lt;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23:02:42Z</dcterms:created>
  <dc:creator>Ed Angel</dc:creator>
  <dc:description/>
  <dc:language>en-US</dc:language>
  <cp:lastModifiedBy>Ed Angel</cp:lastModifiedBy>
  <dcterms:modified xsi:type="dcterms:W3CDTF">2014-03-31T17:54:21Z</dcterms:modified>
  <cp:revision>118</cp:revision>
  <dc:subject/>
  <dc:title>PowerPoint Presentation</dc:title>
</cp:coreProperties>
</file>