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22F-1BEC-4ECF-B53C-33F52176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FAB-155E-46BC-B81A-86D3FCD5A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1923-83C2-4002-9998-CBBF63AB1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CF79-F36E-4BA4-BCC3-D1583DF2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2137-D01D-4647-883D-82CB451AF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0AD3-39EE-4C41-9368-6C6656E9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9D2-7DA6-48E6-9468-1FD891369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DF69-72B1-4FD0-A367-EF3639EAA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B77C-741C-444C-80BE-384F6928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744-FAEB-4DFF-A994-693C3144C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FC14-1FA4-456D-99FB-C9B7D3F0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B69E-C920-4CF4-BD11-B9B30C17F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C93F-4B93-4441-A94E-E29EDD18B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C49F-339A-4269-BCF6-A51D317F0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49BD-F407-4A6B-9E8A-E308CDE81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43A9-74E7-426E-9AE8-53150B96C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0BCA-3F78-4362-8893-DB5465BC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E5D4-32BD-4B2A-9EDF-16FBFFE1C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E665-BABE-4003-9153-215CD554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9CD5-E898-4AB8-8B86-75ED258EA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DCB3-70B1-4C22-A1F4-9B30B5ECC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9950-44F0-4002-B74F-D8316626B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8DBF-30BE-4081-A550-AE93327BB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644C-F3F0-4C4B-8BDB-B7E782436E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05B-3BAB-43F0-A1FC-4E41AB40DC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ilding Mode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F50-934D-4ECF-A5CE-0A442856604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raw cube from 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colorCube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0,3,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2,3,7,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0,4,7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1,2,6,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4,5,6,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(0,1,5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5029200" y="2514600"/>
            <a:ext cx="1905120" cy="2286000"/>
            <a:chOff x="5029200" y="2514600"/>
            <a:chExt cx="1905120" cy="2286000"/>
          </a:xfrm>
        </p:grpSpPr>
        <p:sp>
          <p:nvSpPr>
            <p:cNvPr id="220" name="Rectangle 6"/>
            <p:cNvSpPr/>
            <p:nvPr/>
          </p:nvSpPr>
          <p:spPr>
            <a:xfrm>
              <a:off x="5029200" y="3352680"/>
              <a:ext cx="1447920" cy="14479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486400" y="2514600"/>
              <a:ext cx="1447920" cy="14479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029200" y="251460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 flipH="1">
              <a:off x="5029200" y="396252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 flipH="1">
              <a:off x="6477120" y="251460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1"/>
            <p:cNvSpPr/>
            <p:nvPr/>
          </p:nvSpPr>
          <p:spPr>
            <a:xfrm flipH="1">
              <a:off x="6477120" y="3962520"/>
              <a:ext cx="45720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13"/>
          <p:cNvSpPr/>
          <p:nvPr/>
        </p:nvSpPr>
        <p:spPr>
          <a:xfrm>
            <a:off x="47260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3359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7012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61740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5488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70120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650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6477120" y="4800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19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1D0-9CC6-4976-8251-7182BCF849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simple data structures for building polygonal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ge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5DE-50C7-4F7B-88A5-0B9919A1730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presenting a Mes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a me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8 nodes and 12 ed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interior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interior (shared) 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vertex has a location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6"/>
          <p:cNvSpPr/>
          <p:nvPr/>
        </p:nvSpPr>
        <p:spPr>
          <a:xfrm>
            <a:off x="2209680" y="1905120"/>
            <a:ext cx="2743200" cy="220968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2209680" y="3048120"/>
            <a:ext cx="12956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3276360" y="3048120"/>
            <a:ext cx="22860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3505320" y="2590920"/>
            <a:ext cx="144756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 flipH="1" flipV="1">
            <a:off x="3276360" y="2514600"/>
            <a:ext cx="228600" cy="53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3276720" y="1904760"/>
            <a:ext cx="106668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2666880" y="2133720"/>
            <a:ext cx="60984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2133720" y="34290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3429000" y="29718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3200400" y="40384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4191120" y="36576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3200400" y="243828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20"/>
          <p:cNvSpPr/>
          <p:nvPr/>
        </p:nvSpPr>
        <p:spPr>
          <a:xfrm>
            <a:off x="4876920" y="25146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4191120" y="182880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1610280" y="327672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2829600" y="350532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515400" y="304812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2067480" y="198108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3439080" y="236232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4505760" y="160020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267880" y="236232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4429800" y="358128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1770120" y="259092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2752920" y="228600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4734000" y="198108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3743640" y="152388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2913840" y="266688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2295720" y="365760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6"/>
          <p:cNvSpPr/>
          <p:nvPr/>
        </p:nvSpPr>
        <p:spPr>
          <a:xfrm>
            <a:off x="2829240" y="312408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3920400" y="281952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8"/>
          <p:cNvSpPr/>
          <p:nvPr/>
        </p:nvSpPr>
        <p:spPr>
          <a:xfrm>
            <a:off x="3743640" y="373392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4734000" y="304812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0"/>
          <p:cNvSpPr/>
          <p:nvPr/>
        </p:nvSpPr>
        <p:spPr>
          <a:xfrm>
            <a:off x="3819600" y="2133720"/>
            <a:ext cx="4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1"/>
          <p:cNvSpPr/>
          <p:nvPr/>
        </p:nvSpPr>
        <p:spPr>
          <a:xfrm>
            <a:off x="3371040" y="3429000"/>
            <a:ext cx="52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39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2B7-CE0B-44FF-815B-008002C137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 Repres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each polygon by the geometric locations of its vert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ds to WebGL code such 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efficient and unstructu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moving a vertex to a new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search for all occurren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77440" y="304812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tex.push(vec3(x1, y1, z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tex.push(vec3(x6, y6, z6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tex.push(vec3(x7, y7, z7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5BD-1C13-470C-9528-8967C462303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ward and Outward Facing Polyg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quivalent in that the same polygon will be rendered by OpenGL but the or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two descri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ward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ght-hand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-clockwise encircl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outward-pointing nor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can treat inwar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ward facing polygons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BOOK\OpenGL\Paul Final\Art\jpeg\AN04F29.jpg"/>
          <p:cNvPicPr/>
          <p:nvPr/>
        </p:nvPicPr>
        <p:blipFill>
          <a:blip r:embed="rId1"/>
          <a:stretch/>
        </p:blipFill>
        <p:spPr>
          <a:xfrm>
            <a:off x="6248520" y="2895480"/>
            <a:ext cx="2359080" cy="301788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9F1-B740-42B3-8E13-27A29158C9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ometry vs Topolog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ly it is a good idea to look for data structures that separate the geometry from the top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y: locations of the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ology: organization of the vertices and 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a polygon is an ordered list of vertices with an edge connecting successive pairs of vertices and the last to the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ology holds even if geometr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CBF2-716D-42D7-BE0B-CC86B75C69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Lis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t the geometry in an 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pointers from the vertices into this 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e a polygon 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127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082560" y="2743200"/>
            <a:ext cx="1195200" cy="384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349640" y="3394080"/>
            <a:ext cx="50220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292560" y="3048120"/>
            <a:ext cx="450360" cy="16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292560" y="4495680"/>
            <a:ext cx="450360" cy="16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4"/>
          <p:cNvSpPr/>
          <p:nvPr/>
        </p:nvSpPr>
        <p:spPr>
          <a:xfrm>
            <a:off x="1905120" y="3276720"/>
            <a:ext cx="1371600" cy="380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5"/>
          <p:cNvSpPr/>
          <p:nvPr/>
        </p:nvSpPr>
        <p:spPr>
          <a:xfrm>
            <a:off x="1828800" y="3962520"/>
            <a:ext cx="1447920" cy="838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7"/>
          <p:cNvSpPr/>
          <p:nvPr/>
        </p:nvSpPr>
        <p:spPr>
          <a:xfrm>
            <a:off x="3733920" y="2971800"/>
            <a:ext cx="2361960" cy="3049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8"/>
          <p:cNvSpPr/>
          <p:nvPr/>
        </p:nvSpPr>
        <p:spPr>
          <a:xfrm>
            <a:off x="3733920" y="3733920"/>
            <a:ext cx="2286000" cy="1752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9"/>
          <p:cNvSpPr/>
          <p:nvPr/>
        </p:nvSpPr>
        <p:spPr>
          <a:xfrm>
            <a:off x="3733920" y="4114800"/>
            <a:ext cx="2286000" cy="1066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3809880" y="5105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809880" y="53341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1600560" y="5715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4571640" y="5791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19051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190512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22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C80D-9C2F-4DD2-9316-0A7F06127B3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red Ed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lists will draw filled polygons correctly but if we draw the polygon by its edges, shared edges are drawn tw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store mesh by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dge 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0"/>
          <p:cNvGrpSpPr/>
          <p:nvPr/>
        </p:nvGrpSpPr>
        <p:grpSpPr>
          <a:xfrm>
            <a:off x="2971800" y="2819520"/>
            <a:ext cx="2895480" cy="2361600"/>
            <a:chOff x="2971800" y="2819520"/>
            <a:chExt cx="2895480" cy="2361600"/>
          </a:xfrm>
        </p:grpSpPr>
        <p:sp>
          <p:nvSpPr>
            <p:cNvPr id="137" name="Freeform 5"/>
            <p:cNvSpPr/>
            <p:nvPr/>
          </p:nvSpPr>
          <p:spPr>
            <a:xfrm>
              <a:off x="3047760" y="2895480"/>
              <a:ext cx="2743200" cy="22093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 flipV="1">
              <a:off x="3047760" y="4038120"/>
              <a:ext cx="1295640" cy="4568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 flipH="1">
              <a:off x="4114440" y="4038480"/>
              <a:ext cx="228600" cy="10663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4343400" y="3580920"/>
              <a:ext cx="1447560" cy="4568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 flipH="1" flipV="1">
              <a:off x="4114440" y="3504600"/>
              <a:ext cx="228600" cy="5331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4114800" y="2895480"/>
              <a:ext cx="1066680" cy="609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3504960" y="3123720"/>
              <a:ext cx="609840" cy="380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971800" y="44193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3429000" y="30477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4267080" y="39621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4038480" y="50288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6"/>
            <p:cNvSpPr/>
            <p:nvPr/>
          </p:nvSpPr>
          <p:spPr>
            <a:xfrm>
              <a:off x="5029200" y="4647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4038480" y="34286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715000" y="3504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5029200" y="281952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Footer Placeholder 20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85CA-0571-43DC-A638-933B294EC6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dge Lis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5" name="Group 38"/>
          <p:cNvGrpSpPr/>
          <p:nvPr/>
        </p:nvGrpSpPr>
        <p:grpSpPr>
          <a:xfrm>
            <a:off x="4734360" y="1676520"/>
            <a:ext cx="3543840" cy="2789280"/>
            <a:chOff x="4734360" y="1676520"/>
            <a:chExt cx="3543840" cy="2789280"/>
          </a:xfrm>
        </p:grpSpPr>
        <p:sp>
          <p:nvSpPr>
            <p:cNvPr id="156" name="Freeform 4"/>
            <p:cNvSpPr/>
            <p:nvPr/>
          </p:nvSpPr>
          <p:spPr>
            <a:xfrm>
              <a:off x="5333760" y="2057400"/>
              <a:ext cx="2743200" cy="22093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5333760" y="3200040"/>
              <a:ext cx="1295640" cy="456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 flipH="1">
              <a:off x="6400440" y="3200400"/>
              <a:ext cx="228600" cy="106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 flipV="1">
              <a:off x="6629400" y="2742840"/>
              <a:ext cx="1447560" cy="456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 flipH="1" flipV="1">
              <a:off x="6400440" y="2666520"/>
              <a:ext cx="22860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6400800" y="2057400"/>
              <a:ext cx="1066680" cy="60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 flipH="1" flipV="1">
              <a:off x="5790960" y="2285640"/>
              <a:ext cx="609840" cy="380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11"/>
            <p:cNvSpPr/>
            <p:nvPr/>
          </p:nvSpPr>
          <p:spPr>
            <a:xfrm>
              <a:off x="5257800" y="35812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5715000" y="22096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3"/>
            <p:cNvSpPr/>
            <p:nvPr/>
          </p:nvSpPr>
          <p:spPr>
            <a:xfrm>
              <a:off x="6553080" y="31240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6324480" y="41907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7315200" y="38098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6324480" y="2590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17"/>
            <p:cNvSpPr/>
            <p:nvPr/>
          </p:nvSpPr>
          <p:spPr>
            <a:xfrm>
              <a:off x="8001000" y="26668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8"/>
            <p:cNvSpPr/>
            <p:nvPr/>
          </p:nvSpPr>
          <p:spPr>
            <a:xfrm>
              <a:off x="7315200" y="19810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4734360" y="342900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>
              <a:off x="5953680" y="365760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6639480" y="320040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5191560" y="213336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6563160" y="251460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7629840" y="175248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7553880" y="373356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4894200" y="274320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5877000" y="243828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8"/>
            <p:cNvSpPr/>
            <p:nvPr/>
          </p:nvSpPr>
          <p:spPr>
            <a:xfrm>
              <a:off x="7858080" y="213336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9"/>
            <p:cNvSpPr/>
            <p:nvPr/>
          </p:nvSpPr>
          <p:spPr>
            <a:xfrm>
              <a:off x="6867720" y="167652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0"/>
            <p:cNvSpPr/>
            <p:nvPr/>
          </p:nvSpPr>
          <p:spPr>
            <a:xfrm>
              <a:off x="6037920" y="2819160"/>
              <a:ext cx="52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31"/>
            <p:cNvSpPr/>
            <p:nvPr/>
          </p:nvSpPr>
          <p:spPr>
            <a:xfrm>
              <a:off x="5419800" y="380988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5953320" y="327636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7044480" y="2971800"/>
              <a:ext cx="52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34"/>
            <p:cNvSpPr/>
            <p:nvPr/>
          </p:nvSpPr>
          <p:spPr>
            <a:xfrm>
              <a:off x="6867720" y="388620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5"/>
            <p:cNvSpPr/>
            <p:nvPr/>
          </p:nvSpPr>
          <p:spPr>
            <a:xfrm>
              <a:off x="7858080" y="320040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6"/>
            <p:cNvSpPr/>
            <p:nvPr/>
          </p:nvSpPr>
          <p:spPr>
            <a:xfrm>
              <a:off x="6943680" y="2286000"/>
              <a:ext cx="420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37"/>
            <p:cNvSpPr/>
            <p:nvPr/>
          </p:nvSpPr>
          <p:spPr>
            <a:xfrm>
              <a:off x="6495120" y="3581280"/>
              <a:ext cx="52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40"/>
          <p:cNvSpPr/>
          <p:nvPr/>
        </p:nvSpPr>
        <p:spPr>
          <a:xfrm>
            <a:off x="998280" y="2286000"/>
            <a:ext cx="4687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3"/>
          <p:cNvSpPr/>
          <p:nvPr/>
        </p:nvSpPr>
        <p:spPr>
          <a:xfrm>
            <a:off x="99072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5"/>
          <p:cNvSpPr/>
          <p:nvPr/>
        </p:nvSpPr>
        <p:spPr>
          <a:xfrm>
            <a:off x="9907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6"/>
          <p:cNvSpPr/>
          <p:nvPr/>
        </p:nvSpPr>
        <p:spPr>
          <a:xfrm>
            <a:off x="990720" y="3429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990720" y="3809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9"/>
          <p:cNvSpPr/>
          <p:nvPr/>
        </p:nvSpPr>
        <p:spPr>
          <a:xfrm>
            <a:off x="10666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0"/>
          <p:cNvSpPr/>
          <p:nvPr/>
        </p:nvSpPr>
        <p:spPr>
          <a:xfrm>
            <a:off x="9907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1"/>
          <p:cNvSpPr/>
          <p:nvPr/>
        </p:nvSpPr>
        <p:spPr>
          <a:xfrm>
            <a:off x="990720" y="5257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3270240" y="2209680"/>
            <a:ext cx="1263600" cy="430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2141640" y="2286000"/>
            <a:ext cx="485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1523880" y="243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>
            <a:off x="1447920" y="2895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1447920" y="3276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152388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15238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1523880" y="510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1523880" y="54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2666880" y="2514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8"/>
          <p:cNvSpPr/>
          <p:nvPr/>
        </p:nvSpPr>
        <p:spPr>
          <a:xfrm>
            <a:off x="2666880" y="2895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69"/>
          <p:cNvSpPr/>
          <p:nvPr/>
        </p:nvSpPr>
        <p:spPr>
          <a:xfrm>
            <a:off x="2819520" y="28954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0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1"/>
          <p:cNvSpPr/>
          <p:nvPr/>
        </p:nvSpPr>
        <p:spPr>
          <a:xfrm>
            <a:off x="4988880" y="4722840"/>
            <a:ext cx="26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polyg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63"/>
          <p:cNvSpPr/>
          <p:nvPr/>
        </p:nvSpPr>
        <p:spPr>
          <a:xfrm>
            <a:off x="457200" y="64008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00:38Z</dcterms:created>
  <dc:creator>Ed Angel</dc:creator>
  <dc:description/>
  <dc:language>en-US</dc:language>
  <cp:lastModifiedBy>Ed Angel</cp:lastModifiedBy>
  <dcterms:modified xsi:type="dcterms:W3CDTF">2014-03-31T17:48:22Z</dcterms:modified>
  <cp:revision>117</cp:revision>
  <dc:subject/>
  <dc:title>PowerPoint Presentation</dc:title>
</cp:coreProperties>
</file>