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7AC5-A5A7-46FC-AB6E-E3BA93137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690D-C2CB-4B7B-BBF4-1E452BA04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A403-4ECF-44BD-AAAD-1BA28B087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DAE7-5535-452C-843D-B8C6AA2DD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7810-A68C-43F6-A242-8BA2C4CF6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DF71-8B02-4973-A896-5B62C1DD3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9894-042C-4E9B-B217-95C33731D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C7AD-47D4-4CA7-9598-EB7F33C88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EADF-244A-496B-AE0E-AAD3B5D47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5B1F-9E30-4E97-91BB-9F070E8FF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8DCB-5303-40A1-9967-8C709D91E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979C-6D4D-400E-943C-59606DCF4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6BA4-42BE-4B84-A702-5F64AB27D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766F-1011-48B2-A734-482EC8E0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1554-6F90-4B0F-A5B1-AAAEDDAAC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DBCD-E4B7-414B-9412-ED29D4A04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84DF-C2E4-4E5C-8527-6EC49E6AE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E904-1957-482E-927C-453D93640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F18B-3F35-402D-B93F-A88D385BA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889D-8ECE-4FF9-A6A0-C2EDF8031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7CAB-4020-4A2E-B33C-CA682F364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E315-E70B-4B7D-A08D-E249BFE37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0951-B497-406F-9BE6-22129AA82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ADAA-01A4-4424-B0B2-43C554D845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5425-74E4-40AB-A12F-EE9FBFD44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972B-70A7-41F9-B40B-429B3CF43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C2D1-B60A-4E2A-A0F5-8A55C5AED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1BD7-7D42-43D4-AB11-7053F1642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8C0C-25CD-4519-9444-DEDB669A9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19A5-CA7B-4D85-9094-3C15D791A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B43C-8342-4D69-A229-5B6BFE3E0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BF57-80ED-40CC-91A7-FC71AFCA5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67AD-648A-4B03-8030-6BE6D2C0C0B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553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E159-E6AE-4E02-B445-818B5EA2469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49D2-CA5B-4C85-B258-942735EEDE2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ght-Material Intera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that strikes an object is partially absorbed and partially scattered (refl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reflected determines the color and brightness of th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urface appears red under white light because the red component of the light is reflected and the rest is absor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lected light is scattered in a manner that depends on the smoothness and orientation of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568A-07CA-47D5-8239-5533752CCDA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ght Sour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light sources are difficult to work with because we must integrate light coming from all points on the sourc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AN06F06"/>
          <p:cNvPicPr/>
          <p:nvPr/>
        </p:nvPicPr>
        <p:blipFill>
          <a:blip r:embed="rId1"/>
          <a:stretch/>
        </p:blipFill>
        <p:spPr>
          <a:xfrm>
            <a:off x="2057400" y="3200400"/>
            <a:ext cx="4719600" cy="2573280"/>
          </a:xfrm>
          <a:prstGeom prst="rect">
            <a:avLst/>
          </a:prstGeom>
          <a:ln w="0">
            <a:noFill/>
          </a:ln>
        </p:spPr>
      </p:pic>
      <p:sp>
        <p:nvSpPr>
          <p:cNvPr id="107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EFC6-8139-4734-8E7D-4CEF8E8CEFB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imple Light Sour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int sou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with position and 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ant source = infinite distance away (paralle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otligh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rict light from ideal point 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mbient ligh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amount of light everywhere in sce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model contribution of many sources and reflecting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56A3-DD20-43EA-8E59-108DB828B74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urface Typ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moother a surface, the more reflected light is concentrated in the direction a perfect mirror would reflected the lig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ery rough surface scatters light in all dire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N06F04a"/>
          <p:cNvPicPr/>
          <p:nvPr/>
        </p:nvPicPr>
        <p:blipFill>
          <a:blip r:embed="rId1"/>
          <a:stretch/>
        </p:blipFill>
        <p:spPr>
          <a:xfrm>
            <a:off x="1143000" y="3962520"/>
            <a:ext cx="2568600" cy="162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AN06F04b"/>
          <p:cNvPicPr/>
          <p:nvPr/>
        </p:nvPicPr>
        <p:blipFill>
          <a:blip r:embed="rId2"/>
          <a:stretch/>
        </p:blipFill>
        <p:spPr>
          <a:xfrm>
            <a:off x="4952880" y="3657600"/>
            <a:ext cx="2522520" cy="1878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1638000" y="571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488920" y="56386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8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D0E4-1782-4E1A-8A64-EBC07C306D6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hong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imple model that can be computed rapid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three compon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b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s four vecto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vie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ect refl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N06F13"/>
          <p:cNvPicPr/>
          <p:nvPr/>
        </p:nvPicPr>
        <p:blipFill>
          <a:blip r:embed="rId1"/>
          <a:stretch/>
        </p:blipFill>
        <p:spPr>
          <a:xfrm>
            <a:off x="4343400" y="3200400"/>
            <a:ext cx="4076640" cy="273996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77E8-42B5-45E6-A1FD-98320701D6E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deal Reflect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rmal is determined by local orient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gle of incidence = angle of rel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three vectors must be coplan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AN06F21"/>
          <p:cNvPicPr/>
          <p:nvPr/>
        </p:nvPicPr>
        <p:blipFill>
          <a:blip r:embed="rId1"/>
          <a:stretch/>
        </p:blipFill>
        <p:spPr>
          <a:xfrm>
            <a:off x="4952880" y="3733920"/>
            <a:ext cx="2300400" cy="2252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2158560" y="403848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AAE3-5AE9-43D8-B9D0-BA1D950A47F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ambertian Surfac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fectly diffuse reflect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ght scattered equally in all dire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mount of light reflected is proportional to the vertical component of incoming ligh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cted light ~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f vectors norm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also three coefficients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that show how much of each color component is ref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2A99-1F15-47F9-AAB4-6429CA469B1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pecular Sur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st surfaces are neither ideal diffusers nor perfectly specular (ideal reflector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mooth surfaces show specular highlights due to incoming light being reflected in directions concentrated close to the direction of a perfect reflec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AN06F17"/>
          <p:cNvPicPr/>
          <p:nvPr/>
        </p:nvPicPr>
        <p:blipFill>
          <a:blip r:embed="rId1"/>
          <a:stretch/>
        </p:blipFill>
        <p:spPr>
          <a:xfrm>
            <a:off x="3048120" y="380988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139" name="Line 6"/>
          <p:cNvSpPr/>
          <p:nvPr/>
        </p:nvSpPr>
        <p:spPr>
          <a:xfrm flipH="1" flipV="1">
            <a:off x="4800600" y="4571640"/>
            <a:ext cx="144792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328080" y="487692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7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834C-1707-4E29-9806-E67127C990F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deling Specular Rele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hong proposed using a term that dropped off as the angle between the viewer and the ideal reflection increas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N06F13"/>
          <p:cNvPicPr/>
          <p:nvPr/>
        </p:nvPicPr>
        <p:blipFill>
          <a:blip r:embed="rId1"/>
          <a:stretch/>
        </p:blipFill>
        <p:spPr>
          <a:xfrm>
            <a:off x="4343400" y="3200400"/>
            <a:ext cx="4076640" cy="27399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7088400" y="43434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306440" y="3505320"/>
            <a:ext cx="184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"/>
          <p:cNvSpPr/>
          <p:nvPr/>
        </p:nvSpPr>
        <p:spPr>
          <a:xfrm flipH="1" flipV="1">
            <a:off x="2895120" y="3886200"/>
            <a:ext cx="381240" cy="838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590560" y="47242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niness co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1070640" y="55627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 co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901880" y="5105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ing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 flipV="1">
            <a:off x="2285640" y="3885840"/>
            <a:ext cx="152280" cy="1143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 flipV="1">
            <a:off x="1752480" y="4038480"/>
            <a:ext cx="228600" cy="1371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 flipV="1">
            <a:off x="1219320" y="4038120"/>
            <a:ext cx="22860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303480" y="480060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1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DDA5-C47F-4A06-B280-D77574D545A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Shininess Coefficien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lues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between 100 and 200 correspond to metal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lues between 5 and 10 give surface that look like plast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AN06F19"/>
          <p:cNvPicPr/>
          <p:nvPr/>
        </p:nvPicPr>
        <p:blipFill>
          <a:blip r:embed="rId1"/>
          <a:stretch/>
        </p:blipFill>
        <p:spPr>
          <a:xfrm>
            <a:off x="2666880" y="3657600"/>
            <a:ext cx="3961080" cy="24447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2601000" y="396252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497480" y="60199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10080" y="598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2287440" y="60199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ooter Placeholder 9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BE9B-322D-4CB5-B4F6-65EE38A8788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ghting and Shading 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E9B6-2420-4BC7-AC6B-2DC0B30330B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to shade objects so their images appear three-dimension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he types of light-material intera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ild a simple reflection model---the Phong model--- that can be used with real time graphics hardwa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6FCA-69E3-4290-9833-95A11F3BFEE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y we need shad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se we build a model of a sphere using many polygons and color it with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glColo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 We get something lik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t we wa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"/>
          <p:cNvSpPr/>
          <p:nvPr/>
        </p:nvSpPr>
        <p:spPr>
          <a:xfrm>
            <a:off x="3276720" y="3124080"/>
            <a:ext cx="1371600" cy="13716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3352680" y="487692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6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0646-0FCB-4E64-B7F4-98F02ACEFE3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y does the image of a real sphere look lik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ght-material interactions cause each point to have a different color or sha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consid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ght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ial proper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tion of vie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face ori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3048120" y="205740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1D5F-78A5-46EF-ACFD-6F77640DFA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AN06F01"/>
          <p:cNvPicPr/>
          <p:nvPr/>
        </p:nvPicPr>
        <p:blipFill>
          <a:blip r:embed="rId1"/>
          <a:stretch/>
        </p:blipFill>
        <p:spPr>
          <a:xfrm>
            <a:off x="4659480" y="3505320"/>
            <a:ext cx="3570120" cy="27381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cattering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ght strikes A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scatt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bsor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me of scattered light strikes 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scatt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bsor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me of this scatter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ght strikes 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5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9AA3-4F15-4547-8647-6DA8539DFDA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ing Equ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infinite scattering and absorption of light can be described by th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rendering equat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d in gene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y tracing is a special case for perfectly reflecting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ndering equation is global and inclu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scattering from object to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7BC6-8C4B-435E-97EC-92428ECFDE2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lobal Effec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4" name="Picture 5" descr="AN06F02"/>
          <p:cNvPicPr/>
          <p:nvPr/>
        </p:nvPicPr>
        <p:blipFill>
          <a:blip r:embed="rId1"/>
          <a:stretch/>
        </p:blipFill>
        <p:spPr>
          <a:xfrm>
            <a:off x="2438280" y="1981080"/>
            <a:ext cx="3846600" cy="41817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 flipV="1">
            <a:off x="5409720" y="3200040"/>
            <a:ext cx="685800" cy="1676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780440" y="491796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ucent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 flipH="1">
            <a:off x="5638680" y="2133720"/>
            <a:ext cx="990720" cy="53316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250320" y="16765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3505320" y="228600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 flipV="1">
            <a:off x="4495680" y="259092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5181480" y="2590920"/>
            <a:ext cx="16002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4"/>
          <p:cNvSpPr/>
          <p:nvPr/>
        </p:nvSpPr>
        <p:spPr>
          <a:xfrm flipH="1" flipV="1">
            <a:off x="6400800" y="3429000"/>
            <a:ext cx="457200" cy="99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6167160" y="434340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13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94FB-2E49-4CE1-B4CA-8346C37BD0C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ocal vs Global Render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rrect shading requires a global calculation involving all objects and light sour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ompatible with pipeline model which shades each polygon independently (local render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ever, in computer graphics, especially real time graphics, we are happy if things “look right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 many techniques for approximating global 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457200" y="640080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 Angel and D. Shreiner: Interactive Computer Graphics 6E © Addison-Wesle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32:32Z</dcterms:created>
  <dc:creator>Ed Angel</dc:creator>
  <dc:description/>
  <dc:language>en-US</dc:language>
  <cp:lastModifiedBy>Ed Angel</cp:lastModifiedBy>
  <dcterms:modified xsi:type="dcterms:W3CDTF">2014-03-31T17:51:04Z</dcterms:modified>
  <cp:revision>162</cp:revision>
  <dc:subject/>
  <dc:title>PowerPoint Presentation</dc:title>
</cp:coreProperties>
</file>