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21FE-D0C0-4E95-B808-E8058B58A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E207-746B-44AA-9A8F-5CE81F98B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D2A1-62D3-4E50-BB55-FB189BDCE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45E5-B401-488B-95F7-7CE218F0A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CC89-E53B-40E4-87CC-379D9DB43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E390-DABD-4476-B98C-1548AB6DA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D2AD-D3B5-4694-ADAA-BD67AB579F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91BE-0102-4EF6-A006-3F0CE59C8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BD46-C8EC-41FF-8F60-E76098FB9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C99A-AFBF-4FF5-B66E-FDACD2285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9AE9-F723-47FF-9B83-68314B861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ADB5-0F16-46AC-92FC-85EDAB9EC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83BF-A4E2-415D-9321-6DB934C14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94F9-4127-45AC-9691-FCF153761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B768-9380-48BE-B938-F1F958A2843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7485-8141-4251-B4D0-BE75423B641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984A-C9E8-4D4A-A044-BF2FF91749F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ducing Colo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a device such as a CRT with RGB primaries and sensitivity cur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istimulus va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N01F13a"/>
          <p:cNvPicPr/>
          <p:nvPr/>
        </p:nvPicPr>
        <p:blipFill>
          <a:blip r:embed="rId1"/>
          <a:srcRect l="0" t="9735" r="0" b="0"/>
          <a:stretch/>
        </p:blipFill>
        <p:spPr>
          <a:xfrm>
            <a:off x="990720" y="2743200"/>
            <a:ext cx="1981080" cy="14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AN01F13b"/>
          <p:cNvPicPr/>
          <p:nvPr/>
        </p:nvPicPr>
        <p:blipFill>
          <a:blip r:embed="rId2"/>
          <a:srcRect l="0" t="13501" r="0" b="0"/>
          <a:stretch/>
        </p:blipFill>
        <p:spPr>
          <a:xfrm>
            <a:off x="3429000" y="2743200"/>
            <a:ext cx="1828800" cy="146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01F13c"/>
          <p:cNvPicPr/>
          <p:nvPr/>
        </p:nvPicPr>
        <p:blipFill>
          <a:blip r:embed="rId3"/>
          <a:srcRect l="0" t="10278" r="0" b="0"/>
          <a:stretch/>
        </p:blipFill>
        <p:spPr>
          <a:xfrm>
            <a:off x="5791320" y="2743200"/>
            <a:ext cx="1600200" cy="133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47880" y="5105520"/>
                <a:ext cx="3228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d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062680" y="4572000"/>
                <a:ext cx="3294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d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249880" y="5410080"/>
                <a:ext cx="3227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d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Footer Placeholder 10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3FDA-066D-4C09-A04F-FFAA617A079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tching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dependent on the particular devi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use another device, we will get different values and these values will not match those of the human cone cur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a way of matching and a way of normaliz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8E90-45C0-4C2C-9CEB-01F83D62C19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lor Syste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rious color systems are u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real primari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SC R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fer to separate brightness (luminance) from color (chromatic) inform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to two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AFF4-330B-43E9-BEF4-1EAC94D9C1D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istimulus Coordina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2057400"/>
                <a:ext cx="24004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66880" y="3124080"/>
                <a:ext cx="24274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any set of primaries, def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191120"/>
                <a:ext cx="24271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752480" y="5638680"/>
                <a:ext cx="19814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952880" y="5638680"/>
                <a:ext cx="20574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1"/>
          <p:cNvSpPr/>
          <p:nvPr/>
        </p:nvSpPr>
        <p:spPr>
          <a:xfrm>
            <a:off x="916920" y="51814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10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C5E-651C-4279-8301-538EC1D7547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3200400" y="2209680"/>
            <a:ext cx="1981080" cy="167652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Maxwell Triangle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148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onto 2D: chromaticity sp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200400" y="2209680"/>
            <a:ext cx="1981080" cy="1676160"/>
            <a:chOff x="3200400" y="2209680"/>
            <a:chExt cx="1981080" cy="1676160"/>
          </a:xfrm>
        </p:grpSpPr>
        <p:sp>
          <p:nvSpPr>
            <p:cNvPr id="146" name="Rectangle 5"/>
            <p:cNvSpPr/>
            <p:nvPr/>
          </p:nvSpPr>
          <p:spPr>
            <a:xfrm>
              <a:off x="3200400" y="2666880"/>
              <a:ext cx="121896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3962160" y="2209680"/>
              <a:ext cx="121932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 flipV="1">
              <a:off x="3200400" y="2209680"/>
              <a:ext cx="7617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 flipV="1">
              <a:off x="4419360" y="2209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 flipV="1">
              <a:off x="4419360" y="342864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 flipV="1">
              <a:off x="3200400" y="3428640"/>
              <a:ext cx="7617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13"/>
          <p:cNvSpPr/>
          <p:nvPr/>
        </p:nvSpPr>
        <p:spPr>
          <a:xfrm>
            <a:off x="38880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51832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685800" y="2895480"/>
            <a:ext cx="2057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8213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 flipV="1">
            <a:off x="2590920" y="2895480"/>
            <a:ext cx="990360" cy="152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6023880" y="26668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6"/>
          <p:cNvSpPr/>
          <p:nvPr/>
        </p:nvSpPr>
        <p:spPr>
          <a:xfrm flipH="1" flipV="1">
            <a:off x="5257800" y="2742840"/>
            <a:ext cx="8380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7"/>
          <p:cNvSpPr/>
          <p:nvPr/>
        </p:nvSpPr>
        <p:spPr>
          <a:xfrm flipV="1">
            <a:off x="3276720" y="4648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3276720" y="5867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9"/>
          <p:cNvSpPr/>
          <p:nvPr/>
        </p:nvSpPr>
        <p:spPr>
          <a:xfrm>
            <a:off x="3276720" y="4876920"/>
            <a:ext cx="9903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2826360" y="5181480"/>
            <a:ext cx="346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3512160" y="5867280"/>
            <a:ext cx="346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28972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4116600" y="586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 rot="2745600">
            <a:off x="3531600" y="4997160"/>
            <a:ext cx="111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5"/>
          <p:cNvSpPr/>
          <p:nvPr/>
        </p:nvSpPr>
        <p:spPr>
          <a:xfrm flipH="1" flipV="1">
            <a:off x="3580920" y="5638680"/>
            <a:ext cx="251460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6100560" y="54100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oter Placeholder 29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8453-3E65-4904-AF2A-1882971DA09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TSC RGB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23591" t="23655" r="23591" b="20061"/>
          <a:stretch/>
        </p:blipFill>
        <p:spPr>
          <a:xfrm>
            <a:off x="2666880" y="2057400"/>
            <a:ext cx="3657600" cy="3581280"/>
          </a:xfrm>
          <a:prstGeom prst="rect">
            <a:avLst/>
          </a:prstGeom>
          <a:ln w="0">
            <a:noFill/>
          </a:ln>
        </p:spPr>
      </p:pic>
      <p:sp>
        <p:nvSpPr>
          <p:cNvPr id="173" name="Line 5"/>
          <p:cNvSpPr/>
          <p:nvPr/>
        </p:nvSpPr>
        <p:spPr>
          <a:xfrm>
            <a:off x="2819520" y="53341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2819520" y="175212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00552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23641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192200" y="5410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22878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629240" y="17938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+g+b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 rot="2301600">
            <a:off x="4343400" y="3276360"/>
            <a:ext cx="9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+g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12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C90A-A320-493D-BF73-C972A515F95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ducing Other Colo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ever colors producible on one system (its color gamut) is not necessarily producible on any 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that if we produce all the pure spectral colors in the 350-750 nm range, we can produce all others by adding spectral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real systems (CRT, film), we cannot produce the pure spectral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project the color solid of each system into chromaticity  space (of some system) to see how close we can 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5156-1EC9-4692-9DD0-6D9387FAABF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lor Gamu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Freeform 6"/>
          <p:cNvSpPr/>
          <p:nvPr/>
        </p:nvSpPr>
        <p:spPr>
          <a:xfrm>
            <a:off x="2057400" y="2235240"/>
            <a:ext cx="4191120" cy="3327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2819520" y="2590920"/>
            <a:ext cx="1904760" cy="1981080"/>
          </a:xfrm>
          <a:prstGeom prst="pie">
            <a:avLst/>
          </a:prstGeom>
          <a:noFill/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>
            <a:off x="2666880" y="3352680"/>
            <a:ext cx="2438640" cy="1600200"/>
          </a:xfrm>
          <a:prstGeom prst="pie">
            <a:avLst/>
          </a:pr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9"/>
          <p:cNvSpPr/>
          <p:nvPr/>
        </p:nvSpPr>
        <p:spPr>
          <a:xfrm flipH="1" flipV="1">
            <a:off x="3428640" y="3962160"/>
            <a:ext cx="685800" cy="1447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0"/>
          <p:cNvSpPr/>
          <p:nvPr/>
        </p:nvSpPr>
        <p:spPr>
          <a:xfrm flipH="1">
            <a:off x="4190760" y="297180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1600200" y="3048120"/>
            <a:ext cx="1066680" cy="75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840960" y="251460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al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5793840" y="266688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r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460440" y="41148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T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449000" y="5562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6325560" y="48769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277800" y="17524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19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0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4419720" y="38862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2133720" y="4343400"/>
            <a:ext cx="99036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 flipH="1">
            <a:off x="4723920" y="3733920"/>
            <a:ext cx="114300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 flipV="1">
            <a:off x="1295280" y="5105160"/>
            <a:ext cx="106704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5943960" y="3352680"/>
            <a:ext cx="319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ble color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T but not on pr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2746080" y="541008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ble color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RT and pr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233280" y="4724280"/>
            <a:ext cx="200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oduc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2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A740-E083-4C29-AB27-05B3DB57F20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XYZ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ference system in which all visible pure spectral colors can be produc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oretical systems 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are no correspond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ysical prima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 reference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AN08F64"/>
          <p:cNvPicPr/>
          <p:nvPr/>
        </p:nvPicPr>
        <p:blipFill>
          <a:blip r:embed="rId1"/>
          <a:stretch/>
        </p:blipFill>
        <p:spPr>
          <a:xfrm>
            <a:off x="5257800" y="2590920"/>
            <a:ext cx="3718080" cy="3406680"/>
          </a:xfrm>
          <a:prstGeom prst="rect">
            <a:avLst/>
          </a:prstGeom>
          <a:ln w="0">
            <a:noFill/>
          </a:ln>
        </p:spPr>
      </p:pic>
      <p:sp>
        <p:nvSpPr>
          <p:cNvPr id="214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9D11-1D6A-4A4B-B647-00936C48048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lor Syste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st correspond to real prima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ional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visi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stem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mittee (NTSC) RGB matches phosphors in C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m both additive (RGB) and subtractive (CMY) for positive and negative fil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nt industry CMYK (K = black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 used to produce sharp crisp black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ink jet pri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play Issu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2F79-E41E-4A32-B627-1BC42302A87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C25C-E610-4C0E-B03A-4DF3C31220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lor Transform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ch additive color system is a linear transformation of anoth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2514600" y="3352680"/>
            <a:ext cx="2590920" cy="2008440"/>
            <a:chOff x="2514600" y="3352680"/>
            <a:chExt cx="2590920" cy="2008440"/>
          </a:xfrm>
        </p:grpSpPr>
        <p:sp>
          <p:nvSpPr>
            <p:cNvPr id="223" name="Line 4"/>
            <p:cNvSpPr/>
            <p:nvPr/>
          </p:nvSpPr>
          <p:spPr>
            <a:xfrm>
              <a:off x="3352680" y="487692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 flipV="1">
              <a:off x="3352680" y="3352680"/>
              <a:ext cx="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 flipH="1">
              <a:off x="2514600" y="4876920"/>
              <a:ext cx="83808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Line 8"/>
          <p:cNvSpPr/>
          <p:nvPr/>
        </p:nvSpPr>
        <p:spPr>
          <a:xfrm flipV="1">
            <a:off x="3429000" y="4724280"/>
            <a:ext cx="1295280" cy="152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H="1" flipV="1">
            <a:off x="2971800" y="3505320"/>
            <a:ext cx="380880" cy="129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 flipH="1">
            <a:off x="2819160" y="4876920"/>
            <a:ext cx="533160" cy="533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03100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674960" y="4267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3431160" y="3048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466000" y="2971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287800" y="4876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2805120" y="5222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7"/>
          <p:cNvSpPr/>
          <p:nvPr/>
        </p:nvSpPr>
        <p:spPr>
          <a:xfrm>
            <a:off x="3886200" y="3733920"/>
            <a:ext cx="76320" cy="75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4017600" y="3470400"/>
            <a:ext cx="40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(T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H="1" flipV="1">
            <a:off x="5562720" y="3962520"/>
            <a:ext cx="457200" cy="129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4864320" y="53751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G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174720" y="434340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’G’B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22"/>
          <p:cNvSpPr/>
          <p:nvPr/>
        </p:nvSpPr>
        <p:spPr>
          <a:xfrm flipV="1">
            <a:off x="7086600" y="388620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23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858D-320D-4AC2-B33E-901E6FE8D73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GB, CMY, CMYK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uming 1 is max of a prim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 = 1 – 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 = 1 – 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 = 1 –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vert CMY to CMYK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 = min(C, M, 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’ = C – 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’ = M – 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’ = Y - 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AA1F-D890-4DEC-A3AB-84365DF987F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lor Matri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ists a 3 x 3 matrix to convert from representation in one system to representation in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XYZ to NTSC RG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in colorimetry 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take a color in XYZ and find out if it is producible by transforming and then checking if resulting tristimulus values lie in (0,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048120" y="2590920"/>
                <a:ext cx="205740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'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B63E-3748-4D22-AF0D-79EE53A348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YIQ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TSC Transmission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re Y is the lumin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ose from need to separate brightness from chromatic information in TV broadca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 luminance shows high green sensitiv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371600" y="3657600"/>
                <a:ext cx="48006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9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8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693D-FEC6-43B1-A9BE-E79B426A32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ther Color Syste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VW: equal numerical errors are closer to equal perceptual err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LS: perceptual color (hue, saturation, light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r representation of color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and double con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AN08F65"/>
          <p:cNvPicPr/>
          <p:nvPr/>
        </p:nvPicPr>
        <p:blipFill>
          <a:blip r:embed="rId1"/>
          <a:stretch/>
        </p:blipFill>
        <p:spPr>
          <a:xfrm>
            <a:off x="2286000" y="4175280"/>
            <a:ext cx="4114800" cy="2261880"/>
          </a:xfrm>
          <a:prstGeom prst="rect">
            <a:avLst/>
          </a:prstGeom>
          <a:ln w="0">
            <a:noFill/>
          </a:ln>
        </p:spPr>
      </p:pic>
      <p:sp>
        <p:nvSpPr>
          <p:cNvPr id="260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E1FA-BAD6-40D2-9818-70664CACBB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amma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nsity vs CRT voltage is nonline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= cV</a:t>
            </a:r>
            <a:r>
              <a:rPr b="0" lang="en-US" sz="3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use a lookup table to corr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uman brightness response is logarithm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al steps in gray levels are not perceived equ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use lookup 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Ts cannot produce a full bl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s contrast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RGB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 for Intern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just colors to match standard gamma of pan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ch gamma over most of the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less bright 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(soon WebGL?) can input sRGB and convert to RGB for processing and then back to sRG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B55-2403-450C-931F-9D0EE2BF9DC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EF9A-88C7-4125-BECE-BF77A0EBD1A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perceptual issues related to displ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chromaticity 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transform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 Color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 Display Can Be Perf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 analog display device such as a CRT takes digital input (pixels) and outputs a small spot of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Digital display such as a LCD display outputs discrete spo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eye merges (filters) these spo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pling theory shows this process cannot be done perfect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DF77-46EA-433B-A6EB-3589C70589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6F8D-056D-4A15-AD80-E7AEEC8B7E9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erception Review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is the part of the electromagnetic spectrum between ~350-750 n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color C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 is a distribution of energies within this ran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human visual system has three types of cones on the retina, each with its own spectral sensitiv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equently, only three values, 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tristimulus valu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are “seen” by the bra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D6AA-AE19-4652-B19C-E3533F69003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istimulus Valu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human visual center has three cones with sensitivity curves S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, S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, and S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a color C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, the cones output the tristimulus va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95480" y="3886200"/>
                <a:ext cx="3297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d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138320" y="4724280"/>
                <a:ext cx="3362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d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14280" y="5562720"/>
                <a:ext cx="3365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d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AutoShape 1031"/>
          <p:cNvSpPr/>
          <p:nvPr/>
        </p:nvSpPr>
        <p:spPr>
          <a:xfrm>
            <a:off x="5410080" y="5029200"/>
            <a:ext cx="1600200" cy="457200"/>
          </a:xfrm>
          <a:prstGeom prst="parallelogram">
            <a:avLst>
              <a:gd name="adj" fmla="val 875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32"/>
          <p:cNvSpPr/>
          <p:nvPr/>
        </p:nvSpPr>
        <p:spPr>
          <a:xfrm>
            <a:off x="5334120" y="4114800"/>
            <a:ext cx="4572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34"/>
          <p:cNvSpPr/>
          <p:nvPr/>
        </p:nvSpPr>
        <p:spPr>
          <a:xfrm>
            <a:off x="685800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35"/>
          <p:cNvSpPr/>
          <p:nvPr/>
        </p:nvSpPr>
        <p:spPr>
          <a:xfrm flipH="1">
            <a:off x="6629400" y="41148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36"/>
          <p:cNvSpPr/>
          <p:nvPr/>
        </p:nvSpPr>
        <p:spPr>
          <a:xfrm>
            <a:off x="6248520" y="4114800"/>
            <a:ext cx="759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37"/>
          <p:cNvSpPr/>
          <p:nvPr/>
        </p:nvSpPr>
        <p:spPr>
          <a:xfrm>
            <a:off x="5639400" y="35053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38"/>
          <p:cNvSpPr/>
          <p:nvPr/>
        </p:nvSpPr>
        <p:spPr>
          <a:xfrm>
            <a:off x="7031160" y="5410080"/>
            <a:ext cx="130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39"/>
          <p:cNvSpPr/>
          <p:nvPr/>
        </p:nvSpPr>
        <p:spPr>
          <a:xfrm>
            <a:off x="5641560" y="55627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40"/>
          <p:cNvSpPr/>
          <p:nvPr/>
        </p:nvSpPr>
        <p:spPr>
          <a:xfrm>
            <a:off x="7012800" y="45720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16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1D1-2F36-4BAA-A9E1-9A907156192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 Color Theor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y two colors with the same tristimulus values are perceived to be identic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us a display (CRT, LCD, film) must only produce the correct tristimulus values to match a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possible? Not alw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primaries (different sensitivity curves) in different syste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3949-F2BC-4224-984F-531D32974B0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Proble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ensitivity curves of the human are not the same as those of physical dev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uman: curves centered in blue, green, and green-yell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T: RG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nt media: CMY or CMY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colors can we match and, if we cannot match, how close can we com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EDA3-66F3-47E8-B863-7EA7169B8D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presenting Colo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a color C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generates tristimulus value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 = (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ntionally,we assum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cause there is a maximum brightness we can produce and energy is non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point in color sol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5791320" y="4419720"/>
            <a:ext cx="1981080" cy="1676160"/>
            <a:chOff x="5791320" y="4419720"/>
            <a:chExt cx="1981080" cy="1676160"/>
          </a:xfrm>
        </p:grpSpPr>
        <p:sp>
          <p:nvSpPr>
            <p:cNvPr id="98" name="Rectangle 4"/>
            <p:cNvSpPr/>
            <p:nvPr/>
          </p:nvSpPr>
          <p:spPr>
            <a:xfrm>
              <a:off x="5791320" y="4876920"/>
              <a:ext cx="121896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6553080" y="4419720"/>
              <a:ext cx="121932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 flipV="1">
              <a:off x="5791320" y="4419720"/>
              <a:ext cx="7617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 flipV="1">
              <a:off x="7010280" y="441972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 flipV="1">
              <a:off x="7010280" y="5638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"/>
            <p:cNvSpPr/>
            <p:nvPr/>
          </p:nvSpPr>
          <p:spPr>
            <a:xfrm flipV="1">
              <a:off x="5791320" y="5638680"/>
              <a:ext cx="7617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Oval 12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7543800" y="4724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647892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4118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774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7016760" y="5257800"/>
            <a:ext cx="444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178680" y="4952880"/>
            <a:ext cx="444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5873760" y="5486400"/>
            <a:ext cx="444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19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4:40:05Z</dcterms:created>
  <dc:creator>Ed Angel</dc:creator>
  <dc:description/>
  <dc:language>en-US</dc:language>
  <cp:lastModifiedBy>Ed Angel</cp:lastModifiedBy>
  <dcterms:modified xsi:type="dcterms:W3CDTF">2014-03-31T18:00:57Z</dcterms:modified>
  <cp:revision>261</cp:revision>
  <dc:subject/>
  <dc:title>PowerPoint Presentation</dc:title>
</cp:coreProperties>
</file>