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798C-1FCF-483B-A1C9-D3453EF70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6B0-41DE-4FF0-B189-EC90B34CB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40C1-98E8-4FB7-8B61-2ED9A3DF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748-F109-49DC-8D63-58835B8F8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07B-43CA-4D52-9466-3E767536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366-C903-43D7-8B5C-54E93C6F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9BB-29C0-475D-97AB-20390CCD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AD6-80CE-42D9-9BF7-B6ECBB2AD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0FB-D80A-4C04-8C2E-8E604507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D32-861D-4EBC-AE8A-A350BF20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23A-684E-4464-8528-BE072761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F65-8AA5-42D2-91C7-AEA7FFCC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54B-5E31-45E3-A0DB-87D9D157F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3BF-4CEB-4E42-9E7D-A3326891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590-7D7B-42E7-878C-D36C5522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AC45-24F7-42B6-922E-AA2A460D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3C2-9726-44B0-A308-5E28531B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A37-A401-4914-B3AB-AAFFB86ED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0991-148A-4A05-899A-DB070AED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541-3AFD-4107-9D00-23C57080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7F91-FBC9-4CC4-A132-16D8BAF73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F7A5-21E6-406D-B05C-F4C53CB2C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6577-21B3-48AB-A686-49AF1F579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459-455D-4620-AF33-A69DCFC7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026-782E-48AD-B2D2-72DE4B0F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875-7647-40E1-887B-F4ECE6549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C9A2-35F1-46F1-91D4-D0FE313ED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7355-F63B-4450-9972-2E5D633A7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FCBF-AD8F-4A6C-9B54-D98FF624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854B-D4DC-4143-9116-076AA225A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C46C-3331-43F6-9A79-468AB8D42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A008-3D1D-42A1-A365-1509EB0F3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020B-5930-41A4-942A-92790CC2E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507A-A682-4DC0-8615-CCE7BD13C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B477-3610-4BAA-B6B8-96415FAED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9D6C-8326-46EE-9AAA-30BFA3EE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A62-D739-46CA-87B7-ADA20847C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5975-14B0-4BDC-96AE-6C9C8AEC9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AEB-F582-4D77-93FE-FB976E236DF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143-ECB7-4077-8994-85D25C1E4E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A60-9670-4074-B2DE-527F94BD62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lation Using Represent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ing the homogeneous coordinate representation in some fr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[ x y z 1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=[x’ y’ z’ 1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[dx dy dz 0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nce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x’=x+d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’=y+d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z’=z+d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30"/>
          <p:cNvSpPr/>
          <p:nvPr/>
        </p:nvSpPr>
        <p:spPr>
          <a:xfrm flipH="1" flipV="1">
            <a:off x="3581280" y="4495680"/>
            <a:ext cx="99072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31"/>
          <p:cNvSpPr/>
          <p:nvPr/>
        </p:nvSpPr>
        <p:spPr>
          <a:xfrm>
            <a:off x="4569480" y="4572000"/>
            <a:ext cx="3920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expression i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imensions and exp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= vector +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6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5607-A365-4D17-B138-CABD9B5B9D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lation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lso express translation us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x 4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omogeneous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orm is better for implementation because all affine transformations can be expressed this way and multiple transformations can be concaten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67080" y="2743200"/>
                <a:ext cx="210492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3F3-D45F-45C5-880E-D11E3882C42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(2D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rotation about the origin b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egr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us stays the same, angle increases by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AN04F36"/>
          <p:cNvPicPr/>
          <p:nvPr/>
        </p:nvPicPr>
        <p:blipFill>
          <a:blip r:embed="rId1"/>
          <a:stretch/>
        </p:blipFill>
        <p:spPr>
          <a:xfrm>
            <a:off x="1371600" y="3124080"/>
            <a:ext cx="2530440" cy="2737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4883400" y="3962520"/>
            <a:ext cx="2774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=x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y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’ = x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953960" y="5105520"/>
            <a:ext cx="14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r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r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H="1" flipV="1">
            <a:off x="3886200" y="4952880"/>
            <a:ext cx="8380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496680" y="2590920"/>
            <a:ext cx="24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 = r c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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’ = r s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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3123720" y="3048120"/>
            <a:ext cx="38124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10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5DE-BCAF-443D-88C1-709CFBAD91E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about the </a:t>
            </a: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ax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ion about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xis in three dimensions leaves all points with the sam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rotation in two dimensions in planes of constan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in homogeneous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57400" y="335268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=x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y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’ = x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 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2B86-DB18-422D-8A95-0E997B11C2A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28840" y="2590920"/>
                <a:ext cx="344808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3200040"/>
            <a:ext cx="1752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2C4-755D-4530-8814-9FA98F9E6A9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about </a:t>
            </a: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ax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e argument as for rotation abou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rotation abou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xi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nchan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rotation abou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xi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nchan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3880" y="35053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00200" y="51814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47920" y="2819520"/>
                <a:ext cx="261936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322800" y="4724280"/>
                <a:ext cx="26208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sin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Footer Placeholder 8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A99-636F-4288-B305-6822C13507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l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0" name="Picture 5" descr="\\Angel\BOOK\OpenGL\Paul Final\Art\jpeg\AN04F40.jpg"/>
          <p:cNvPicPr/>
          <p:nvPr/>
        </p:nvPicPr>
        <p:blipFill>
          <a:blip r:embed="rId1"/>
          <a:stretch/>
        </p:blipFill>
        <p:spPr>
          <a:xfrm>
            <a:off x="5029200" y="2209680"/>
            <a:ext cx="3203640" cy="348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52680" y="4038480"/>
                <a:ext cx="243864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920" y="48765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304720" y="2133720"/>
            <a:ext cx="967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’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288160" y="3429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59840" y="152244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or contract along each axis (fixed point of ori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172-512F-4947-BD88-79FF73BC78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\\Angel\BOOK\OpenGL\Paul Final\Art\jpeg\AN04F42.jpg"/>
          <p:cNvPicPr/>
          <p:nvPr/>
        </p:nvPicPr>
        <p:blipFill>
          <a:blip r:embed="rId1"/>
          <a:stretch/>
        </p:blipFill>
        <p:spPr>
          <a:xfrm>
            <a:off x="2590920" y="1981080"/>
            <a:ext cx="3778200" cy="3984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f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rresponds to negative scale fa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552360" y="2819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88480" y="2784600"/>
            <a:ext cx="17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01000" y="487692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262200" y="4876920"/>
            <a:ext cx="17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9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F46-3605-4F4A-A330-C59F597F40C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vers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hough we could compute inverse matrices by general formulas, we can use simple geometric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lation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-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-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on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88280">
              <a:lnSpc>
                <a:spcPct val="100000"/>
              </a:lnSpc>
              <a:spcBef>
                <a:spcPts val="624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olds for any rotation matri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88280">
              <a:lnSpc>
                <a:spcPct val="100000"/>
              </a:lnSpc>
              <a:spcBef>
                <a:spcPts val="624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te that since cos(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= cos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and sin(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=-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aling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/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/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097E-4433-4620-9F79-20BF9A4F3F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caten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form arbitrary affine transformation matrices by multiplying together rotation, translation, and scaling matr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ause the same transformation is applied to many vertices, the cost of forming a matrix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not significant compared to the cost of computing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many vertice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ifficult part is how to form a desired transformation from the specifications in the 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FDF3-5D6A-4540-AA36-38F28D300A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24E-A67C-4587-BA68-0FA8F6D65C7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der of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matrix on the right is the first appli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hematically, the following are equival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BC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many references use column matrices to represent points. In terms of column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’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DAE-F189-4E1E-B1C8-E7B93A237A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 Rotation About the Origi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086240" y="434340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0"/>
          <p:cNvGrpSpPr/>
          <p:nvPr/>
        </p:nvGrpSpPr>
        <p:grpSpPr>
          <a:xfrm>
            <a:off x="5638680" y="4266720"/>
            <a:ext cx="2285640" cy="1905120"/>
            <a:chOff x="5638680" y="4266720"/>
            <a:chExt cx="2285640" cy="1905120"/>
          </a:xfrm>
        </p:grpSpPr>
        <p:sp>
          <p:nvSpPr>
            <p:cNvPr id="202" name="Line 4"/>
            <p:cNvSpPr/>
            <p:nvPr/>
          </p:nvSpPr>
          <p:spPr>
            <a:xfrm flipV="1">
              <a:off x="6239880" y="4593600"/>
              <a:ext cx="156420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 flipH="1">
              <a:off x="6962040" y="4702680"/>
              <a:ext cx="360720" cy="707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6239880" y="5518800"/>
              <a:ext cx="168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 flipV="1">
              <a:off x="6239880" y="4266720"/>
              <a:ext cx="0" cy="125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 flipH="1">
              <a:off x="5638680" y="5518800"/>
              <a:ext cx="601200" cy="65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1"/>
          <p:cNvSpPr/>
          <p:nvPr/>
        </p:nvSpPr>
        <p:spPr>
          <a:xfrm>
            <a:off x="792612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259600" y="5943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9732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800208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029240" y="1747800"/>
            <a:ext cx="59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tation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an arbitrary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ecomposed into the concate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otations abou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432080" y="3276720"/>
            <a:ext cx="455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870480" y="4419720"/>
            <a:ext cx="47782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re called the Euler ang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222840" y="5029200"/>
            <a:ext cx="522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rotations do not comm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rotations in another order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differen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18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99D-E73B-44F2-89FA-2FB5C04B72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About a Fixed Point other than the Origi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 fixed point to orig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 fixed point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-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\\Angel\BOOK\OpenGL\Paul Final\Art\jpeg\AN04F48.jpg"/>
          <p:cNvPicPr/>
          <p:nvPr/>
        </p:nvPicPr>
        <p:blipFill>
          <a:blip r:embed="rId1"/>
          <a:stretch/>
        </p:blipFill>
        <p:spPr>
          <a:xfrm>
            <a:off x="762120" y="3962520"/>
            <a:ext cx="7745400" cy="221112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40D3-6AD4-4F42-B49B-B58FCA6FAC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stanc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modeling, we often start with a simple object centered at the origin, oriented with the axis, and at a standard siz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apply 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stance transforma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its vertices t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\\Angel\BOOK\OpenGL\Paul Final\Art\jpeg\AN04F53.jpg"/>
          <p:cNvPicPr/>
          <p:nvPr/>
        </p:nvPicPr>
        <p:blipFill>
          <a:blip r:embed="rId1"/>
          <a:stretch/>
        </p:blipFill>
        <p:spPr>
          <a:xfrm>
            <a:off x="3809880" y="3657600"/>
            <a:ext cx="2667240" cy="257184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C95-45EB-4EFD-A4DA-F181BB5253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ea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ful to add one more basic trans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quivalent to pulling faces in opposite dire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\\Angel\BOOK\OpenGL\Paul Final\Art\jpeg\AN04F43.jpg"/>
          <p:cNvPicPr/>
          <p:nvPr/>
        </p:nvPicPr>
        <p:blipFill>
          <a:blip r:embed="rId1"/>
          <a:stretch/>
        </p:blipFill>
        <p:spPr>
          <a:xfrm>
            <a:off x="1752480" y="3048120"/>
            <a:ext cx="4621320" cy="20286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5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A8A-A109-4A14-B2DE-C1657DAAFE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ear Matri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simple shear along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\\Angel\BOOK\OpenGL\Paul Final\Art\jpeg\AN04F44.jpg"/>
          <p:cNvPicPr/>
          <p:nvPr/>
        </p:nvPicPr>
        <p:blipFill>
          <a:blip r:embed="rId1"/>
          <a:stretch/>
        </p:blipFill>
        <p:spPr>
          <a:xfrm>
            <a:off x="5867280" y="2133720"/>
            <a:ext cx="2036880" cy="2203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828800" y="251460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 = x + y c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’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766960" y="3886200"/>
                <a:ext cx="26384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 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Text Box 7"/>
          <p:cNvSpPr/>
          <p:nvPr/>
        </p:nvSpPr>
        <p:spPr>
          <a:xfrm>
            <a:off x="1684440" y="459756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8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DE5F-CF90-42A3-89C8-31E0642307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standard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rive homogeneous coordinate transformation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build arbitrary transformation matrices from simple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879-CC23-443F-B680-D18053AD50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transformation maps points to other points and/or vectors to other ve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N04F34"/>
          <p:cNvPicPr/>
          <p:nvPr/>
        </p:nvPicPr>
        <p:blipFill>
          <a:blip r:embed="rId1"/>
          <a:stretch/>
        </p:blipFill>
        <p:spPr>
          <a:xfrm>
            <a:off x="1828800" y="2693880"/>
            <a:ext cx="3657600" cy="2975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668320" y="46483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T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555160" y="26668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7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3F08-1B5B-4134-90CF-73A2814D42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ffine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e preser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aracteristic of many physically important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id body transformations: rotation, trans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ing, sh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ortance in graphics is that we need only transform endpoints of line segments and let implementation draw line segment between the transformed end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2F11-486D-42A7-BD5A-1F5A11A5CF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peline Implem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828800" y="3200400"/>
            <a:ext cx="2286000" cy="990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066680" y="3733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11480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257800" y="3200400"/>
            <a:ext cx="1981080" cy="990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72388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0120" y="4419720"/>
            <a:ext cx="9903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144800" y="5105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992160" y="3124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8268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297180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8209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268160" y="3124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344480" y="3886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543800" y="5257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8610480" y="4343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990720" y="52578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762120" y="4724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6859080" y="4876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963600" y="5181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5182560" y="4419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8154360" y="3809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3809880" y="53341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1"/>
          <p:cNvSpPr/>
          <p:nvPr/>
        </p:nvSpPr>
        <p:spPr>
          <a:xfrm>
            <a:off x="495288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348480" y="55278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3809160" y="5562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7012080" y="55278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5"/>
          <p:cNvSpPr/>
          <p:nvPr/>
        </p:nvSpPr>
        <p:spPr>
          <a:xfrm>
            <a:off x="1600200" y="5791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029200" y="5791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7385760" y="278460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3195720" y="205740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application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A17-26B9-47C7-9294-DF4278902A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be working with both coordinate-free representations of transformations and representations within a particular 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,Q, R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ints in an affine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, v, 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vectors in an affine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scal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representations of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rray of 4 scalars in homogeneous coordin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representations of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rray of 4 scalars in homogeneous coordin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40E-4D97-4259-B98F-5577BB81FE0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Translation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ve (translate, displace) a point to a new lo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cement determined by a vector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’=P+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6942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929120" y="2209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021120" y="4073400"/>
            <a:ext cx="15228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4849920" y="2549520"/>
            <a:ext cx="152280" cy="152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3173400" y="2701800"/>
            <a:ext cx="16765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149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10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3400-926F-4EF5-87C8-AD2C89CEAE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ow  many ways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hough we can move a point to a new location in infinite ways, when we move many points there is usually only one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BOOK\OpenGL\Paul Final\Art\jpeg\AN04F35a.jpg"/>
          <p:cNvPicPr/>
          <p:nvPr/>
        </p:nvPicPr>
        <p:blipFill>
          <a:blip r:embed="rId1"/>
          <a:stretch/>
        </p:blipFill>
        <p:spPr>
          <a:xfrm>
            <a:off x="685800" y="3124080"/>
            <a:ext cx="211140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BOOK\OpenGL\Paul Final\Art\jpeg\AN04F35b.jpg"/>
          <p:cNvPicPr/>
          <p:nvPr/>
        </p:nvPicPr>
        <p:blipFill>
          <a:blip r:embed="rId2"/>
          <a:stretch/>
        </p:blipFill>
        <p:spPr>
          <a:xfrm>
            <a:off x="4114800" y="2819520"/>
            <a:ext cx="4237200" cy="2892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143000" y="5562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184640" y="556272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: every point dis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am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8"/>
          <p:cNvSpPr/>
          <p:nvPr/>
        </p:nvSpPr>
        <p:spPr>
          <a:xfrm>
            <a:off x="45720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3:43:13Z</dcterms:created>
  <dc:creator>Ed Angel</dc:creator>
  <dc:description/>
  <dc:language>en-US</dc:language>
  <cp:lastModifiedBy>Ed Angel</cp:lastModifiedBy>
  <dcterms:modified xsi:type="dcterms:W3CDTF">2014-03-31T17:47:12Z</dcterms:modified>
  <cp:revision>116</cp:revision>
  <dc:subject/>
  <dc:title>PowerPoint Presentation</dc:title>
</cp:coreProperties>
</file>