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4F3-E42E-43E7-A797-24CE4555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6A88-C4EA-4EB8-9D86-F6E9D4AC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AE4-BE1E-45EF-AA79-4A7A3CA7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8778-B1B3-49FD-9204-BAB3F6A5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1C9-9FD0-4356-9EC6-435374D1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326A-BDDA-4BC9-B1D1-AA7E85DD5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106B-46F3-40AF-9893-A71B18DBD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F948-F3F0-4C42-B3F1-6CC69C07B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9B73-A0F1-4ED2-8860-133D32F86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9B9-55B0-47FC-AEA7-EE8B0F846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A31-557C-4A97-95D7-D31B6E5D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B384-7631-4652-930B-831FD2D58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816-2170-4FBA-8A81-B50627DA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CAF-79CE-4D13-A1E7-1EC1128F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808-E236-43F3-BF7B-4336B80E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67F8-E9EA-46CC-8C02-000452D8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3F6-E1C9-474A-BFDD-E3D896006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F124-B1B4-43D0-B2D3-09A17F5A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9DB-DDC8-4C1E-9582-8A5A83994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F7ED-ECC1-48BD-9415-374A82B9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853-DE2F-4CC0-B843-C45E2A4C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5538-4AC6-47BA-9C8B-C32042D7B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B98D-EF7F-41BF-9134-185EF369E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223F-8529-4090-9715-E51C89E6B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5716-F8E2-4266-A16C-88F9B714F0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D3B5-4D8A-46CD-A502-520D27694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30B2-CE47-4B1B-98DF-1EAF03E86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17DE-90DC-4BB5-B8DB-B5D2862B7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CF06-5DEF-4352-BD21-96D65B14C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E5C6-F14E-49E0-86FA-5356B5D37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1F5D-6397-48A4-82BC-9DEF93EAD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A583-88DB-4CAD-9B9F-1F4E8D658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1AAB-E7BA-4814-BD3C-7EABA13E6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3837-3DD7-4279-9452-8928CD0562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129A-F4F5-4DE1-AB2D-F5D73CB3BB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CA7C-0F0C-4FC3-8825-8596CF0179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e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that we want to create a simple cube object that we can scale, orient, position and set its color directly through code such 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ar mycube = new Cube(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cube.color[0]=1.0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cube.color[1]= mycube.color[2]=0.0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cube.matrix[0][0]=……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55AE-B728-47B4-8DF0-123DA66A7C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e Object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ould also like to have functions that act on the cube such a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ycube.translate(1.0, 0.0,0.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ycube.rotate(theta, 1.0, 0.0, 0.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tcolor(mycube, 1.0, 0.0, 0.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also need a way of displaying the cub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ycube.render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824-9CF4-4DF5-B07F-087BC90ED0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ilding the Cube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ar cube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ar color[3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ar matrix[4][4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AFF2-7983-412C-8800-A3E31DFF09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Implem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e any implementation in the private part such as a vertex li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ivate part has access to public members and the implementation of class methods can use any implementation without making it visi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 method is tricky but it will invoke the standard OpenGL drawing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7F49-117F-4FDD-8210-C98AF94457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ther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objects have geometric asp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we should be able to have nongeometric objects to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tions  (matr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AB0-AC40-4ACC-BAC6-1674A2475C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ube mycub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aterial plastic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cube.setMaterial(plastic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amera frontView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frontView.position(x ,y, z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create much like Java or C++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methods and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0B10-D702-41D0-8AD1-3F4B99A770A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" y="45720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myCube = new Cub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ube.color = [1.0, 0.0, 0.0]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ube.instance = 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695-5E7C-4AD0-9A71-EE2153CFB0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ar myLight = new Light(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 match Phong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Light.type = 0; //direct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Light.position = ……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Light.orientation = ……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Light.specular = ……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Light.diffuse = ……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yLight.ambient = ……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889-7FEB-405C-B9C4-6CAFF03418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ene Descrip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recall figure model, we saw tha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ould describe model either by tree or by equivalent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ould write a generic traversal to 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can represent all the elements of a scene (cameras, lights,materials, geometry) as JS objects, we should be able to show them in a tr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 scene by traversing thi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180-BE18-49F1-A8E2-1678165C6A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ene Grap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581280" y="19051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25"/>
          <p:cNvSpPr/>
          <p:nvPr/>
        </p:nvSpPr>
        <p:spPr>
          <a:xfrm flipH="1">
            <a:off x="4191120" y="24382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27"/>
          <p:cNvSpPr/>
          <p:nvPr/>
        </p:nvSpPr>
        <p:spPr>
          <a:xfrm>
            <a:off x="1447920" y="2666880"/>
            <a:ext cx="571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30"/>
          <p:cNvSpPr/>
          <p:nvPr/>
        </p:nvSpPr>
        <p:spPr>
          <a:xfrm flipH="1">
            <a:off x="7162920" y="26668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32"/>
          <p:cNvSpPr/>
          <p:nvPr/>
        </p:nvSpPr>
        <p:spPr>
          <a:xfrm flipH="1">
            <a:off x="3123720" y="26668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6477120" y="28195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2514600" y="28195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4495680" y="28195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6"/>
          <p:cNvSpPr/>
          <p:nvPr/>
        </p:nvSpPr>
        <p:spPr>
          <a:xfrm>
            <a:off x="838080" y="28195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38"/>
          <p:cNvSpPr/>
          <p:nvPr/>
        </p:nvSpPr>
        <p:spPr>
          <a:xfrm flipH="1">
            <a:off x="5105520" y="26668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39"/>
          <p:cNvSpPr/>
          <p:nvPr/>
        </p:nvSpPr>
        <p:spPr>
          <a:xfrm flipH="1">
            <a:off x="1447920" y="26668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838080" y="37339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2514600" y="37339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4495680" y="37339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3"/>
          <p:cNvSpPr/>
          <p:nvPr/>
        </p:nvSpPr>
        <p:spPr>
          <a:xfrm>
            <a:off x="6477120" y="37339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2514600" y="46483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4495680" y="46483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6477120" y="46483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53"/>
          <p:cNvSpPr/>
          <p:nvPr/>
        </p:nvSpPr>
        <p:spPr>
          <a:xfrm flipH="1">
            <a:off x="3123720" y="4267080"/>
            <a:ext cx="1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55"/>
          <p:cNvSpPr/>
          <p:nvPr/>
        </p:nvSpPr>
        <p:spPr>
          <a:xfrm flipH="1">
            <a:off x="1447920" y="33526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56"/>
          <p:cNvSpPr/>
          <p:nvPr/>
        </p:nvSpPr>
        <p:spPr>
          <a:xfrm flipH="1">
            <a:off x="3123720" y="3352680"/>
            <a:ext cx="1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57"/>
          <p:cNvSpPr/>
          <p:nvPr/>
        </p:nvSpPr>
        <p:spPr>
          <a:xfrm flipH="1">
            <a:off x="5105520" y="33526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58"/>
          <p:cNvSpPr/>
          <p:nvPr/>
        </p:nvSpPr>
        <p:spPr>
          <a:xfrm flipH="1">
            <a:off x="7162920" y="33526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59"/>
          <p:cNvSpPr/>
          <p:nvPr/>
        </p:nvSpPr>
        <p:spPr>
          <a:xfrm flipH="1">
            <a:off x="5105520" y="42670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60"/>
          <p:cNvSpPr/>
          <p:nvPr/>
        </p:nvSpPr>
        <p:spPr>
          <a:xfrm flipH="1">
            <a:off x="7162920" y="42670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1"/>
          <p:cNvSpPr/>
          <p:nvPr/>
        </p:nvSpPr>
        <p:spPr>
          <a:xfrm>
            <a:off x="838080" y="4648320"/>
            <a:ext cx="12956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62"/>
          <p:cNvSpPr/>
          <p:nvPr/>
        </p:nvSpPr>
        <p:spPr>
          <a:xfrm flipH="1">
            <a:off x="1447920" y="42670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3"/>
          <p:cNvSpPr/>
          <p:nvPr/>
        </p:nvSpPr>
        <p:spPr>
          <a:xfrm>
            <a:off x="6477120" y="5562720"/>
            <a:ext cx="129528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64"/>
          <p:cNvSpPr/>
          <p:nvPr/>
        </p:nvSpPr>
        <p:spPr>
          <a:xfrm flipH="1">
            <a:off x="7162920" y="51814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32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raphical Objects and Scene Graphs 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32767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E832-DAD6-46F2-92F3-BB629DA674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9EE-1BF3-4FD3-8757-49BED4BFFB2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vers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yScene = new Scene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yLight = new Light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yLight.Color = ……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yscene.Add(myLight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object1 = new Object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object1.color =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yscene.add(object1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yscene.render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88C7-405C-4048-8DD6-7C9B556153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graphical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ize the notion of objects to include lights, cameras, attrib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scene graph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735-EFE8-44C0-8092-50A1CFF6A1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mitations of Immediate Mode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we define a geometric object in an application, upon execution of the code the object is passed through the pipelin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then disappeared from the graphical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redraw the object, either changed or the same, we had to reexecute the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y lists provided only a partial solution to this probl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tained Mode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y lists were server s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PUs allowed data to be stored on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sentially all immediate mode functions have been deprec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vertheless, OpenGL is a low level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146E-B87C-4E5D-8987-2C90B41F460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6790-5649-45E9-B28D-07DC2DFFCF8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and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lacks an object orien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, for example, a green sp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model the sphere with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color is determined by the OpenGL state and is not a property of th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linkage with vertex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es our notion of a physical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try to build better objects in code using object-oriented languages/techniq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6B53-F885-413A-A5AD-FD8C4BA4FF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perative Programming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rotate a cub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rotation function must know how the cube is represen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g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752480" y="2743200"/>
            <a:ext cx="175284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257800" y="2743200"/>
            <a:ext cx="1752480" cy="1066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757160" y="304812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440320" y="304632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505320" y="3048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"/>
          <p:cNvSpPr/>
          <p:nvPr/>
        </p:nvSpPr>
        <p:spPr>
          <a:xfrm flipH="1">
            <a:off x="3505320" y="3505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569760" y="23605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812040" y="3733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12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F786-5451-40ED-896F-76A933E584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-Oriented Programming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752480" y="2743200"/>
            <a:ext cx="175284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257800" y="2743200"/>
            <a:ext cx="175248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757160" y="304812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184360" y="3048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50532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odel, the representation is stored with th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 send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contains function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ich allow it to transfor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634920" y="3316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10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9FC4-2035-4204-9C36-C7CE47C7F8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/C++/Java/J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try to use C structs to build objec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++/Java/JS provide better suppor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lass constr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C++ we can hide implementation using public, private, and protected members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S provides multiple methods for obj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40:34Z</dcterms:created>
  <dc:creator>Ed Angel</dc:creator>
  <dc:description/>
  <dc:language>en-US</dc:language>
  <cp:lastModifiedBy>Ed Angel</cp:lastModifiedBy>
  <dcterms:modified xsi:type="dcterms:W3CDTF">2014-03-31T17:57:13Z</dcterms:modified>
  <cp:revision>299</cp:revision>
  <dc:subject/>
  <dc:title>PowerPoint Presentation</dc:title>
</cp:coreProperties>
</file>