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113-8337-4D06-BF7F-05D6D4E9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6BF-B7F1-46A8-BEB4-C8DBEA72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3FB-64D9-4384-A496-9B00A781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244-1772-4FB9-8A78-35AC5043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1531-A341-4FE2-9E10-19A58DAB7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A661-6D06-47C4-BFBA-3DDC789FA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61F-15C3-43C6-BF69-0D105F2C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055A-15BF-4230-A405-A8CF13D5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CB7-355D-4039-BE5C-EBE5B62B0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0A3-35C9-4CD3-ACF5-10BEA56A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7D0-12A8-49F4-A43A-867BB933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EB01-F7D4-4968-8C99-75EFBB09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2FDB-7488-42E5-B0AE-14B136D6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4CAE-E720-4C0A-8FE4-4981DA348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054F-5326-42A5-A332-62B7659A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2BA6-B2AA-4763-88D2-C48708C7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312D-F36B-4F21-96B3-F82D69054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2070-C601-471D-A952-BF4E11F46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65C3-3445-495C-83A1-89CC9DF38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5203-852D-400F-8731-3DCDF54B9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7080-DAC5-4B8D-A4C7-C21C70358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FBD-D654-461D-8309-6EBE446CE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DADA-8799-4B0B-AA3D-2160B127E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865F-FFC5-4ADF-84AB-8A2170719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075D-1D00-4A76-9B7E-F19A0D69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90E3-5AB7-4FB0-B45A-7EB0F19DD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4DCB-252D-453F-B669-82C98FAD1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3249-7F4B-4997-8374-80146E9AD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E6A-F4D5-47BC-B794-7E3DFE6E79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476-B929-4EBB-90B2-E5DFDE52E3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A9D0-677B-4E71-A65E-3F752E87FE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WebGL Orthogonal Viewing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ortho(left,right,bottom,top,near,fa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8520" y="5611680"/>
            <a:ext cx="51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600200" y="2106720"/>
            <a:ext cx="5029200" cy="324144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6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F92E-80BA-47E7-B984-D42D3507F6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WebGL Perspectiv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ustum(left,right,bottom,top,near,fa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77040" cy="35672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H="1">
            <a:off x="1752480" y="44956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6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35A-60AB-45CD-87A0-88147E9C76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Using Field of View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ust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t is often difficult to get the desired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perpective(fovy, aspect, near, far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ften provides a better inter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:\BOOK\OpenGL\Paul Final\Art\jpeg\AN05F28.jpg"/>
          <p:cNvPicPr/>
          <p:nvPr/>
        </p:nvPicPr>
        <p:blipFill>
          <a:blip r:embed="rId1"/>
          <a:stretch/>
        </p:blipFill>
        <p:spPr>
          <a:xfrm>
            <a:off x="1295280" y="3505320"/>
            <a:ext cx="3810240" cy="3030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629320" y="44496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p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5181120" y="388620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019200" y="36576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8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ing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5235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in JS file, send to vertex shader with gl.uniformMatrix4f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ynamic: update in render() or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87E7-9E87-42A3-81B6-8535B6A5D4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persepctive2.tiff"/>
          <p:cNvPicPr/>
          <p:nvPr/>
        </p:nvPicPr>
        <p:blipFill>
          <a:blip r:embed="rId1"/>
          <a:srcRect l="0" t="0" r="0" b="68706"/>
          <a:stretch/>
        </p:blipFill>
        <p:spPr>
          <a:xfrm>
            <a:off x="838080" y="4572000"/>
            <a:ext cx="4394160" cy="208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ersepctive2.tiff"/>
          <p:cNvPicPr/>
          <p:nvPr/>
        </p:nvPicPr>
        <p:blipFill>
          <a:blip r:embed="rId2"/>
          <a:srcRect l="0" t="41222" r="0" b="0"/>
          <a:stretch/>
        </p:blipFill>
        <p:spPr>
          <a:xfrm>
            <a:off x="4572000" y="1447920"/>
            <a:ext cx="4394160" cy="39114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6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epctive2.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70D4-5909-4E22-9336-3E275B292BD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8600" y="1752480"/>
            <a:ext cx="86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render = functio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lear( gl.COLOR_BUFFER_BIT | gl.DEPTH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= vec3(radius*Math.sin(theta)*Math.cos(phi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*Math.sin(theta)*Math.sin(phi), radius*Math.cos(thet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ViewMatrix = lookAt(eye, at , u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Matrix = perspective(fovy, aspect, near, f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Matrix4fv( modelViewMatrixLoc, fal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ten(modelViewMatrix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Matrix4fv( projectionMatrixLoc, fal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ten(projectionMatrix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drawArrays( gl.TRIANGLES, 0, NumVertice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AnimFrame(rend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296-DBC4-487B-BD6A-94C2AB26231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533520" y="18288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vec4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modelView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at4 projectionMatri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projectionMatrix*modelViewMatrix*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lor =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016D-996E-43D7-8177-8AAC25AC5FC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Viewing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7FD0-D8A8-4325-A3C8-F2AFD64681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mathematics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 WebGL projection functions in MV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82E9-02D8-47B4-9475-E0A79DC577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rojections and Normaliz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fault projection in the eye (camera) frame is orthogona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points within the default view volu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graphics systems us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iew normaliz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ther views are converted to the default view by transformations that determine the projection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use of the same pipeline for all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665520" y="3124080"/>
            <a:ext cx="898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758D-402E-4241-9144-9DA8061AFE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Homogeneous Coordinate Representa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1371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821400" y="2286000"/>
            <a:ext cx="11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796480" y="38098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557520" y="3048120"/>
                <a:ext cx="20289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Text Box 11"/>
          <p:cNvSpPr/>
          <p:nvPr/>
        </p:nvSpPr>
        <p:spPr>
          <a:xfrm>
            <a:off x="1600560" y="5334120"/>
            <a:ext cx="50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we can 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zero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32520" y="159876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orthographic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9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67F4-0AB1-44AC-BB4F-A2895E6F51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Simple Perspectiv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nter of projection at the orig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ion plan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BOOK\OpenGL\Paul Final\Art\jpeg\AN05F22.jpg"/>
          <p:cNvPicPr/>
          <p:nvPr/>
        </p:nvPicPr>
        <p:blipFill>
          <a:blip r:embed="rId1"/>
          <a:srcRect l="0" t="0" r="65129" b="9822"/>
          <a:stretch/>
        </p:blipFill>
        <p:spPr>
          <a:xfrm>
            <a:off x="2362320" y="27432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B90-085B-4D93-9132-63BE761A07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erspective Equation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op and side vie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BOOK\OpenGL\Paul Final\Art\jpeg\AN05F22.jpg"/>
          <p:cNvPicPr/>
          <p:nvPr/>
        </p:nvPicPr>
        <p:blipFill>
          <a:blip r:embed="rId1"/>
          <a:srcRect l="32822" t="0" r="0" b="10416"/>
          <a:stretch/>
        </p:blipFill>
        <p:spPr>
          <a:xfrm>
            <a:off x="533520" y="2133720"/>
            <a:ext cx="7486560" cy="3103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969480" y="5375160"/>
            <a:ext cx="65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406760" y="3232080"/>
                <a:ext cx="330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5257800"/>
                <a:ext cx="703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3102840" y="5375160"/>
            <a:ext cx="65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809880" y="5257800"/>
                <a:ext cx="70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Text Box 13"/>
          <p:cNvSpPr/>
          <p:nvPr/>
        </p:nvSpPr>
        <p:spPr>
          <a:xfrm>
            <a:off x="5342040" y="5410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11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9C38-6EC2-4A8F-A091-57BF3C97B5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Homogeneous Coordinate Form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115520" y="21337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800600" y="1523880"/>
                <a:ext cx="251460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66880" y="3733920"/>
                <a:ext cx="75564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181480" y="3733920"/>
                <a:ext cx="115272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z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Text Box 12"/>
          <p:cNvSpPr/>
          <p:nvPr/>
        </p:nvSpPr>
        <p:spPr>
          <a:xfrm>
            <a:off x="1906560" y="47242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846960" y="46832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10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70B-99CF-47BE-A8E4-C3F80C9F1D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erspective Divis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1, so we must divide by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return from homogeneous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erspective divis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yiel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sired perspective equ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consider the corresponding clipping volume with mat.h functions that are equivalent to deprecated OpenGL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226520" y="3505320"/>
            <a:ext cx="65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33560" y="3387600"/>
                <a:ext cx="703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3360240" y="3505320"/>
            <a:ext cx="65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067280" y="3387600"/>
                <a:ext cx="703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Text Box 8"/>
          <p:cNvSpPr/>
          <p:nvPr/>
        </p:nvSpPr>
        <p:spPr>
          <a:xfrm>
            <a:off x="5599080" y="35402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9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0:16:30Z</dcterms:created>
  <dc:creator>Ed Angel</dc:creator>
  <dc:description/>
  <dc:language>en-US</dc:language>
  <cp:lastModifiedBy>Ed Angel</cp:lastModifiedBy>
  <dcterms:modified xsi:type="dcterms:W3CDTF">2014-03-31T17:49:39Z</dcterms:modified>
  <cp:revision>149</cp:revision>
  <dc:subject/>
  <dc:title>PowerPoint Presentation</dc:title>
</cp:coreProperties>
</file>