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FC5-3D22-46BE-8334-41537E20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0F0-72AF-4764-946A-38B017F9E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3AC4-FF78-4920-831D-720C6D704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1362-4C6F-4E0D-B46E-479D82217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AF54-8BEB-4B1A-8712-D1F00348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CC0D-3267-46FC-9643-24851F2E20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708B-8A8A-4005-AD8A-09F6BE8C8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C0DB-8A6B-4751-9504-7B7FF5DD6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848C-D062-4D68-898E-B8DDA81A5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4A69-D12B-4388-91DA-094F99161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E142-DB30-4229-BD58-32DDCA6B8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F377-66FA-4DB2-9B52-E8219CA81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31B0-C7D2-42E8-A0B1-B4016C119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4345-8057-4610-8F4E-B070665ED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1EC-DA5F-4DC3-AFC9-EFF7A7F490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A658-CD75-47B0-95D8-4B776FBBE1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C8F7-06D8-4526-888D-9547E4956A5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Arial"/>
              </a:rPr>
              <a:t>Bump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ue6"/>
          <p:cNvPicPr/>
          <p:nvPr/>
        </p:nvPicPr>
        <p:blipFill>
          <a:blip r:embed="rId1"/>
          <a:stretch/>
        </p:blipFill>
        <p:spPr>
          <a:xfrm>
            <a:off x="2819520" y="1828800"/>
            <a:ext cx="4257720" cy="4257720"/>
          </a:xfrm>
          <a:prstGeom prst="rect">
            <a:avLst/>
          </a:prstGeom>
          <a:ln w="0">
            <a:noFill/>
          </a:ln>
        </p:spPr>
      </p:pic>
      <p:sp>
        <p:nvSpPr>
          <p:cNvPr id="94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626-7210-4E4F-B1B8-012ACA5F0D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ere does mapping take place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pping techniques are implemented at the end of the rendering pipe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efficient because few polygons make it past the clipp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AN08F26.EPS"/>
          <p:cNvPicPr/>
          <p:nvPr/>
        </p:nvPicPr>
        <p:blipFill>
          <a:blip r:embed="rId1"/>
          <a:stretch/>
        </p:blipFill>
        <p:spPr>
          <a:xfrm>
            <a:off x="762120" y="3581280"/>
            <a:ext cx="7466040" cy="175284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7F5-D03F-41A1-8684-5A4BBB98D7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489-027D-4A06-B8A1-83E36664E9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Mapping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basic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vs backward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sampling vs area aver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168-46C2-47BC-B989-9C1EC1C465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Limits of Geometric Model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hough graphics cards can render over 10 million polygons per second, that number is insufficient for many phenome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5EB-DC43-4C36-9464-5A07EB1964A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ing an Orang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problem of modeling an orange (the frui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ith an orange-colored sp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lace sphere with a more complex shap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not capture surface characteristics (small dimp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s too many polygons to model all the d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6DF-E0AE-4588-8F39-7B34378F950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ing an Orange (2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ke a picture of a real orange, scan it, and “paste” onto simple geometric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cess is known as texture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might not be sufficient because resulting surface will be smoo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change local 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223D-78F4-43CE-AB02-F90DE7F496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 Types of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images to fill inside of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 (reflection mapping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a picture of the environment for texture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simulation of highly specular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ulates altering normal vectors during the rendering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5E0-EE2E-484F-8E12-EAC076345A8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xture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0" name="Picture 5" descr="hue1"/>
          <p:cNvPicPr/>
          <p:nvPr/>
        </p:nvPicPr>
        <p:blipFill>
          <a:blip r:embed="rId1"/>
          <a:stretch/>
        </p:blipFill>
        <p:spPr>
          <a:xfrm>
            <a:off x="4876920" y="1600200"/>
            <a:ext cx="3733560" cy="373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ue4"/>
          <p:cNvPicPr/>
          <p:nvPr/>
        </p:nvPicPr>
        <p:blipFill>
          <a:blip r:embed="rId2"/>
          <a:stretch/>
        </p:blipFill>
        <p:spPr>
          <a:xfrm>
            <a:off x="609480" y="1600200"/>
            <a:ext cx="3724560" cy="3724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273320" y="56372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488560" y="56386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m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7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FB17-5C87-4880-80D0-AB9DA213C69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nvironment Mapping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ue7"/>
          <p:cNvPicPr/>
          <p:nvPr/>
        </p:nvPicPr>
        <p:blipFill>
          <a:blip r:embed="rId1"/>
          <a:stretch/>
        </p:blipFill>
        <p:spPr>
          <a:xfrm>
            <a:off x="2438280" y="1752480"/>
            <a:ext cx="4181760" cy="4181760"/>
          </a:xfrm>
          <a:prstGeom prst="rect">
            <a:avLst/>
          </a:prstGeom>
          <a:ln w="0">
            <a:noFill/>
          </a:ln>
        </p:spPr>
      </p:pic>
      <p:sp>
        <p:nvSpPr>
          <p:cNvPr id="89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14-03-31T17:53:04Z</dcterms:modified>
  <cp:revision>196</cp:revision>
  <dc:subject/>
  <dc:title>PowerPoint Presentation</dc:title>
</cp:coreProperties>
</file>