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dt" idx="25"/>
          </p:nvPr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 type="ftr" idx="26"/>
          </p:nvPr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 type="sldNum" idx="27"/>
          </p:nvPr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F7CF3F-2174-40A9-931F-A3114897518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7637C1-BD86-4750-850F-82EB4FAB386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4C83DE-4A24-4560-A015-0A1F10ED781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02D337-F68E-4851-A868-05DB52ED2D4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F0E52F-EE6C-4250-A04A-950751F5CC0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77B4DA-76D1-4E04-A32A-58C593C0EF8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98C138-EBF6-4EEB-839E-E6DF72CD155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E7E62F-1ED1-4E57-885D-8D48E00270D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659251-D2C4-4A4E-8E5B-12B93F4150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99204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414F84-16CD-4528-A143-9F446170AA26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098AF75-F8A8-452D-85BC-B055CFDFC1A7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61DAD09-425E-43BB-A07A-6B83A60A8EC8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624852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9BA543F-E257-4BCF-84D6-AAED5C41AE7A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B5D9DE3-0D9D-49BC-83CE-F53FB12E4832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66848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3646ACB-1052-4F1B-BFA1-5503D1D4D0D4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C928A0C-AFE6-4436-836B-5B62E4CBE5B4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685800" y="399204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BA14206-5AEE-4483-B1C6-BEB641431454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66848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A3377B1-3FD9-4693-9128-10EC117C4B80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68580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31380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594144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A969AE5-78B8-4B65-B578-52A0684E960E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1FE3689-272A-4402-8F09-9ADEFA6982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869E2A-A330-4D29-BAA0-E2C5531CC67C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22536C7-BA74-48AE-899D-76296267FF58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A54A5E8-DE35-4FB6-A34A-1199A620616D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17163CB-F79E-444E-B451-0B6117A8F865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F4EB589-0632-4400-95ED-12FED1F3BA0E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624852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9B03EBA-0D7E-4ABB-8838-263435DC920C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25A7580-BAC1-4FFA-A36C-465C5F25642C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6848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DD60A56-B411-4C94-8A19-46E67EFEA1AD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1E4390F-838C-4363-8C7D-F5BAB863D491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685800" y="399204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56F6F79-BE5E-49FE-AC85-1C936762BCCF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6848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576FE35-503F-416B-BA30-652D8812A8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A22BB0-F2B7-42B6-B3FA-55F70CCE46E0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68580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31380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594144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0A76D8E-4F10-471D-93E4-3BA5CD5B803C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D01FE6-2D11-44CB-821E-CD8BF15E4B07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575859-2376-4FD8-8851-B3CCBB34FD85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0AFAB9-B04D-4CDD-BCF5-94DF1CDB6BBB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121816-A068-4299-8D1F-531838837E57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FB3EF8-0E63-4248-9D7E-143BEBDB2813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624852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7DAD22-AB10-43BF-BA6A-193F6A5EC119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1F9A2E-3ADA-4BED-9336-2CD1F51125FB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66848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D3C5CF-3B93-4FB7-85BF-1337003745CA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13CE4A-93EF-45FE-BD90-643D2E527C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76611-B325-42C3-9666-E5D2AC34BF9F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685800" y="399204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1816CA-D28F-412E-961B-9EC1326E0C5D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66848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23B7B5-D475-4EA3-89C2-ED954FB786F1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68580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6"/>
          <p:cNvSpPr>
            <a:spLocks noGrp="1"/>
          </p:cNvSpPr>
          <p:nvPr>
            <p:ph/>
          </p:nvPr>
        </p:nvSpPr>
        <p:spPr>
          <a:xfrm>
            <a:off x="331380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7"/>
          <p:cNvSpPr>
            <a:spLocks noGrp="1"/>
          </p:cNvSpPr>
          <p:nvPr>
            <p:ph/>
          </p:nvPr>
        </p:nvSpPr>
        <p:spPr>
          <a:xfrm>
            <a:off x="594144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2D3CE2-6447-4245-8CF8-73147D56D2A6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8FDC568-B96F-4D6B-80F8-397F7553252F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4B294F9-227C-4AF4-98E1-A7801A89096B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D9DEE5D-1FE4-417C-986B-7C311E43154E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AA08F3B-D379-4610-8B2A-965C5DB42127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DC5B9A2-0790-42F2-82C8-ACF698C7EE48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624852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1C21DEE-D394-45CA-8122-8B3D273FCFBA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383BBF9-0F44-4BEB-A2E8-277A93C631F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07D87-E1B1-4E59-993C-D68267185FF0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6848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766DD73-457F-4CA1-82DB-44C931345CF8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0B74704-220E-424E-8674-476DB32623D0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685800" y="399204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EB99E28-1B4A-4B1E-8A2C-CF1FC2E6EDED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6848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E58A0A0-5254-4833-AA85-A1E8BEE68D1D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68580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31380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594144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D48D048-2393-4F81-B119-B42F03A5077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DE9E3-CF52-471C-BF85-920F286F409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82A1F-8D9F-4979-8165-44E294232BB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00A89-5D63-40FC-A34B-9B70084E534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624852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EA653-C44E-4B0D-ABB5-A403FD1A85A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7DC74-4325-422F-9070-E9B6B76D149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6DAD19-77A6-4B55-B786-18CBAD60DB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044F6-CC60-4B0B-A8D2-C731F402B27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01FB6-E099-49D7-8A1C-6D11AD80F8D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399204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1CAE7-E748-400D-9710-8EC078F62A0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CB672-FE94-422B-8760-A6306091B90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6E716-A1C7-48F7-90A2-AF34BA820198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CF9D25-3E68-445D-90B6-2E594BE8EFD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ACC9D8-7220-4E21-9BF1-C19AD6C52E7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0A5FCB-A96F-457A-A6C7-4FD978649DD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D80D4F-E93A-4AA7-B62F-C67890C65D7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DD2F2F-4565-4EFC-91A9-CEDFDC7AB8C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A7154E-A03B-441A-9945-A314DD0745D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624852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2961CC-DB28-4175-BE1E-6B627A81487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C0A58A-D9BA-4D1F-B051-43A6A21718F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6848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4BCD24-8EA0-4ED7-A7FB-0B92CD92D54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56D668-3339-4E69-A13F-45C72BD7931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685800" y="399204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1C4EBA-97B7-4E52-89CB-D486B9D94E1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6848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84596D-C0EB-4C72-B014-0A78C37C60B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68580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1380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4144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4BCE4C-2A12-42DA-9B2B-6FE19411608F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D46B72B-9BC2-4A6D-B575-DA0DE1A60C66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0AE69C1-FDC1-4595-BBEE-1009F404E642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0B76D5B-4ACA-49E3-B38A-6AD5EA37C3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7CE97F-2AEC-423D-BB80-89A7BD94566A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D65BD22-A46A-4676-A9AA-21EDC39AE4B7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DA9107E-0D05-4908-963B-B4D97DEF3FD3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624852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D2235F8-D9C7-4C8F-90E6-6D78B2567179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27F139E-F8C9-4EEB-9F6E-D47B3EA1C36E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6848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29258BA-4BD2-48DF-A5A6-DB8353B8907F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BC4581D-106D-48EB-9201-5DC21C0333D7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685800" y="399204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4FBC50F-7DAE-415C-89A8-BB09641135EB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6848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D5DFAB0-A347-438F-904F-6307E476E43F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68580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31380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94144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586EAF9-F220-4224-B5F6-D2AC31C88EFA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E44733-A6DD-46EC-B3E5-BCF3721895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627A4E-7230-401F-9CF8-544C117B1094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14C6B8-8FCD-40E3-84BA-8F0CFCBD8B73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272E17-A795-4B6E-BA9B-3AD6BBA73F50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29C1C0-99D5-4816-8A53-42B4FC8D1DAC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0343E2-EA33-4977-BD4A-50E17DBB657E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624852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94482B-ACF6-4937-B562-068934BB5A79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05651E-467C-4090-BB59-9349C6EBA019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6848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15A709-E04D-496B-9E0E-FC63317CE170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9D0C01-850C-4030-8BD2-17D921DD555B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685800" y="399204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5C3FB0-A0F7-4819-AED0-EB1BEE99059B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6848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40DC83-A5F5-41CD-B385-C4FC74B725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624852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288C31-31F7-42D3-9D37-A47A8900AEE2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68580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31380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94144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D12847-4155-4849-8897-D452493AE777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964CFD7-0A7D-433E-9CED-396C39B23FED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C301B87-8C3D-444C-A198-6925E43CEA9A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CC0DC41-149A-49CA-9733-140E9A9610A5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9350045-8D36-4321-844A-EB03B05001DB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8174EBC-EB5E-4E53-B685-6CF17E7BEAF7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624852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24C97B5-6B41-4F2D-B88A-1A68A5D385F3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B8C57B9-00E9-45DA-A683-5FD3E54E5020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6848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12C05A3-6BC6-47AD-9525-65A4888E9D57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3C63475-D157-48BD-9C64-BEAAD06EFC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D639CB-4A08-4F92-8A26-931175D237C2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685800" y="399204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A8C7783-DB7F-4C3E-B305-BA3E1B386C00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6848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87E45C1-C862-49E3-B3A6-4C03D3E85A9B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68580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31380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594144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144C23C-FCF7-4F18-9645-A21F311B3352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E6D0F89-979C-4E6A-A1CE-E81C1A27B6C8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1D0FC3F-7312-4263-A1A8-6C941258200A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6974C0A-0149-441D-9C34-7373DB0C5089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E5AA10D-AC43-41DA-8247-7060886CFD5A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229CEB1-08EE-42B9-B65C-0849824F1056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624852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44B2109-A221-49DB-ABF4-4A41521FCCA6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21303D8-AF48-4FB7-8CDA-1420E8F689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056A38-CC4D-4829-9231-19A85780980E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6848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8CF1490-9426-4CBF-8D3E-2C393B85D170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96EBBBD-B2C8-4DE8-BCEC-0FC5E0B5A907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685800" y="399204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7AC2201-0B3C-420D-91CE-DDDFFCDF609B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6848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B917CEA-15BC-4F49-97CA-7FA9A3FFD9DA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68580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31380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594144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E84EB38-753F-43EB-B55F-80766EA5BB49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102DA5-C76D-4F13-95FB-41B1788DF3FD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D749B1-DBC0-4855-8A12-54A16E24E2FA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032CF1-35B1-4F45-B22B-9E789C09412B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585653-6520-40CE-8364-EF05D7342FB9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20EE17-9F07-41DA-8F8A-1FB6FCADE1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C4A95B-048A-44CD-AB06-7D7D2D8A6993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624852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50C839-0A39-4E0F-B2C3-6A94A30120CE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16EB86-5048-45C6-9591-95E33246DD1F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6848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395B57-D330-4AAE-8FF6-0F0BF78E66C6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D0BBB2-AA91-4DEB-B487-FF57F9106689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685800" y="399204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F6364B-0A5A-42F5-91FF-6E58E706EFAA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6848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89B467-7648-4D97-BEB7-F94CC4F274AA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68580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31380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594144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FBAAA7-FBD8-4439-B252-38BFB8EE12DB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E570EC2-B32C-4B82-B241-E84AB169152F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FC8E3C7-0E97-4C31-AC8A-F71706E1AE0A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737CEC7-D51A-40D3-8FC9-49B0281CEC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774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190440">
              <a:spcBef>
                <a:spcPts val="774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077320" y="6324120"/>
            <a:ext cx="38088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D57A1-D76B-417E-B664-D47BDC742FCC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1447920"/>
            <a:ext cx="617220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graphicFrame>
        <p:nvGraphicFramePr>
          <p:cNvPr id="4" name=""/>
          <p:cNvGraphicFramePr/>
          <p:nvPr/>
        </p:nvGraphicFramePr>
        <p:xfrm>
          <a:off x="152280" y="228600"/>
          <a:ext cx="1371600" cy="990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228600"/>
                    <a:ext cx="137160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1143000" y="6324120"/>
            <a:ext cx="6477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Line 5"/>
          <p:cNvSpPr/>
          <p:nvPr/>
        </p:nvSpPr>
        <p:spPr>
          <a:xfrm>
            <a:off x="609480" y="1447920"/>
            <a:ext cx="617220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graphicFrame>
        <p:nvGraphicFramePr>
          <p:cNvPr id="388" name=""/>
          <p:cNvGraphicFramePr/>
          <p:nvPr/>
        </p:nvGraphicFramePr>
        <p:xfrm>
          <a:off x="152280" y="228600"/>
          <a:ext cx="1371600" cy="990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8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228600"/>
                    <a:ext cx="137160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774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190440">
              <a:spcBef>
                <a:spcPts val="774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sldNum" idx="19"/>
          </p:nvPr>
        </p:nvSpPr>
        <p:spPr>
          <a:xfrm>
            <a:off x="8077320" y="6324120"/>
            <a:ext cx="38088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151FB-27C0-4252-B691-50205BF6785C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 type="ftr" idx="20"/>
          </p:nvPr>
        </p:nvSpPr>
        <p:spPr>
          <a:xfrm>
            <a:off x="1143000" y="6324120"/>
            <a:ext cx="6477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Line 5"/>
          <p:cNvSpPr/>
          <p:nvPr/>
        </p:nvSpPr>
        <p:spPr>
          <a:xfrm>
            <a:off x="609480" y="1447920"/>
            <a:ext cx="617220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graphicFrame>
        <p:nvGraphicFramePr>
          <p:cNvPr id="431" name=""/>
          <p:cNvGraphicFramePr/>
          <p:nvPr/>
        </p:nvGraphicFramePr>
        <p:xfrm>
          <a:off x="152280" y="228600"/>
          <a:ext cx="1371600" cy="990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3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228600"/>
                    <a:ext cx="137160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774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190440">
              <a:spcBef>
                <a:spcPts val="774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sldNum" idx="21"/>
          </p:nvPr>
        </p:nvSpPr>
        <p:spPr>
          <a:xfrm>
            <a:off x="8077320" y="6324120"/>
            <a:ext cx="38088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3A684-E304-47CC-AA96-9DEBAA0BB822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 type="ftr" idx="22"/>
          </p:nvPr>
        </p:nvSpPr>
        <p:spPr>
          <a:xfrm>
            <a:off x="1143000" y="6324120"/>
            <a:ext cx="6477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Line 5"/>
          <p:cNvSpPr/>
          <p:nvPr/>
        </p:nvSpPr>
        <p:spPr>
          <a:xfrm>
            <a:off x="609480" y="1447920"/>
            <a:ext cx="617220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graphicFrame>
        <p:nvGraphicFramePr>
          <p:cNvPr id="474" name=""/>
          <p:cNvGraphicFramePr/>
          <p:nvPr/>
        </p:nvGraphicFramePr>
        <p:xfrm>
          <a:off x="152280" y="228600"/>
          <a:ext cx="1371600" cy="990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7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228600"/>
                    <a:ext cx="137160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774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190440">
              <a:spcBef>
                <a:spcPts val="774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 type="sldNum" idx="23"/>
          </p:nvPr>
        </p:nvSpPr>
        <p:spPr>
          <a:xfrm>
            <a:off x="8077320" y="6324120"/>
            <a:ext cx="38088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CC756-3E5E-4769-BA13-70EA38843044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 type="ftr" idx="24"/>
          </p:nvPr>
        </p:nvSpPr>
        <p:spPr>
          <a:xfrm>
            <a:off x="1143000" y="6324120"/>
            <a:ext cx="6477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Line 5"/>
          <p:cNvSpPr/>
          <p:nvPr/>
        </p:nvSpPr>
        <p:spPr>
          <a:xfrm>
            <a:off x="609480" y="1447920"/>
            <a:ext cx="617220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152280" y="228600"/>
          <a:ext cx="1371600" cy="990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228600"/>
                    <a:ext cx="137160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774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190440">
              <a:spcBef>
                <a:spcPts val="774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3"/>
          </p:nvPr>
        </p:nvSpPr>
        <p:spPr>
          <a:xfrm>
            <a:off x="8077320" y="6324120"/>
            <a:ext cx="38088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05DC4-9BC7-4519-96F3-B3DC69ECB4AE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1143000" y="6324120"/>
            <a:ext cx="6477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Line 5"/>
          <p:cNvSpPr/>
          <p:nvPr/>
        </p:nvSpPr>
        <p:spPr>
          <a:xfrm>
            <a:off x="609480" y="1447920"/>
            <a:ext cx="617220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152280" y="228600"/>
          <a:ext cx="1371600" cy="990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228600"/>
                    <a:ext cx="137160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774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190440">
              <a:spcBef>
                <a:spcPts val="774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Num" idx="5"/>
          </p:nvPr>
        </p:nvSpPr>
        <p:spPr>
          <a:xfrm>
            <a:off x="8077320" y="6324120"/>
            <a:ext cx="38088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093DB-17FD-430D-9731-43F257D18526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6"/>
          </p:nvPr>
        </p:nvSpPr>
        <p:spPr>
          <a:xfrm>
            <a:off x="1143000" y="6324120"/>
            <a:ext cx="6477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Line 5"/>
          <p:cNvSpPr/>
          <p:nvPr/>
        </p:nvSpPr>
        <p:spPr>
          <a:xfrm>
            <a:off x="609480" y="1447920"/>
            <a:ext cx="617220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152280" y="228600"/>
          <a:ext cx="1371600" cy="990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228600"/>
                    <a:ext cx="137160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774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190440">
              <a:spcBef>
                <a:spcPts val="774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sldNum" idx="7"/>
          </p:nvPr>
        </p:nvSpPr>
        <p:spPr>
          <a:xfrm>
            <a:off x="8077320" y="6324120"/>
            <a:ext cx="38088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B3CC9-777E-4537-9F2F-F1E892D71C4C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8"/>
          </p:nvPr>
        </p:nvSpPr>
        <p:spPr>
          <a:xfrm>
            <a:off x="1143000" y="6324120"/>
            <a:ext cx="6477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Line 5"/>
          <p:cNvSpPr/>
          <p:nvPr/>
        </p:nvSpPr>
        <p:spPr>
          <a:xfrm>
            <a:off x="609480" y="1447920"/>
            <a:ext cx="617220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152280" y="228600"/>
          <a:ext cx="1371600" cy="990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228600"/>
                    <a:ext cx="137160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774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190440">
              <a:spcBef>
                <a:spcPts val="774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sldNum" idx="9"/>
          </p:nvPr>
        </p:nvSpPr>
        <p:spPr>
          <a:xfrm>
            <a:off x="8077320" y="6324120"/>
            <a:ext cx="38088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3E9B3-AB2B-4D39-8B65-AF3C7F50D5E5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ftr" idx="10"/>
          </p:nvPr>
        </p:nvSpPr>
        <p:spPr>
          <a:xfrm>
            <a:off x="1143000" y="6324120"/>
            <a:ext cx="6477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Line 5"/>
          <p:cNvSpPr/>
          <p:nvPr/>
        </p:nvSpPr>
        <p:spPr>
          <a:xfrm>
            <a:off x="609480" y="1447920"/>
            <a:ext cx="617220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152280" y="228600"/>
          <a:ext cx="1371600" cy="990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228600"/>
                    <a:ext cx="137160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774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190440">
              <a:spcBef>
                <a:spcPts val="774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sldNum" idx="11"/>
          </p:nvPr>
        </p:nvSpPr>
        <p:spPr>
          <a:xfrm>
            <a:off x="8077320" y="6324120"/>
            <a:ext cx="38088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3077B-4CC6-46BD-A976-50719FE57EF0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ftr" idx="12"/>
          </p:nvPr>
        </p:nvSpPr>
        <p:spPr>
          <a:xfrm>
            <a:off x="1143000" y="6324120"/>
            <a:ext cx="6477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Line 5"/>
          <p:cNvSpPr/>
          <p:nvPr/>
        </p:nvSpPr>
        <p:spPr>
          <a:xfrm>
            <a:off x="609480" y="1447920"/>
            <a:ext cx="617220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graphicFrame>
        <p:nvGraphicFramePr>
          <p:cNvPr id="259" name=""/>
          <p:cNvGraphicFramePr/>
          <p:nvPr/>
        </p:nvGraphicFramePr>
        <p:xfrm>
          <a:off x="152280" y="228600"/>
          <a:ext cx="1371600" cy="990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6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228600"/>
                    <a:ext cx="137160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774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190440">
              <a:spcBef>
                <a:spcPts val="774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sldNum" idx="13"/>
          </p:nvPr>
        </p:nvSpPr>
        <p:spPr>
          <a:xfrm>
            <a:off x="8077320" y="6324120"/>
            <a:ext cx="38088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B9233-E1AE-4994-B446-F8F83EFF18E6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14"/>
          </p:nvPr>
        </p:nvSpPr>
        <p:spPr>
          <a:xfrm>
            <a:off x="1143000" y="6324120"/>
            <a:ext cx="6477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Line 5"/>
          <p:cNvSpPr/>
          <p:nvPr/>
        </p:nvSpPr>
        <p:spPr>
          <a:xfrm>
            <a:off x="609480" y="1447920"/>
            <a:ext cx="617220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graphicFrame>
        <p:nvGraphicFramePr>
          <p:cNvPr id="302" name=""/>
          <p:cNvGraphicFramePr/>
          <p:nvPr/>
        </p:nvGraphicFramePr>
        <p:xfrm>
          <a:off x="152280" y="228600"/>
          <a:ext cx="1371600" cy="990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228600"/>
                    <a:ext cx="137160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774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190440">
              <a:spcBef>
                <a:spcPts val="774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sldNum" idx="15"/>
          </p:nvPr>
        </p:nvSpPr>
        <p:spPr>
          <a:xfrm>
            <a:off x="8077320" y="6324120"/>
            <a:ext cx="38088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24996-DD17-4626-877B-5D7F28A2B429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16"/>
          </p:nvPr>
        </p:nvSpPr>
        <p:spPr>
          <a:xfrm>
            <a:off x="1143000" y="6324120"/>
            <a:ext cx="6477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Line 5"/>
          <p:cNvSpPr/>
          <p:nvPr/>
        </p:nvSpPr>
        <p:spPr>
          <a:xfrm>
            <a:off x="609480" y="1447920"/>
            <a:ext cx="617220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graphicFrame>
        <p:nvGraphicFramePr>
          <p:cNvPr id="345" name=""/>
          <p:cNvGraphicFramePr/>
          <p:nvPr/>
        </p:nvGraphicFramePr>
        <p:xfrm>
          <a:off x="152280" y="228600"/>
          <a:ext cx="1371600" cy="990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228600"/>
                    <a:ext cx="137160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774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190440">
              <a:spcBef>
                <a:spcPts val="774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 type="sldNum" idx="17"/>
          </p:nvPr>
        </p:nvSpPr>
        <p:spPr>
          <a:xfrm>
            <a:off x="8077320" y="6324120"/>
            <a:ext cx="38088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2190D-C8C4-4EA0-9D6F-BC09F3EBD361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 type="ftr" idx="18"/>
          </p:nvPr>
        </p:nvSpPr>
        <p:spPr>
          <a:xfrm>
            <a:off x="1143000" y="6324120"/>
            <a:ext cx="6477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83808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Programming with OpenGL</a:t>
            </a:r>
            <a:br>
              <a:rPr sz="3700"/>
            </a:b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Part 2: Complete Programs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subTitle"/>
          </p:nvPr>
        </p:nvSpPr>
        <p:spPr>
          <a:xfrm>
            <a:off x="609480" y="3276720"/>
            <a:ext cx="784872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d Ang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Professor of Emeritus of Computer Scienc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University of New Mexico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First Assignment: Tessellation and Twist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685440" y="1523880"/>
            <a:ext cx="84582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onsider rotating a 2D point about the origin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Now let amount of rotation depend on distance from origin giving us 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twis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3" name=""/>
              <p:cNvSpPr txBox="1"/>
              <p:nvPr/>
            </p:nvSpPr>
            <p:spPr>
              <a:xfrm>
                <a:off x="2752560" y="2133720"/>
                <a:ext cx="3638880" cy="11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>
                          <m:t xml:space="preserve">'</m:t>
                        </m:r>
                        <m:r>
                          <m:t xml:space="preserve">=</m:t>
                        </m:r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q</m:t>
                        </m:r>
                        <m:r>
                          <m:t xml:space="preserve">−</m:t>
                        </m:r>
                        <m:r>
                          <m:t xml:space="preserve">y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q</m:t>
                        </m:r>
                      </m:e>
                      <m:e>
                        <m:r>
                          <m:t xml:space="preserve">y</m:t>
                        </m:r>
                        <m:r>
                          <m:t xml:space="preserve">'</m:t>
                        </m:r>
                        <m:r>
                          <m:t xml:space="preserve">=</m:t>
                        </m:r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q</m:t>
                        </m:r>
                        <m:r>
                          <m:t xml:space="preserve">+</m:t>
                        </m:r>
                        <m:r>
                          <m:t xml:space="preserve">y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q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4" name=""/>
              <p:cNvSpPr txBox="1"/>
              <p:nvPr/>
            </p:nvSpPr>
            <p:spPr>
              <a:xfrm>
                <a:off x="2054160" y="4354560"/>
                <a:ext cx="4711680" cy="21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>
                          <m:t xml:space="preserve">'</m:t>
                        </m:r>
                        <m:r>
                          <m:t xml:space="preserve">=</m:t>
                        </m:r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dq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y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r>
                          <m:t xml:space="preserve">dq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y</m:t>
                        </m:r>
                        <m:r>
                          <m:t xml:space="preserve">'</m:t>
                        </m:r>
                        <m:r>
                          <m:t xml:space="preserve">=</m:t>
                        </m:r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r>
                          <m:t xml:space="preserve">dq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y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dq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dµ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65" name="Footer Placeholder 6"/>
          <p:cNvSpPr/>
          <p:nvPr/>
        </p:nvSpPr>
        <p:spPr>
          <a:xfrm>
            <a:off x="1143000" y="6324480"/>
            <a:ext cx="6477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Example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567" name="Content Placeholder 4" descr="t1.tiff"/>
          <p:cNvPicPr/>
          <p:nvPr/>
        </p:nvPicPr>
        <p:blipFill>
          <a:blip r:embed="rId1"/>
          <a:srcRect l="-24699" t="0" r="-24699" b="0"/>
          <a:stretch/>
        </p:blipFill>
        <p:spPr>
          <a:xfrm>
            <a:off x="685800" y="1523880"/>
            <a:ext cx="3886200" cy="2362320"/>
          </a:xfrm>
          <a:prstGeom prst="rect">
            <a:avLst/>
          </a:prstGeom>
          <a:ln w="0">
            <a:noFill/>
          </a:ln>
        </p:spPr>
      </p:pic>
      <p:pic>
        <p:nvPicPr>
          <p:cNvPr id="568" name="Picture 5" descr="t2.tiff"/>
          <p:cNvPicPr/>
          <p:nvPr/>
        </p:nvPicPr>
        <p:blipFill>
          <a:blip r:embed="rId2"/>
          <a:srcRect l="0" t="0" r="0" b="15047"/>
          <a:stretch/>
        </p:blipFill>
        <p:spPr>
          <a:xfrm>
            <a:off x="5029200" y="1371600"/>
            <a:ext cx="2948040" cy="2006640"/>
          </a:xfrm>
          <a:prstGeom prst="rect">
            <a:avLst/>
          </a:prstGeom>
          <a:ln w="0">
            <a:noFill/>
          </a:ln>
        </p:spPr>
      </p:pic>
      <p:pic>
        <p:nvPicPr>
          <p:cNvPr id="569" name="Picture 6" descr="t3.tiff"/>
          <p:cNvPicPr/>
          <p:nvPr/>
        </p:nvPicPr>
        <p:blipFill>
          <a:blip r:embed="rId3"/>
          <a:stretch/>
        </p:blipFill>
        <p:spPr>
          <a:xfrm>
            <a:off x="1295280" y="3295800"/>
            <a:ext cx="2820960" cy="2724120"/>
          </a:xfrm>
          <a:prstGeom prst="rect">
            <a:avLst/>
          </a:prstGeom>
          <a:ln w="0">
            <a:noFill/>
          </a:ln>
        </p:spPr>
      </p:pic>
      <p:pic>
        <p:nvPicPr>
          <p:cNvPr id="570" name="Picture 7" descr="t4.tiff"/>
          <p:cNvPicPr/>
          <p:nvPr/>
        </p:nvPicPr>
        <p:blipFill>
          <a:blip r:embed="rId4"/>
          <a:srcRect l="0" t="15081" r="0" b="0"/>
          <a:stretch/>
        </p:blipFill>
        <p:spPr>
          <a:xfrm>
            <a:off x="5029200" y="3432240"/>
            <a:ext cx="2998800" cy="2587680"/>
          </a:xfrm>
          <a:prstGeom prst="rect">
            <a:avLst/>
          </a:prstGeom>
          <a:ln w="0">
            <a:noFill/>
          </a:ln>
        </p:spPr>
      </p:pic>
      <p:sp>
        <p:nvSpPr>
          <p:cNvPr id="571" name="TextBox 8"/>
          <p:cNvSpPr/>
          <p:nvPr/>
        </p:nvSpPr>
        <p:spPr>
          <a:xfrm>
            <a:off x="2133720" y="3429000"/>
            <a:ext cx="121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iangle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72" name="TextBox 9"/>
          <p:cNvSpPr/>
          <p:nvPr/>
        </p:nvSpPr>
        <p:spPr>
          <a:xfrm>
            <a:off x="5334120" y="335268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sellated triangle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73" name="TextBox 10"/>
          <p:cNvSpPr/>
          <p:nvPr/>
        </p:nvSpPr>
        <p:spPr>
          <a:xfrm>
            <a:off x="1066680" y="581976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ist without tessellation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74" name="TextBox 11"/>
          <p:cNvSpPr/>
          <p:nvPr/>
        </p:nvSpPr>
        <p:spPr>
          <a:xfrm>
            <a:off x="5257800" y="581976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ist after tessellation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75" name="Footer Placeholder 11"/>
          <p:cNvSpPr/>
          <p:nvPr/>
        </p:nvSpPr>
        <p:spPr>
          <a:xfrm>
            <a:off x="1143000" y="6324480"/>
            <a:ext cx="6477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371240" y="152280"/>
            <a:ext cx="624852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Objectives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762012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Build a complete first program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roduce shad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roduce a standard program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mple viewing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wo-dimensional viewing as a special case of three-dimensional view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Initialization steps and program structur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Footer Placeholder 4"/>
          <p:cNvSpPr/>
          <p:nvPr/>
        </p:nvSpPr>
        <p:spPr>
          <a:xfrm>
            <a:off x="1143000" y="6324480"/>
            <a:ext cx="6477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Program Execution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29" name=""/>
          <p:cNvSpPr txBox="1"/>
          <p:nvPr/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WebGL runs within the browser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lex interaction among the operating system, the window system, the browser and your code (HTML and J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mple mod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art with HTML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iles read in asynchronous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art with onload fun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190440">
              <a:spcBef>
                <a:spcPts val="499"/>
              </a:spcBef>
              <a:buClr>
                <a:srgbClr val="96969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vent driven in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Footer Placeholder 4"/>
          <p:cNvSpPr/>
          <p:nvPr/>
        </p:nvSpPr>
        <p:spPr>
          <a:xfrm>
            <a:off x="1143000" y="6324480"/>
            <a:ext cx="6477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Coordinate Systems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0592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units in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poin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re determined by the application and are calle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object, world,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roblem coordin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ewing specifications usually are also in object coordin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ntually pixels will be produced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window coordinat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bGL also uses some internal representations that usually are not visible to the application but are important in the sha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important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lip coordin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Footer Placeholder 4"/>
          <p:cNvSpPr/>
          <p:nvPr/>
        </p:nvSpPr>
        <p:spPr>
          <a:xfrm>
            <a:off x="1143000" y="6324480"/>
            <a:ext cx="6477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815328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Coordinate Systems and Shaders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35" name=""/>
          <p:cNvSpPr txBox="1"/>
          <p:nvPr/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Vertex shader must output in clip coordinate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Input to fragment shader from rasterizer is in window coordinate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Application can provide vertex data in any coordinate system but shader must eventually produce gl_Position in clip coordinate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mple example uses clip coordinate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Footer Placeholder 4"/>
          <p:cNvSpPr/>
          <p:nvPr/>
        </p:nvSpPr>
        <p:spPr>
          <a:xfrm>
            <a:off x="1143000" y="6324480"/>
            <a:ext cx="6477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7" name="Picture 5" descr="an02f31"/>
          <p:cNvPicPr/>
          <p:nvPr/>
        </p:nvPicPr>
        <p:blipFill>
          <a:blip r:embed="rId1"/>
          <a:stretch/>
        </p:blipFill>
        <p:spPr>
          <a:xfrm>
            <a:off x="4343400" y="2971800"/>
            <a:ext cx="4572000" cy="2930400"/>
          </a:xfrm>
          <a:prstGeom prst="rect">
            <a:avLst/>
          </a:prstGeom>
          <a:ln w="0">
            <a:noFill/>
          </a:ln>
        </p:spPr>
      </p:pic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WebGL Camera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WebGL places a camera at the origin in object space pointing in the negative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direction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e default viewing volum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is a box centered at th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origin with sides of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length 2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Footer Placeholder 5"/>
          <p:cNvSpPr/>
          <p:nvPr/>
        </p:nvSpPr>
        <p:spPr>
          <a:xfrm>
            <a:off x="1143000" y="6324480"/>
            <a:ext cx="6477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Orthographic Viewing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grpSp>
        <p:nvGrpSpPr>
          <p:cNvPr id="542" name="Group 64"/>
          <p:cNvGrpSpPr/>
          <p:nvPr/>
        </p:nvGrpSpPr>
        <p:grpSpPr>
          <a:xfrm>
            <a:off x="838080" y="2971800"/>
            <a:ext cx="4516560" cy="3051000"/>
            <a:chOff x="838080" y="2971800"/>
            <a:chExt cx="4516560" cy="3051000"/>
          </a:xfrm>
        </p:grpSpPr>
        <p:pic>
          <p:nvPicPr>
            <p:cNvPr id="543" name="Picture 5" descr="an02f29"/>
            <p:cNvPicPr/>
            <p:nvPr/>
          </p:nvPicPr>
          <p:blipFill>
            <a:blip r:embed="rId1"/>
            <a:stretch/>
          </p:blipFill>
          <p:spPr>
            <a:xfrm>
              <a:off x="838080" y="2971800"/>
              <a:ext cx="4516560" cy="305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4" name="Text Box 10"/>
            <p:cNvSpPr/>
            <p:nvPr/>
          </p:nvSpPr>
          <p:spPr>
            <a:xfrm>
              <a:off x="3658680" y="4876560"/>
              <a:ext cx="499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z=0</a:t>
              </a:r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45" name="Rectangle 11"/>
            <p:cNvSpPr/>
            <p:nvPr/>
          </p:nvSpPr>
          <p:spPr>
            <a:xfrm flipV="1">
              <a:off x="3581280" y="5105160"/>
              <a:ext cx="457200" cy="609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546" name="Group 63"/>
          <p:cNvGrpSpPr/>
          <p:nvPr/>
        </p:nvGrpSpPr>
        <p:grpSpPr>
          <a:xfrm>
            <a:off x="6324480" y="2971800"/>
            <a:ext cx="2363760" cy="2847960"/>
            <a:chOff x="6324480" y="2971800"/>
            <a:chExt cx="2363760" cy="2847960"/>
          </a:xfrm>
        </p:grpSpPr>
        <p:pic>
          <p:nvPicPr>
            <p:cNvPr id="547" name="Picture 7" descr="an02f30"/>
            <p:cNvPicPr/>
            <p:nvPr/>
          </p:nvPicPr>
          <p:blipFill>
            <a:blip r:embed="rId2"/>
            <a:stretch/>
          </p:blipFill>
          <p:spPr>
            <a:xfrm>
              <a:off x="6324480" y="3276720"/>
              <a:ext cx="2363760" cy="254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8" name="Rectangle 59"/>
            <p:cNvSpPr/>
            <p:nvPr/>
          </p:nvSpPr>
          <p:spPr>
            <a:xfrm>
              <a:off x="7696080" y="2971800"/>
              <a:ext cx="457200" cy="304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grpSp>
          <p:nvGrpSpPr>
            <p:cNvPr id="549" name="Group 61"/>
            <p:cNvGrpSpPr/>
            <p:nvPr/>
          </p:nvGrpSpPr>
          <p:grpSpPr>
            <a:xfrm>
              <a:off x="7619760" y="3657600"/>
              <a:ext cx="609840" cy="337320"/>
              <a:chOff x="7619760" y="3657600"/>
              <a:chExt cx="609840" cy="337320"/>
            </a:xfrm>
          </p:grpSpPr>
          <p:sp>
            <p:nvSpPr>
              <p:cNvPr id="550" name="Rectangle 60"/>
              <p:cNvSpPr/>
              <p:nvPr/>
            </p:nvSpPr>
            <p:spPr>
              <a:xfrm>
                <a:off x="7619760" y="3657600"/>
                <a:ext cx="609840" cy="3045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551" name="Text Box 58"/>
              <p:cNvSpPr/>
              <p:nvPr/>
            </p:nvSpPr>
            <p:spPr>
              <a:xfrm>
                <a:off x="7697160" y="3657600"/>
                <a:ext cx="499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z=0</a:t>
                </a:r>
                <a:endParaRPr b="0" lang="en-US" sz="16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</p:grpSp>
      </p:grpSp>
      <p:sp>
        <p:nvSpPr>
          <p:cNvPr id="552" name="Text Box 65"/>
          <p:cNvSpPr/>
          <p:nvPr/>
        </p:nvSpPr>
        <p:spPr>
          <a:xfrm>
            <a:off x="822960" y="1600200"/>
            <a:ext cx="6010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e default orthographic view, points are 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jected forward along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xis onto the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z=0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53" name="Footer Placeholder 14"/>
          <p:cNvSpPr/>
          <p:nvPr/>
        </p:nvSpPr>
        <p:spPr>
          <a:xfrm>
            <a:off x="1143000" y="6324480"/>
            <a:ext cx="6477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Viewports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Do not have use the entire window for the image: </a:t>
            </a:r>
            <a:r>
              <a:rPr b="1" lang="en-US" sz="3100" spc="-1" strike="noStrike">
                <a:solidFill>
                  <a:srgbClr val="000000"/>
                </a:solidFill>
                <a:latin typeface="Courier New"/>
              </a:rPr>
              <a:t>gl.viewport(x,y,w,h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Values in pixels (window coordinates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6" name="Picture 5" descr="an02f33"/>
          <p:cNvPicPr/>
          <p:nvPr/>
        </p:nvPicPr>
        <p:blipFill>
          <a:blip r:embed="rId1"/>
          <a:stretch/>
        </p:blipFill>
        <p:spPr>
          <a:xfrm>
            <a:off x="1295280" y="3200400"/>
            <a:ext cx="6645240" cy="2836800"/>
          </a:xfrm>
          <a:prstGeom prst="rect">
            <a:avLst/>
          </a:prstGeom>
          <a:ln w="0">
            <a:noFill/>
          </a:ln>
        </p:spPr>
      </p:pic>
      <p:sp>
        <p:nvSpPr>
          <p:cNvPr id="557" name="Footer Placeholder 5"/>
          <p:cNvSpPr/>
          <p:nvPr/>
        </p:nvSpPr>
        <p:spPr>
          <a:xfrm>
            <a:off x="1143000" y="6324480"/>
            <a:ext cx="6477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01028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Transformations and Viewing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184680" indent="-1846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 WebGL, we usually carry out projection using a projection matrix (transformation) before rasterizatio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84680" indent="-1846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ransformation functions are also used for changes in coordinate system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84680" indent="-1846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e 3.1 OpenGL had a set of transformation functions which have been deprecate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84680" indent="-1846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ree choices in WebG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554400" indent="-185040">
              <a:spcBef>
                <a:spcPts val="550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pplication cod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54400" indent="-185040">
              <a:spcBef>
                <a:spcPts val="550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LSL func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54400" indent="-185040">
              <a:spcBef>
                <a:spcPts val="550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V.j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5440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846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Footer Placeholder 4"/>
          <p:cNvSpPr/>
          <p:nvPr/>
        </p:nvSpPr>
        <p:spPr>
          <a:xfrm>
            <a:off x="1143000" y="6324480"/>
            <a:ext cx="6477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16T15:46:08Z</dcterms:created>
  <dc:creator>Ed Angel</dc:creator>
  <dc:description/>
  <dc:language>en-US</dc:language>
  <cp:lastModifiedBy>Ed Angel</cp:lastModifiedBy>
  <dcterms:modified xsi:type="dcterms:W3CDTF">2014-03-31T17:41:28Z</dcterms:modified>
  <cp:revision>87</cp:revision>
  <dc:subject/>
  <dc:title>PowerPoint Presentation</dc:title>
</cp:coreProperties>
</file>