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AB8C10-601F-4D75-B9D7-100431C858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BD8A5F-A379-4B94-B0D3-128AF40E25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3415FC-3866-4902-A268-E06590DFE6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A6722-E484-4A87-9B70-17D3657D03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84B4BB-4294-4787-A0B2-7E1834C308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59199-3EFD-45D5-AEFA-5C6102C6D5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31E80-8A0A-45F8-9B03-6995EDBAB6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DB3BF-A56F-4896-B971-97374D62A5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DB344-8225-4102-94B5-4AD8603833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FD6C4D-9AA3-401B-97E8-6A014435E7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B5253A-EFB6-4C62-9958-6F677BDFE0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A00DB-97E8-4EE8-AA12-B676B6A115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358709-94D6-4329-ACD2-6A1182412D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709BE3-5525-4136-8D72-89AFA593F7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E048C4-038C-4047-8B45-0DDAE7B428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0BDC30-E3E6-461E-BB64-C55E1BD6D1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69E76-A384-4B84-8EFB-C0C0C4BD26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9A93F-F445-498E-B3D6-8576E2BAC3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E453B-210E-4906-AC8B-0F5A2A0767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BDA23-33E4-4403-883D-9E6A5740FB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EE461-8A0A-4852-AC6F-651BA05A18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C4197-4A6E-44CC-ACC2-B781583343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7BF17-DE48-4702-A846-C9E39625E4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64701-62B6-45D1-8BC2-26273495E3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7CEC7-6661-4076-9845-79E436FEB5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1B8EF-15DA-4D01-A539-B1E707DBDF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C2DF5-DA3B-4FE5-8491-407DDF5865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583A1-69A8-4C98-B20D-933B0F649F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AE440-3FF9-4C61-AE82-25225FA24E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B52AD-E8EC-4371-AC78-944718801B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EBD33-6DF9-4134-9410-03C2490178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1AB42-02EB-4FB0-924D-C4E85C416D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07C7-8E91-42A0-B52B-BCBA38901B7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400440"/>
            <a:ext cx="6324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Fragment Shader 1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9093-0CB1-4176-901B-0A5DCB97136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43080" y="1447920"/>
            <a:ext cx="8458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sion mediump flo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orm sampler2D textur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orm float 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orm float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ying vec2 fTexCoor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at x = fTexCoord.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at y = fTexCoord.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_FragColor = (texture2D( texture, vec2(x+d, y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texture2D( texture, vec2(x, y+d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texture2D( texture, vec2(x-d, y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texture2D( texture, vec2(x, y-d)))/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Vertex Shader 2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772400" cy="4724640"/>
          </a:xfrm>
          <a:prstGeom prst="rect">
            <a:avLst/>
          </a:prstGeom>
          <a:ln w="0">
            <a:noFill/>
          </a:ln>
        </p:spPr>
      </p:pic>
      <p:sp>
        <p:nvSpPr>
          <p:cNvPr id="9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7AB6-AF82-4219-BC0B-E6656775DC9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457200" y="1905120"/>
            <a:ext cx="8305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 vec4 vPosition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orm float pointSiz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_PointSize = pointSiz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_Position = vPosition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ooter Placeholder 5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Fragment Shader 2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772400" cy="4724640"/>
          </a:xfrm>
          <a:prstGeom prst="rect">
            <a:avLst/>
          </a:prstGeom>
          <a:ln w="0">
            <a:noFill/>
          </a:ln>
        </p:spPr>
      </p:pic>
      <p:sp>
        <p:nvSpPr>
          <p:cNvPr id="9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DDCA-9499-4357-9AE7-7BA9D926E81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1066680" y="175248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sion mediump flo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orm vec4 col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_FragColor = col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ooter Placeholder 5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endering Loop I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79A5-804B-4CC0-B567-CAC7F9ABCCE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609480" y="1523880"/>
            <a:ext cx="87631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 render = function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render to tex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first a rectangle that is texture map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useProgram(program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bindFramebuffer( gl.FRAMEBUFFER, framebuffe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(flag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bindTexture(gl.TEXTURE_2D, texture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framebufferTexture2D(gl.FRAMEBUFFE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COLOR_ATTACHMENT0, gl.TEXTURE_2D, texture2, 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bindTexture(gl.TEXTURE_2D, texture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framebufferTexture2D(gl.FRAMEBUFFE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COLOR_ATTACHMENT0, gl.TEXTURE_2D, texture1, 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drawArrays( gl.TRIANGLE_STRIP, 0, 4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endering Loop II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3BC5-0A41-4855-A779-B724BEEC41B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343080" y="1523880"/>
            <a:ext cx="8458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render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useProgram(program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vertexAttribPointer( vPosition2, 2, gl.FLOAT, false, 0, 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uniform4f( gl.getUniformLocation(program2, "color"), 0.9, 0.0, 0.9, 1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drawArrays(gl.POINTS, 4, numPoints/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uniform4f( gl.getUniformLocation(program2, "color"), 0.0, 9.0, 0.0, 1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drawArrays(gl.POINTS, 4+numPoints/2, numPoints/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render to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useProgram(program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vertexAttribPointer( texLoc, 2, gl.FLOAT, false, 0, 32+8*numPoints)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generateMipmap(gl.TEXTURE_2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bindFramebuffer(gl.FRAMEBUFFER, nul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pick tex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(flag) gl.bindTexture(gl.TEXTURE_2D, texture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 gl.bindTexture(gl.TEXTURE_2D, texture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endering Loop III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D487-F766-488B-86AF-4A4C1D71FCF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343080" y="1523880"/>
            <a:ext cx="8458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 r = 1024/texSiz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viewport(0, 0, r*texSize, r*texSiz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clear( gl.COLOR_BUFFER_BIT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drawArrays( gl.TRIANGLE_STRIP, 0, 4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viewport(0, 0, texSize, texSiz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useProgram(program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move particles in a random direction with wrap a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(var i=0; i&lt;numPoints; i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tices[4+i][0] += 0.01*(2.0*Math.random()-1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tices[4+i][1] += 0.01*(2.0*Math.random()-1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(vertices[4+i][0]&gt;1.0) vertices[4+i][0]-= 2.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(vertices[4+i][0]&lt;-1.0) vertices[4+i][0]+= 2.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(vertices[4+i][1]&gt;1.0) vertices[4+i][1]-= 2.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(vertices[4+i][1]&lt;-1.0) vertices[4+i][1]+= 2.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bufferSubData(gl.ARRAY_BUFFER,  0, flatten(vertices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endering Loop IV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643F-E634-4A9C-8FFE-D4ECCE14499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343080" y="152388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swap tex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ag = !flag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AnimFrame(rende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dd Agent Behavio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ove randoml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eck color where particle is locat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f green particle sees a green component over 128 move to (0.5, 0.5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f magenta particle sees a red component over 128 move to (-0.5, -0.5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FA44-0079-4092-9E52-E51043B4CD3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Diffusion Co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83F9-F2B0-4ABE-B3FE-4328E5668BA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457200" y="1533600"/>
            <a:ext cx="82296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 color = new Uint8(4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(var i=0; i&lt;numPoints/2; i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 x = Math.floor(511*(vertices[4+i][0]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 y = Math.floor(511*(vertices[4+i][1]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readPixels(x, y, 1, 1, gl.RGBA, gl.UNSIGNED_BYTE, colo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(color[0]&gt;128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tices[4+i][0] = 0.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tices[4+i][1] = 0.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(var i=numPoints/2; i&lt;numPoints; i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 x = Math.floor(511*(vertices[4+i][0]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 y = Math.floor(511*(vertices[4+i][1]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readPixels(x, y, 1, 1, gl.RGBA, gl.UNSIGNED_BYTE, colo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(color[1]&gt;128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tices[4+i][0] = -0.5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tices[4+i][1] = -0.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napshot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23" name="Content Placeholder 4" descr="abm2.jpg"/>
          <p:cNvPicPr/>
          <p:nvPr/>
        </p:nvPicPr>
        <p:blipFill>
          <a:blip r:embed="rId1"/>
          <a:srcRect l="-32416" t="0" r="-32416" b="0"/>
          <a:stretch/>
        </p:blipFill>
        <p:spPr>
          <a:xfrm>
            <a:off x="-685800" y="2057400"/>
            <a:ext cx="6172200" cy="3733920"/>
          </a:xfrm>
          <a:prstGeom prst="rect">
            <a:avLst/>
          </a:prstGeom>
          <a:ln w="0">
            <a:noFill/>
          </a:ln>
        </p:spPr>
      </p:pic>
      <p:sp>
        <p:nvSpPr>
          <p:cNvPr id="12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C47E-46F1-447E-A549-3F6252AF751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abm3.jpg"/>
          <p:cNvPicPr/>
          <p:nvPr/>
        </p:nvPicPr>
        <p:blipFill>
          <a:blip r:embed="rId2"/>
          <a:stretch/>
        </p:blipFill>
        <p:spPr>
          <a:xfrm>
            <a:off x="5181480" y="2057400"/>
            <a:ext cx="3754440" cy="37512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6"/>
          <p:cNvSpPr/>
          <p:nvPr/>
        </p:nvSpPr>
        <p:spPr>
          <a:xfrm>
            <a:off x="914400" y="60958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reading 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5867280" y="60958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reading 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ooter Placeholder 7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gent Based Model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33523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5238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roduce a powerful form of simul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se render-to-texture for dynamic simulations using agent-based mode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ample of diffusion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5F1B-414C-4D1F-AC4C-7EA9EBD7B42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gent Based Models (ABMs)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nsider a particle system in which particle can be programmed with individual behaviors and propert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erent col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erent geome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erent ru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gents can interact with each other and with the enviro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CB09-2DDE-47DD-84B9-DC6A32F5D5B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imulating Ant Behavio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180720" indent="-1807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nsider ants searching for foo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0720" indent="-1807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t the beginning, an ant moves randomly around the terrain searching for foo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ant can leave a chemical marker called a pheromone to indicate the spot was visi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ce food is found, other ants can trace the path by following the pheromone tra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80720" indent="-1807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odel each ant as a point moving over a surface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0720" indent="-1807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nder each point with arbitrary geomet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FC71-5714-4144-9FFA-8CE9B04EC7B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Diffusion Example I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wo types of agen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interaction with enviro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er only in co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ll move randoml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eave position inform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 render-to-tex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iffuse position inform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 buffer pingpong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3C06-683F-4D62-8C2B-F6ACCE991BC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napshot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71" name="Content Placeholder 4" descr="abm1.jpg"/>
          <p:cNvPicPr/>
          <p:nvPr/>
        </p:nvPicPr>
        <p:blipFill>
          <a:blip r:embed="rId1"/>
          <a:srcRect l="-28277" t="0" r="-28277" b="0"/>
          <a:stretch/>
        </p:blipFill>
        <p:spPr>
          <a:xfrm>
            <a:off x="380880" y="2057400"/>
            <a:ext cx="4038840" cy="396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3CB9-66AB-488C-B88E-6C4C7969BD4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abm2.jpg"/>
          <p:cNvPicPr/>
          <p:nvPr/>
        </p:nvPicPr>
        <p:blipFill>
          <a:blip r:embed="rId2"/>
          <a:stretch/>
        </p:blipFill>
        <p:spPr>
          <a:xfrm>
            <a:off x="4572000" y="2057400"/>
            <a:ext cx="3954600" cy="3962520"/>
          </a:xfrm>
          <a:prstGeom prst="rect">
            <a:avLst/>
          </a:prstGeom>
          <a:ln w="0">
            <a:noFill/>
          </a:ln>
        </p:spPr>
      </p:pic>
      <p:sp>
        <p:nvSpPr>
          <p:cNvPr id="74" name="Footer Placeholder 5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itializ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need two program objec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for rendering points in new pos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for diffusing texture m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itialization is standard otherwis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tup texture ob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tup framebuffer ob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tribute particles in random lo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44EC-4E95-4D9D-BEAB-08BC6529299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Vertex Shader 1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772400" cy="4724640"/>
          </a:xfrm>
          <a:prstGeom prst="rect">
            <a:avLst/>
          </a:prstGeom>
          <a:ln w="0">
            <a:noFill/>
          </a:ln>
        </p:spPr>
      </p:pic>
      <p:sp>
        <p:nvSpPr>
          <p:cNvPr id="8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3860-CCB8-477F-8537-8F97888C964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533520" y="1828800"/>
            <a:ext cx="8305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vec4 vPosition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vec2 vTexCoor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ying vec2 fTexCoor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_Position = vPosition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TexCoord = vTexCoor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ooter Placeholder 5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01:04:16Z</dcterms:created>
  <dc:creator>Ed Angel</dc:creator>
  <dc:description/>
  <dc:language>en-US</dc:language>
  <cp:lastModifiedBy>Ed Angel</cp:lastModifiedBy>
  <dcterms:modified xsi:type="dcterms:W3CDTF">2014-03-31T17:55:56Z</dcterms:modified>
  <cp:revision>152</cp:revision>
  <dc:subject/>
  <dc:title>PowerPoint Presentation</dc:title>
</cp:coreProperties>
</file>