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8EBB-A8CD-46FE-BADE-5BE69B4D3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22D0-0A6F-4F5B-B6F6-4EBBFA1FC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EB81-F4F8-43A1-BFEB-9DCF9EFD7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B5BA-F156-47D7-A7A7-D2E556E32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2F17-96E5-4D29-B030-CF31F27A1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197B-68C6-4C69-9FDC-992F037D4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2333-377D-47CC-A39F-D4E08BDF5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E125-077D-4E53-A40D-22DC9DF9B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09F6-786C-4942-8174-61F232AD0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51B3-0AD5-44B6-AA54-9157C70A6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62C7-A129-4E23-B795-C704BA425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473D-7720-4FCF-AAA9-B0193FBEA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0AF2-55D0-40DA-A920-AD887C4309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609F-635B-47E9-A074-67AB93C3DA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nresize Even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turns size of new canvas is available through  </a:t>
            </a: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window.innerHeigh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window. innerWid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innerHeigh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innerWidth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change </a:t>
            </a: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canvas.heigh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canvas.wid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 (next slide): maintaining a square displ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C548-F4FC-4A85-9AB0-46BA21C0122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Keeping Square Propor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49A-8245-475D-BFC0-D4C6B5004E1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57200" y="18288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window.onresize = 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var min = innerWid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if (innerHeight &lt; min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min = innerHe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if (min &lt; canvas.width || min &lt; canvas.heigh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viewport(0, canvas.height-min, min, m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2E8D-CB32-4101-B440-A13C6CD8938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sition Inpu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6EF-44D9-4ABA-A4AE-C22AA6C57A2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o use the mouse to give lo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t convert from position on canvas to position in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spond to window events such as reshapes triggered by the mo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indow Coordina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18D6-B8A2-4B8E-A4E7-4940DF1A7C7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609480" y="1752480"/>
            <a:ext cx="70106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981080" y="2438280"/>
            <a:ext cx="4800600" cy="3124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7"/>
          <p:cNvCxnSpPr/>
          <p:nvPr/>
        </p:nvCxnSpPr>
        <p:spPr>
          <a:xfrm>
            <a:off x="2057400" y="5866920"/>
            <a:ext cx="45727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" name="Straight Arrow Connector 9"/>
          <p:cNvCxnSpPr/>
          <p:nvPr/>
        </p:nvCxnSpPr>
        <p:spPr>
          <a:xfrm flipH="1">
            <a:off x="1598400" y="2515680"/>
            <a:ext cx="3600" cy="297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2" name="TextBox 10"/>
          <p:cNvSpPr/>
          <p:nvPr/>
        </p:nvSpPr>
        <p:spPr>
          <a:xfrm>
            <a:off x="4041360" y="594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1055160" y="345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1528200" y="1981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686556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-1, h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6629400" y="541008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1828800" y="23623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605760" y="3962520"/>
            <a:ext cx="10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16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indow to Clip Coordina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9C52-C9F0-4BB9-9F45-71BE319F9B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854360"/>
            <a:ext cx="6858000" cy="406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447920" y="2971800"/>
                <a:ext cx="2886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523880" y="4343400"/>
                <a:ext cx="3962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352520" y="1562040"/>
                <a:ext cx="2933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Footer Placeholder 7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turning Position from Click Even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vas specified in HTML file of size </a:t>
            </a:r>
            <a:r>
              <a:rPr b="0" lang="en-US" sz="2600" spc="-1" strike="noStrike">
                <a:solidFill>
                  <a:srgbClr val="32946a"/>
                </a:solidFill>
                <a:latin typeface="Arial"/>
              </a:rPr>
              <a:t>canvas.wid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32946a"/>
                </a:solidFill>
                <a:latin typeface="Arial"/>
              </a:rPr>
              <a:t>canvas.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ed window coordinates are </a:t>
            </a:r>
            <a:r>
              <a:rPr b="0" lang="en-US" sz="2600" spc="-1" strike="noStrike">
                <a:solidFill>
                  <a:srgbClr val="32946a"/>
                </a:solidFill>
                <a:latin typeface="Arial"/>
              </a:rPr>
              <a:t>event.client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32946a"/>
                </a:solidFill>
                <a:latin typeface="Arial"/>
              </a:rPr>
              <a:t>event.clie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F5BE-D6B3-49E1-818F-FFDA0D63E0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3276720"/>
            <a:ext cx="716292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// add a vertex to GPU for each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canvas.addEventListener("click", 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bindBuffer(gl.ARRAY_BUFFER, vBuff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var t = vec2(-1 + 2*event.clientX/canvas.widt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-1 + 2*(canvas.height-event.clientY)/canvas.he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bufferSubData(gl.ARRAY_BUFF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sizeof[’vec2’]*index,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index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AD-like Examp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2280" y="14479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173160" indent="-1731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www.cs.unm.edu/~angel/WebGL/7E/0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square.htm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puts a colored square at location of each mouse cli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triangle.htm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first three mouse clicks define first triangle of triangle strip. Each succeeding mouse clicks adds a new triangle at end of stri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cad1.htm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draw a rectangle for each two successive mouse clic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cad2.htm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draws arbitrary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2364-C059-4294-91C1-E457E13529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indow Ev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nts can be generated by actions that affect the canvas wind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ing or exposing a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zing a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ing a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onifying/deiconifying a window a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at events generated by other application that use the canvas can affect the WebGL canv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default callbacks for some of thes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2AEB-3054-4F37-AA33-E696F77D490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shape Ev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we use the mouse to change the size of our canv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redraw the cont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 the same objects but change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 more or fewer objects at the same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most always want to keep propor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520-731B-408B-8FEB-DCF01401893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20:32:32Z</dcterms:created>
  <dc:creator>Ed Angel</dc:creator>
  <dc:description/>
  <dc:language>en-US</dc:language>
  <cp:lastModifiedBy>Ed Angel</cp:lastModifiedBy>
  <dcterms:modified xsi:type="dcterms:W3CDTF">2014-03-31T17:45:03Z</dcterms:modified>
  <cp:revision>89</cp:revision>
  <dc:subject/>
  <dc:title>PowerPoint Presentation</dc:title>
</cp:coreProperties>
</file>