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9480" y="686880"/>
            <a:ext cx="4579920" cy="343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484BC7-6145-4185-BC30-F07DF47E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3D084B-E212-4AA8-A50A-3B79DCE87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43D80D-8CEC-4B60-AA73-53D3B152D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A8F69-2AB3-4BC9-98F2-5343CB652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E3112D-87AF-43A9-9379-719003F6D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0B28B8-6C4D-4EFD-95FC-9200313DB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5E56DB-9C6A-4349-A773-29AF4C222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6E783D-1C8E-41F6-AEF3-4BBA0DD62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C6708C-0762-456E-A6D8-4E12C26B6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BCF9E0-12AB-40FF-9016-10790370B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FB3345-E505-4E54-8345-6130158EA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9E3142-D41F-49C6-ACD2-DDC6A0A96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0473-498C-4C4B-988E-5E6747392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554D-E0C8-4CBD-986B-2871C7639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9299-377F-4649-B44D-C2AD135EA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2F69-204B-49FA-9637-26A8318E06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9A75-1C47-4719-8890-46E2168227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B55A-81A8-4E4F-B204-B033943AF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3358-8C39-4288-A711-19AC11D86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87FA-5B21-474E-9577-BD1BF1D5A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EBE9-0DC5-461E-A1F5-EAEBD4BB4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53AA-3AF4-4253-842E-AC71798BC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6EB5-A730-477A-B48A-68FE67BB5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AD8A-09F3-4A57-A109-F7F81EAF2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6632-C492-4992-BFEF-B79BDE1FB57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5ADB-5CE3-472C-91B1-FACCADF5D56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A7F0-F08B-4684-9B3B-15E2D3152B6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Quatern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nsion of imaginary numbers from two to three dimen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one real and three imaginary component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aternions can express rotations on sphere smoothly and efficiently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-view matri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uater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y out operations with quatern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ternio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del-view matr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2315880" y="3276720"/>
            <a:ext cx="2765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76EE-64B4-4C8E-9926-78A5CB6A115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e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e of the major problems in interactive computer graphics is how to use a two-dimensional device such as a mouse to interface with three dimensional ob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how to form an instance matr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alterna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al track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D input devices such as the space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reas of the scr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from center controls angle, position, scale depending on mouse button de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668-0F91-4AA2-B921-30D795FD276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pplying Transform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276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1003-5E5B-4F3E-A86B-649B0D56CE9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Using Transformations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Begin with a cube rotat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mouse or button listener to change direction of rot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 with a program that draws a cub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a standard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ntered at ori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des aligned with a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discuss modeling in next l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ere do we apply transformation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ame issue as with rotating squa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pplication to ver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vertex shader: send MV matr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vertex shader: send an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oice between second and third uncle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 we do trigonometry once in CPU or for every vertex in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PUs have trig functions hardwired in silic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A640-085B-4F50-841D-9073B29895D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on Event Listen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9F98-5AAC-412C-8067-E70B1D23EAF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80880" y="15238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.getElementById( "xButton" ).onclick = function () {        axis = xAxis;    };    document.getElementById( "yButton" ).onclick = function () {        axis = yAxis;    };    document.getElementById( "zButton" ).onclick = function () {        axis = zAxis;   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228600" y="4179960"/>
            <a:ext cx="952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render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clear( gl.COLOR_BUFFER_BIT | gl.DEPTH_BUFFER_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ta[axis] += 2.0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3fv(thetaLoc, the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drawArrays( gl.TRIANGLES, 0, NumVertice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AnimFrame( rende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on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C7BB-CA57-4B30-945B-14781FE061E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85800" y="152388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vec4 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vec4 v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4 f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vec3 the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angles = radians( thet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c = cos( angles )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3 s = sin( angle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Remember: these matrices are column-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4 rx = mat4( 1.0,  0.0,  0.0, 0.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,  c.x,  s.x, 0.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, -s.x,  c.x, 0.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,  0.0,  0.0, 1.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on Shader (cont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6893-FAD1-4189-8FEA-95CD7D4F528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838080" y="167652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4 ry = mat4( c.y, 0.0, -s.y, 0.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, 1.0,  0.0, 0.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y, 0.0,  c.y, 0.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, 0.0,  0.0, 1.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4 rz = mat4( c.z, -s.z, 0.0, 0.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z,  c.z, 0.0, 0.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,  0.0, 1.0, 0.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,  0.0, 0.0, 1.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olor = v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Position = rz * ry * rx * 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86BA-1447-4951-B8C2-5DFE3E367DE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mooth Ro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practical standpoint, we are often want to use transformations to move and reorient an object smoot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: find a sequence of model-view matric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…..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 that when they are applied successively to one or more objects we see a smooth tran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rientating an object, we can use the fact that every rotation corresponds to part of a great circle on a 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axis of rotation and 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al trackball (see tex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1658-3107-4FBE-8929-2D09E9E8BCE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cremental Rotation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the two approa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 sequence of rotation matric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…..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Euler angles for each and u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iz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i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very efficien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final positions to determine the axis and angle of rotation, then increment only the 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aternions can be more efficien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an ei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9:41:01Z</dcterms:created>
  <dc:creator>Ed Angel</dc:creator>
  <dc:description/>
  <dc:language>en-US</dc:language>
  <cp:lastModifiedBy>Ed Angel</cp:lastModifiedBy>
  <dcterms:modified xsi:type="dcterms:W3CDTF">2014-03-31T17:47:46Z</dcterms:modified>
  <cp:revision>127</cp:revision>
  <dc:subject/>
  <dc:title>PowerPoint Presentation</dc:title>
</cp:coreProperties>
</file>