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E3FB-2FD2-440F-93C2-0D2246837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E106-DEC9-4B09-BAC5-72E78DAE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CC00-871F-4249-AE31-A35B3833C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633C-E225-4893-8EE7-643C616BA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482-A9F4-4BEB-817E-BBF045B3D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DD42-4251-4F14-83B9-9E40CED81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42D0-D622-4009-8BE9-D1126E56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9AA7-45CC-4867-8B70-C9AE639F3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4F6F-AADC-4277-A538-0DC790DBF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5C9E-C143-4190-A4C5-37509498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C17B-6C97-4001-91E7-DE0328719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BE6F-8835-4A89-AAE0-E7962C1E1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D1BD-A2D1-4084-BE8A-F5D99D7F1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7C54-7B7F-4C88-90AD-8CBDFBDCE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AEB2-3249-4423-AC34-8BCAD717C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C167-1A78-4DED-A9D5-29E0EE285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25C3-6CD4-48EB-A8A3-4F1C73758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8BF2-A3C7-4021-A8A4-F13795577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8B21-F1D8-44E2-8B7F-06E28003C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564B-C2C3-432A-B60E-2BBE19B73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CF8E-259F-4837-9650-DB21678A8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A5FC-00E6-4DDF-8589-8358997BC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251F-1A9D-43C0-96CE-AD090F422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AA8F-4810-43DE-BB61-4FEE6EF3A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72A3-BDEA-4947-8306-7EB0E993E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122A-08D6-40CA-BF61-2CA71D056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F624-1B48-420E-840C-86F5BFC857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1A75-55EA-46BF-8BFF-8B94A23604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0ABD-1349-44F0-AC24-C325242E8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72E4-EE61-4A7B-965D-8C2340C0F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3805-9715-4573-B9D7-BCD4757AD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5BE2-1CB7-438E-91D2-27DDE1BEF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6DBD-FC30-405D-8C0C-6AD112908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DEC2-2D1B-423D-A642-8C5405CE0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F093-5387-4259-B5EF-CDF5BFD71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B3AF-04A7-4F30-BD09-0B1829ACE48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029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F92-73E8-4877-9E7B-BBA1EE64CAA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FA93-E3AB-4D43-A09F-24F292E3002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Graphics: 1960-1970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Wirefram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only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ketchp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play Process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orage tub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hue2"/>
          <p:cNvPicPr/>
          <p:nvPr/>
        </p:nvPicPr>
        <p:blipFill>
          <a:blip r:embed="rId1"/>
          <a:stretch/>
        </p:blipFill>
        <p:spPr>
          <a:xfrm>
            <a:off x="4648320" y="198108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529200" y="4952880"/>
            <a:ext cx="32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frame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u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3352680" y="5181120"/>
            <a:ext cx="990720" cy="30492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7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6C8-76CF-47C8-879F-F920559BF3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ketchpa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van Sutherland’s PhD thesis at M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gnized the potential of man-machine intera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moves light 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generates new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therland also created many of the now common algorithms for computer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EC6F-379D-4ADA-B07E-7BD923CC77D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play Process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ther than have the host computer try to refresh display use a special purpose computer called 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isplay processor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DPU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s stored in display list (display file) on display process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ompil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isplay list and sends to DP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an01f27"/>
          <p:cNvPicPr/>
          <p:nvPr/>
        </p:nvPicPr>
        <p:blipFill>
          <a:blip r:embed="rId1"/>
          <a:stretch/>
        </p:blipFill>
        <p:spPr>
          <a:xfrm>
            <a:off x="1981080" y="3124080"/>
            <a:ext cx="3826080" cy="1650960"/>
          </a:xfrm>
          <a:prstGeom prst="rect">
            <a:avLst/>
          </a:prstGeom>
          <a:ln w="0">
            <a:noFill/>
          </a:ln>
        </p:spPr>
      </p:pic>
      <p:sp>
        <p:nvSpPr>
          <p:cNvPr id="107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BADC-C309-4118-86D9-00AC06086E0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Graphics: 1970-1980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ster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ginning of graphics standar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KS: European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ISO 2D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: North American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but fails to become ISO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kstations and P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3FDA-958D-4895-BBAE-97FDDC501C5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ster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age produced as an array (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 of picture elements (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 in 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frame 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tp://ftp.cs.unm.edu/pub/angel/BOOK/SECOND_EDITION/FIGURES/JPEG/an01f02A.jpg"/>
          <p:cNvPicPr/>
          <p:nvPr/>
        </p:nvPicPr>
        <p:blipFill>
          <a:blip r:embed="rId1"/>
          <a:stretch/>
        </p:blipFill>
        <p:spPr>
          <a:xfrm>
            <a:off x="914400" y="3048120"/>
            <a:ext cx="3092400" cy="315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ftp://ftp.cs.unm.edu/pub/angel/BOOK/SECOND_EDITION/FIGURES/JPEG/an01f02B.jpg"/>
          <p:cNvPicPr/>
          <p:nvPr/>
        </p:nvPicPr>
        <p:blipFill>
          <a:blip r:embed="rId2"/>
          <a:stretch/>
        </p:blipFill>
        <p:spPr>
          <a:xfrm>
            <a:off x="4648320" y="3124080"/>
            <a:ext cx="3733560" cy="2832120"/>
          </a:xfrm>
          <a:prstGeom prst="rect">
            <a:avLst/>
          </a:prstGeom>
          <a:ln w="0">
            <a:noFill/>
          </a:ln>
        </p:spPr>
      </p:pic>
      <p:sp>
        <p:nvSpPr>
          <p:cNvPr id="117" name="Footer Placeholder 6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E669-ED9F-435B-BA2B-504E95BC8A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ster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ows us to go from lines and wire frame images to filled polyg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:\BOOK\OpenGL\Hue\hue3.jpg"/>
          <p:cNvPicPr/>
          <p:nvPr/>
        </p:nvPicPr>
        <p:blipFill>
          <a:blip r:embed="rId1"/>
          <a:stretch/>
        </p:blipFill>
        <p:spPr>
          <a:xfrm>
            <a:off x="2286000" y="2895480"/>
            <a:ext cx="3305160" cy="33051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D0D2-00DD-45AC-B4F6-064AA6238B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Cs and Workst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hough we no longer make the distinction between workstations and PCs, historically they evolved from different roo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workstations characteriz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ed connection: client-serve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of inter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PCs included frame buffer as part of user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change contents and create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B265-3B43-49F8-A2B6-BD19FCB9EDC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Graphics: 1980-1990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lism comes to computer graphic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ue4"/>
          <p:cNvPicPr/>
          <p:nvPr/>
        </p:nvPicPr>
        <p:blipFill>
          <a:blip r:embed="rId1"/>
          <a:stretch/>
        </p:blipFill>
        <p:spPr>
          <a:xfrm>
            <a:off x="380880" y="2286000"/>
            <a:ext cx="2772000" cy="277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ue7"/>
          <p:cNvPicPr/>
          <p:nvPr/>
        </p:nvPicPr>
        <p:blipFill>
          <a:blip r:embed="rId2"/>
          <a:stretch/>
        </p:blipFill>
        <p:spPr>
          <a:xfrm>
            <a:off x="3352680" y="2286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hue6"/>
          <p:cNvPicPr/>
          <p:nvPr/>
        </p:nvPicPr>
        <p:blipFill>
          <a:blip r:embed="rId3"/>
          <a:stretch/>
        </p:blipFill>
        <p:spPr>
          <a:xfrm>
            <a:off x="6248520" y="2286000"/>
            <a:ext cx="2695320" cy="2695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609480" y="525780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842280" y="52578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629040" y="5257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mp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10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61F0-82F7-415A-BCE8-65AF78EE83A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Graphics: 1980-1990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ial purpose hardwa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icon Graphics geometry eng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SI implementation of graphics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dustry-based standar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derM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tworked graphics: X Window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uman-Computer Interface (HC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53BB-1F74-45BD-BAC8-91FD83A10C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Graphics: 1990-2000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letely computer-generated feature-length movies (Toy Story) are successfu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w hardware capabil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ure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, stencil 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F23D-4294-4BFA-B169-1D0412520A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7521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at is Computer Graphics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16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1714-3575-426F-BD6F-4C23A052DD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Graphics: 2000-2010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hotoreali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aphics cards for PCs dominate mark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vidia, 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ame boxes and game players determine direction of mark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 graphics routine in movie industry: Maya, Lightwa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able pipe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w display technolo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ic Flat Panel Displa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0" name="Content Placeholder 4" descr="an01f05.eps"/>
          <p:cNvPicPr/>
          <p:nvPr/>
        </p:nvPicPr>
        <p:blipFill>
          <a:blip r:embed="rId1"/>
          <a:srcRect l="0" t="-13422" r="0" b="-13422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1A93-AE1A-4A9A-A76E-AEF22AF830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Graphics 2011-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aphics is now ubiquito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ES and 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ernate and Enhanced Real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D Movies and T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6FD1-B8BA-4DD9-A589-8E346C4DF1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2282-3800-4179-BA63-BE14EFBE5E0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Graph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omputer graphic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eals with all aspects of creating images with a compu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2656-DDF6-433B-BBC8-99FB8FB711B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re did this image come from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hardware/software did we use to produce i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BOOK\OpenGL\Hue\hue1.jpg"/>
          <p:cNvPicPr/>
          <p:nvPr/>
        </p:nvPicPr>
        <p:blipFill>
          <a:blip r:embed="rId1"/>
          <a:stretch/>
        </p:blipFill>
        <p:spPr>
          <a:xfrm>
            <a:off x="2590920" y="22096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E0FE-DAA8-4E47-80BA-A368E9F32E2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eliminary Answe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The object is an artist’s rendition of the sun for an animation to be shown in a domed environment (planetarium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Maya for modeling and rendering but Maya is built on top of Open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PC with graphics card for modeling and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3795-547D-4963-B0E0-898C6D46CD0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asic Graphics Syste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998640" y="43434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781680" y="4038480"/>
            <a:ext cx="19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04812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formed in frame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AN01F01.jpg"/>
          <p:cNvPicPr/>
          <p:nvPr/>
        </p:nvPicPr>
        <p:blipFill>
          <a:blip r:embed="rId1"/>
          <a:stretch/>
        </p:blipFill>
        <p:spPr>
          <a:xfrm>
            <a:off x="1143000" y="1752480"/>
            <a:ext cx="7135920" cy="242748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8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BB48-09AA-4691-B154-B586AFD7B59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uter Graphics: 1950-1960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 graphics goes back to the earliest days of compu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p ch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 plo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 displays using A/D converters to go from computer to calligraphic C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st of refresh for CRT too hig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slow, expensive, unrel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B1C-9ABC-455D-B465-09F9A79417F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athode Ray Tube (CRT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be used either as a line-drawing device (calligraphic) or to display contents of frame buffer (raster mod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848200" cy="315756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5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Mask CR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Content Placeholder 4" descr="AN01F04.eps"/>
          <p:cNvPicPr/>
          <p:nvPr/>
        </p:nvPicPr>
        <p:blipFill>
          <a:blip r:embed="rId1"/>
          <a:srcRect l="-452" t="0" r="-452" b="0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9036-7910-4A6B-B049-E34394C8268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457200" y="6400800"/>
            <a:ext cx="66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15:41:39Z</dcterms:created>
  <dc:creator>Ed Angel</dc:creator>
  <dc:description/>
  <dc:language>en-US</dc:language>
  <cp:lastModifiedBy>Ed Angel</cp:lastModifiedBy>
  <dcterms:modified xsi:type="dcterms:W3CDTF">2014-03-31T17:38:57Z</dcterms:modified>
  <cp:revision>28</cp:revision>
  <dc:subject/>
  <dc:title>PowerPoint Presentation</dc:title>
</cp:coreProperties>
</file>