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4B35-0AC4-43D1-97D6-9802496A7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DB30-6FB8-4C1E-8D7C-FFA0EC71F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854C-6FE8-4088-86C9-4DBF6412C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77B1-2E8C-49F6-B921-213AF655B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0C86-E5D0-4305-B7D1-70BC57D4A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8F9D-311A-4AAE-B45B-70F9DBB580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DEF6-25E4-4E71-9670-0A823EFCD4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68EB-E83A-4291-B1DE-E53DF5652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DACF-6B9C-46B3-B567-A383E76F9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8F8E-F734-4544-B397-4FF9BFAA6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F673-FD77-4410-A5C4-0F05D780F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F96F-CF21-48C0-A2EF-6E8D9952E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089B-9B27-41B7-A7C1-D9AE849FC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B494-F629-4C72-9C88-735EDFBED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8A46-D586-4134-A9EB-19FE5DEC997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5A17-A913-4C09-91EB-292298BB01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60D-3EBC-43F2-8DFB-CD86B0E19D9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WebGL Perspective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.frust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llows for an unsymmetric viewing frustum (although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.perspectiv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oes no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BOOK\OpenGL\Paul Final\Art\jpeg\AN05F41.jpg"/>
          <p:cNvPicPr/>
          <p:nvPr/>
        </p:nvPicPr>
        <p:blipFill>
          <a:blip r:embed="rId1"/>
          <a:stretch/>
        </p:blipFill>
        <p:spPr>
          <a:xfrm>
            <a:off x="600120" y="2946240"/>
            <a:ext cx="7172280" cy="33022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71F5-217A-4CBE-9F7A-915A6E2CF25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Perspective Matri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normalization in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Frustum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quires an initial shear to form a right viewing pyramid, followed by a scaling to get the normalized perspective volume. Finally, the perspective matrix results in needing only a final orthogonal trans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252600" y="4724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 flipV="1">
            <a:off x="2895480" y="5105520"/>
            <a:ext cx="106704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217520" y="5562720"/>
            <a:ext cx="294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eviously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pectiv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 flipH="1" flipV="1">
            <a:off x="4343400" y="5105160"/>
            <a:ext cx="91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244040" y="56800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ar and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9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9E37-A8A2-4249-90E4-4E5EC8C36A2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y do we do it this way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rmalization allows for a single pipeline for both perspective and orthogonal view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stay in four dimensional homogeneous coordinates as long as possible to retain three-dimensional information needed for hidden-surface removal and shad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simplify clip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erspective Matr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F60C-E221-44BD-8E96-B20F029221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60680" y="1828800"/>
                <a:ext cx="588636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igh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ft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igh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ft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igh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ft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o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ottom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op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ottom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o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ottom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298600" y="4114800"/>
                <a:ext cx="464184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ight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op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TextBox 6"/>
          <p:cNvSpPr/>
          <p:nvPr/>
        </p:nvSpPr>
        <p:spPr>
          <a:xfrm>
            <a:off x="45720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s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5720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8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796C-AA98-41D6-8775-816A80A37B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erspective Projection Matr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360" y="327672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D935-55E4-4711-9FBC-A4729FE3D64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rive the perspective projection matrices used for standard WebGL proje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1A0A-799B-481D-A4FF-4DF24D56F30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Simple Perspective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a simple perspective with the COP at the origin, the near clipping plane a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-1, and a 90 degree field of view determined by the plan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x =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y =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BOOK\OpenGL\Paul Final\Art\jpeg\AN05F39.jpg"/>
          <p:cNvPicPr/>
          <p:nvPr/>
        </p:nvPicPr>
        <p:blipFill>
          <a:blip r:embed="rId1"/>
          <a:stretch/>
        </p:blipFill>
        <p:spPr>
          <a:xfrm>
            <a:off x="3124080" y="2895480"/>
            <a:ext cx="3733920" cy="330840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6E3-1D31-4512-A11D-DB702C59C0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Perspective Matrice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projection matrix in homogeneous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at this matrix is independent of the far clipping pla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733920" y="2590920"/>
                <a:ext cx="217152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Text Box 6"/>
          <p:cNvSpPr/>
          <p:nvPr/>
        </p:nvSpPr>
        <p:spPr>
          <a:xfrm>
            <a:off x="2820240" y="327672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4790-C7E3-4072-8A01-DBC77534E7D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Generalization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486240" y="1600200"/>
                <a:ext cx="217152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β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36232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207440" y="380988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perspective division, the poin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) go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631160" y="4384800"/>
            <a:ext cx="19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’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/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’’ = y/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’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288080" y="5562720"/>
            <a:ext cx="61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rojects orthogonally to the desired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ardles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8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D452-C918-4190-9C8B-416E71CF707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Picking </a:t>
            </a:r>
            <a:r>
              <a:rPr b="1" lang="en-US" sz="41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41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9160" y="16765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p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906200" y="22860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981800" y="32004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14600" y="2133720"/>
                <a:ext cx="1371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a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a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a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e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590920" y="2998800"/>
                <a:ext cx="15238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ear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fa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a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Text Box 9"/>
          <p:cNvSpPr/>
          <p:nvPr/>
        </p:nvSpPr>
        <p:spPr>
          <a:xfrm>
            <a:off x="806400" y="4191120"/>
            <a:ext cx="61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ar plane is mapped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r plane is mapped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sides are mapped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43240" y="5562720"/>
            <a:ext cx="83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 new clipping volume is the default clipping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10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3102-6B71-402C-B50A-CFD2E6BD19D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Normalization Transformation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3" name="Picture 5" descr="C:\BOOK\OpenGL\Paul Final\Art\jpeg\AN05F40.jpg"/>
          <p:cNvPicPr/>
          <p:nvPr/>
        </p:nvPicPr>
        <p:blipFill>
          <a:blip r:embed="rId1"/>
          <a:stretch/>
        </p:blipFill>
        <p:spPr>
          <a:xfrm>
            <a:off x="371520" y="2362320"/>
            <a:ext cx="8400960" cy="284292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V="1">
            <a:off x="1295280" y="3657240"/>
            <a:ext cx="533520" cy="1143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 flipV="1">
            <a:off x="2743200" y="4114800"/>
            <a:ext cx="53352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4647960"/>
            <a:ext cx="2286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127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7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620080" y="502920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5943600" y="4266720"/>
            <a:ext cx="68580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029200" y="5105520"/>
            <a:ext cx="228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li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5"/>
          <p:cNvSpPr/>
          <p:nvPr/>
        </p:nvSpPr>
        <p:spPr>
          <a:xfrm>
            <a:off x="6705720" y="2666880"/>
            <a:ext cx="457200" cy="1067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559840" y="1905120"/>
            <a:ext cx="23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e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s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12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103B-A15D-4EFA-8282-9DBE1A4159E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Normalization and Hidden-Surface Removal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hough our selection of the form of the perspective matrices may appear somewhat arbitrary, it was chosen so that if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the original clipping volume then the for the transformed points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’ &gt;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us hidden surface removal works if we first apply the normalization transform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ever, the formu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’ = -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lies that the distances are distorted by the normalization which can cause numerical problems especially if the near distance is sm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01:02:16Z</dcterms:created>
  <dc:creator>Ed Angel</dc:creator>
  <dc:description/>
  <dc:language>en-US</dc:language>
  <cp:lastModifiedBy>Ed Angel</cp:lastModifiedBy>
  <dcterms:modified xsi:type="dcterms:W3CDTF">2014-03-31T17:50:14Z</dcterms:modified>
  <cp:revision>150</cp:revision>
  <dc:subject/>
  <dc:title>PowerPoint Presentation</dc:title>
</cp:coreProperties>
</file>