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541-1D83-4BDC-9437-E59BE970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989-8D41-4F27-B6C0-E5F7351D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9920-E527-40EF-8A4B-3F514512B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FE5F-7A8C-4C48-9BA8-500D73AD6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1FBB-A437-48A0-8380-26F181FDE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3DE7-4BAB-4648-80AF-57A52D783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101B-2ED8-4D03-AA3D-CC0148537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BDD-E987-4253-87D6-1F8F805E3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8809-F49F-405D-896D-94AE4CD83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5F1A-18ED-4EA1-9AB7-57A1E3EC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9F43-4BD2-4B8E-AE1F-19B234E26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BFE5-735B-40F1-A24C-E74A85A9C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7D3B-0F71-479C-97B0-47D9105E6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931E-CBEB-4EAF-BD50-A39F0B9DD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69C-8CC6-429D-9FBC-6FB69129A5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E33-72A4-4B04-BE2F-2FA0D3737A0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53C-197E-4E84-A1EA-F995C29633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vex Hull Proper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perties of the Bernstein polynomials ensure that all Bezier curves lie in the convex hull of their control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nce, even though we do not interpolate all the data, we cannot be too far a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2514600" y="4406760"/>
            <a:ext cx="3962520" cy="13082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2514600" y="426708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 flipV="1">
            <a:off x="4800240" y="4267080"/>
            <a:ext cx="1676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657600" y="4267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2514600" y="5638680"/>
            <a:ext cx="39625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6400800" y="56386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438280" y="556272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724280" y="419112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89360" y="5562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903760" y="3886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037480" y="3886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637680" y="5486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04760" y="43434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5410080" y="4572000"/>
            <a:ext cx="99072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85560" y="4799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 flipV="1">
            <a:off x="2438280" y="4495680"/>
            <a:ext cx="18288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21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398-716C-493E-A096-D000E5D7441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zier Pat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9" name="Picture 4" descr="AN10F20"/>
          <p:cNvPicPr/>
          <p:nvPr/>
        </p:nvPicPr>
        <p:blipFill>
          <a:blip r:embed="rId1"/>
          <a:stretch/>
        </p:blipFill>
        <p:spPr>
          <a:xfrm>
            <a:off x="2286000" y="3657600"/>
            <a:ext cx="4986360" cy="1941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97680" y="1828800"/>
            <a:ext cx="75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me data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interpolat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143000" y="2438280"/>
                <a:ext cx="67755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7"/>
          <p:cNvSpPr/>
          <p:nvPr/>
        </p:nvSpPr>
        <p:spPr>
          <a:xfrm>
            <a:off x="612720" y="38098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 l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2438280" y="4191120"/>
            <a:ext cx="137160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F33-74B1-44C4-BAF4-21840E23E4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alys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hough the Bezier form is much better than the interpolating form, we have the derivatives are not continuous at join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do bett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higher order Bez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 continuity still only 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fixed function Open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different cond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y without letting ord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DB2-F3CB-4811-BC09-495F26179A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-Spli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is splines: use the data at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[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define curve only between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us to apply more continuity conditions to each seg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cubics, we can have continuity of function, first and second derivatives at join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 is 3 times as much work for cur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one new point each time rather than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surfaces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do 9 times as much wor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921-B15A-4E27-8CA4-C9477A953D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ic B-splin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5" name="Picture 4" descr="AN10F22"/>
          <p:cNvPicPr/>
          <p:nvPr/>
        </p:nvPicPr>
        <p:blipFill>
          <a:blip r:embed="rId1"/>
          <a:stretch/>
        </p:blipFill>
        <p:spPr>
          <a:xfrm>
            <a:off x="4952880" y="3352680"/>
            <a:ext cx="3694320" cy="206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3429000"/>
                <a:ext cx="370548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Text Box 6"/>
          <p:cNvSpPr/>
          <p:nvPr/>
        </p:nvSpPr>
        <p:spPr>
          <a:xfrm>
            <a:off x="2286000" y="20574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u)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680-0BB1-4A8C-ACC2-CC1F699F1C2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85800" y="1828800"/>
                <a:ext cx="361620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u</m:t>
                                  </m:r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u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2" name="Picture 5" descr="AN10F23"/>
          <p:cNvPicPr/>
          <p:nvPr/>
        </p:nvPicPr>
        <p:blipFill>
          <a:blip r:embed="rId1"/>
          <a:stretch/>
        </p:blipFill>
        <p:spPr>
          <a:xfrm>
            <a:off x="5029200" y="1600200"/>
            <a:ext cx="3103560" cy="222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AN10F24"/>
          <p:cNvPicPr/>
          <p:nvPr/>
        </p:nvPicPr>
        <p:blipFill>
          <a:blip r:embed="rId2"/>
          <a:stretch/>
        </p:blipFill>
        <p:spPr>
          <a:xfrm>
            <a:off x="4648320" y="4267080"/>
            <a:ext cx="2743200" cy="1617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299240" y="48769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hul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C65B-B7DC-4E28-AE66-C71C6432C9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-Spline Pat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1676520"/>
                <a:ext cx="773604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P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Picture 5" descr="AN10F27"/>
          <p:cNvPicPr/>
          <p:nvPr/>
        </p:nvPicPr>
        <p:blipFill>
          <a:blip r:embed="rId1"/>
          <a:stretch/>
        </p:blipFill>
        <p:spPr>
          <a:xfrm>
            <a:off x="2286000" y="3581280"/>
            <a:ext cx="5519880" cy="2084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118400" y="297180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over only 1/9 of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5257440" y="3429000"/>
            <a:ext cx="609480" cy="99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7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C2A-3A83-4FB8-AAAA-F9A48DF689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lines and Bas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examine the cubic B-spline from the perspective of each control (data) point, each interior point contributes (through the blending functions) to four segm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rewrite p(u) in terms of the data points 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ing the basis function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u)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895480" y="4419720"/>
                <a:ext cx="3124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Footer Placeholder 5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E2DE-92C9-4C6A-BC8F-016D4E35460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sis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3520" y="2209680"/>
                <a:ext cx="4419360" cy="26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t xml:space="preserve">u</m:t>
                          </m:r>
                          <m:r>
                            <m:t xml:space="preserve">&lt;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u</m:t>
                          </m:r>
                          <m:r>
                            <m:t xml:space="preserve">&lt;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u</m:t>
                          </m:r>
                          <m:r>
                            <m:t xml:space="preserve">≥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1" name="Text Box 5"/>
          <p:cNvSpPr/>
          <p:nvPr/>
        </p:nvSpPr>
        <p:spPr>
          <a:xfrm>
            <a:off x="613440" y="160020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erms of the blending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AN10F25"/>
          <p:cNvPicPr/>
          <p:nvPr/>
        </p:nvPicPr>
        <p:blipFill>
          <a:blip r:embed="rId1"/>
          <a:stretch/>
        </p:blipFill>
        <p:spPr>
          <a:xfrm>
            <a:off x="5029200" y="2590920"/>
            <a:ext cx="3780000" cy="2143080"/>
          </a:xfrm>
          <a:prstGeom prst="rect">
            <a:avLst/>
          </a:prstGeom>
          <a:ln w="0">
            <a:noFill/>
          </a:ln>
        </p:spPr>
      </p:pic>
      <p:sp>
        <p:nvSpPr>
          <p:cNvPr id="183" name="Footer Placeholder 6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781F-D34B-4B89-9DE8-AC42E2B55A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izing Spli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extend to splines of any degre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 and conditions to not have to given at equally spaced values (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kno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uniform and uniform sp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have repeated kn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orce spline to interpolat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x-deBoor recursion gives method of evalu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zier and Spline Curves and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3276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813-14AB-4469-A368-40B9C87873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0BCA-A682-41D6-A042-AB90E6CB86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URB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iform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ine curves and surfaces add a fourth variable w to x,y,z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terpret as weight to give more importance to some contro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lso interpret as moving to homogeneous coord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a perspective divi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BS act correctly for perspective 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drics are a special case of NURB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1237-022E-47C7-9DFA-E3E34F6659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Bezier curves and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the required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B-spline and compare it to the standard cubic Bezi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2BB-819E-4FCB-8A81-485DE68004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zier’s Ide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graphics and CAD, we do not usually have derivative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zier suggested using the same 4 data points as with the cubic interpolating curve to approximate the derivatives in the Hermite form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4018-7BCE-4994-A9EE-9FAB372A6C0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proximating Deriva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Freeform 5"/>
          <p:cNvSpPr/>
          <p:nvPr/>
        </p:nvSpPr>
        <p:spPr>
          <a:xfrm>
            <a:off x="2514600" y="2438280"/>
            <a:ext cx="4191120" cy="32259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7"/>
          <p:cNvSpPr/>
          <p:nvPr/>
        </p:nvSpPr>
        <p:spPr>
          <a:xfrm>
            <a:off x="6629400" y="55627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8"/>
          <p:cNvSpPr/>
          <p:nvPr/>
        </p:nvSpPr>
        <p:spPr>
          <a:xfrm>
            <a:off x="5105520" y="19810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>
            <a:off x="3657600" y="19810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14600" y="2133360"/>
            <a:ext cx="121932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 flipV="1">
            <a:off x="5181120" y="2133720"/>
            <a:ext cx="83844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913400" y="5486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818160" y="1676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342400" y="1600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789960" y="541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13800" y="2286000"/>
            <a:ext cx="246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ted at u=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43000" y="2209680"/>
            <a:ext cx="246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ted at u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5200" y="3276720"/>
                <a:ext cx="2062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335640" y="3276720"/>
                <a:ext cx="2033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22"/>
          <p:cNvSpPr/>
          <p:nvPr/>
        </p:nvSpPr>
        <p:spPr>
          <a:xfrm>
            <a:off x="482760" y="4876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pe p’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1981080" y="5029200"/>
            <a:ext cx="53352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7086600" y="48006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pe p’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5"/>
          <p:cNvSpPr/>
          <p:nvPr/>
        </p:nvSpPr>
        <p:spPr>
          <a:xfrm flipH="1">
            <a:off x="6629400" y="510552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4176720" y="560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449568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2438280" y="54864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24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0CD5-236D-43F5-8376-8A5DEE89207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qu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05640" y="2209680"/>
            <a:ext cx="296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0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1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3657600"/>
            <a:ext cx="430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0) = 3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1) = 3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826560" y="16747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conditions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45280" y="31240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ng deriv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841320" y="4800600"/>
            <a:ext cx="48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ur linear equation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8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F766-7B1B-4168-BEA4-D9EEB6CEEA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zier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1828800"/>
                <a:ext cx="37339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8"/>
          <p:cNvSpPr/>
          <p:nvPr/>
        </p:nvSpPr>
        <p:spPr>
          <a:xfrm>
            <a:off x="2286000" y="44956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u)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062440" y="54100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4800600" y="5029200"/>
            <a:ext cx="45720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7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1ED-EB5D-4B0F-9FD5-16482E22EC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97080" y="2262240"/>
                <a:ext cx="23511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u</m:t>
                                  </m:r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u</m:t>
                              </m:r>
                              <m:sSup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u</m:t>
                                  </m:r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8" name="Picture 5" descr="AN10F18"/>
          <p:cNvPicPr/>
          <p:nvPr/>
        </p:nvPicPr>
        <p:blipFill>
          <a:blip r:embed="rId1"/>
          <a:stretch/>
        </p:blipFill>
        <p:spPr>
          <a:xfrm>
            <a:off x="4114800" y="1905120"/>
            <a:ext cx="3962520" cy="2468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77960" y="4876920"/>
            <a:ext cx="63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zeros are at 0 and 1 which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s to be smooth over 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A2EA-301D-47D3-8F5A-00259F0484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rnstein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blending functions are a special case of the Bernstein polynomi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se polynomials give the blending polynomials for any degree Bezier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zeros at 0 an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y degree they all sum t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all between 0 and 1 inside (0,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666880"/>
                <a:ext cx="4971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Footer Placeholder 5"/>
          <p:cNvSpPr/>
          <p:nvPr/>
        </p:nvSpPr>
        <p:spPr>
          <a:xfrm>
            <a:off x="457200" y="6400800"/>
            <a:ext cx="624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8:01:49Z</dcterms:modified>
  <cp:revision>321</cp:revision>
  <dc:subject/>
  <dc:title>PowerPoint Presentation</dc:title>
</cp:coreProperties>
</file>