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D500-64AA-4430-BCCE-B6FEB1DEC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CF3F-ED87-4E5D-AA8D-B19651BD3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68B5-AEF4-4F78-A45F-DD1EC414A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B454-8771-41DD-BA0F-8A45CCD46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3A1D-A895-4047-AC2B-9AF448E7C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44FB-F757-495C-83D5-FA057FDFD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74A0-A7B5-4688-90B9-65040144B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B17E-2163-48EA-A578-DCB527CA6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C102-3834-4CCE-BC20-B37FDBB20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8E2F-6B96-4182-8465-AC4328ACA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CFA6-7A37-4F85-96E9-987C63878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60DC-9B15-43F3-8872-D20E3EE6C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1F65-6229-4FDE-BFAB-F2E12E542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CB53-058A-47E6-86A4-662DB09DB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57DA-366D-4C01-8BA4-0D1843050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965B-A200-4B0C-92E9-0EDD537D3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5835-5825-4C2B-9C18-CF3CC96FC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8377-CCC9-4971-BE05-C413E447C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544B-1548-44E7-8801-CCFB57879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606A-8FEE-4B5D-BF33-7B6819DC8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1341-5AE2-41FC-8EC7-9B5A0E5B5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51BC-9A73-4D49-9A0C-FF90C6762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7A38-5335-4EB9-A9DB-8622F95AE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3B3F-F308-4472-A8D6-0EF57A004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5B18-BC07-4A79-98A2-719140203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7D0F-C66D-45CA-B624-19B8B03CEE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0F25-5BE2-4BFF-9C98-C1B42B2199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26BC-D420-44B5-AFE2-5D070D18F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99BE-1218-4066-B45C-392C6FF75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160E-2691-49DA-9C32-97689BDD6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6BD0-FDF1-4127-9CD7-FCED87BD3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A494-8AED-47A6-ABF8-89C9CABFA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9D516-93E1-4F8F-BDAC-ACF25D6C3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6AE0F-F96A-4E43-92F4-F6D9AA1C8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17C8-B1BE-4820-B1C7-0E0BFDAF9B3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6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C3CB-21E7-46F4-8DB1-D442EED0F85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9FE2-9831-4FA2-8565-0D164BC2270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ametric Cur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parate equation for each spatial vari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x=x(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=y(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z=z(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r u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trace out a curve in two or three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 flipV="1">
            <a:off x="365760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3657600" y="5638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 flipH="1">
            <a:off x="3047760" y="56386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8"/>
          <p:cNvSpPr/>
          <p:nvPr/>
        </p:nvSpPr>
        <p:spPr>
          <a:xfrm>
            <a:off x="3124080" y="4699080"/>
            <a:ext cx="2057400" cy="78732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3048120" y="5410080"/>
            <a:ext cx="152280" cy="152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4952880" y="5029200"/>
            <a:ext cx="15264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3886200" y="480060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92880" y="251460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)=[x(u), y(u), z(u)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87640" y="44197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2385360" y="5562720"/>
            <a:ext cx="98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5206680" y="5029200"/>
            <a:ext cx="100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15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8673-4204-4EF4-A32C-1FAEF666F66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electing Fun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ually we can select “good” function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unique for a given spatial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ximate or interpolate known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nt functions which are easy to evalu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nt functions which are easy to different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 of nor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ng pieces (seg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nt functions which are smoo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9E8F-CF06-4520-A690-95B12469FF2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ametric Lin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316160" y="2209680"/>
            <a:ext cx="517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connecting two poin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756520" y="2819520"/>
            <a:ext cx="233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)=(1-u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09080" y="1674720"/>
            <a:ext cx="66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normalize u to be over the interval 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 flipV="1">
            <a:off x="6172200" y="2743200"/>
            <a:ext cx="1143000" cy="838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781600" y="3581280"/>
            <a:ext cx="128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7323120" y="2286000"/>
            <a:ext cx="121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6095880" y="3505320"/>
            <a:ext cx="15264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7238880" y="2666880"/>
            <a:ext cx="152640" cy="152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443240" y="4114800"/>
            <a:ext cx="39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y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direc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2496960" y="4800600"/>
            <a:ext cx="163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)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5961240" y="4419720"/>
            <a:ext cx="1143000" cy="838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5570640" y="5257800"/>
            <a:ext cx="128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7174080" y="3962520"/>
            <a:ext cx="159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19"/>
          <p:cNvSpPr/>
          <p:nvPr/>
        </p:nvSpPr>
        <p:spPr>
          <a:xfrm>
            <a:off x="5884920" y="5181480"/>
            <a:ext cx="152280" cy="152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6607440" y="468936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18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6366-A7C4-4544-8447-02D2E494E87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ametric Surfa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rfaces require 2 paramet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x=x(u,v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y=y(u,v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z=z(u,v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u,v) = [x(u,v), y(u,v), z(u,v)]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ant same properties as curves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i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e of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7010280" y="33526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 flipV="1">
            <a:off x="7010280" y="20574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6"/>
          <p:cNvSpPr/>
          <p:nvPr/>
        </p:nvSpPr>
        <p:spPr>
          <a:xfrm flipH="1">
            <a:off x="6476760" y="3352680"/>
            <a:ext cx="5331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7"/>
          <p:cNvSpPr/>
          <p:nvPr/>
        </p:nvSpPr>
        <p:spPr>
          <a:xfrm rot="1389600">
            <a:off x="7010280" y="2514240"/>
            <a:ext cx="1067040" cy="1143000"/>
          </a:xfrm>
          <a:prstGeom prst="flowChartPunchedTape">
            <a:avLst/>
          </a:prstGeom>
          <a:gradFill rotWithShape="0">
            <a:gsLst>
              <a:gs pos="0">
                <a:srgbClr val="ccccff"/>
              </a:gs>
              <a:gs pos="50000">
                <a:srgbClr val="5e5e76"/>
              </a:gs>
              <a:gs pos="100000">
                <a:srgbClr val="cccc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7986960" y="324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61536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471720" y="3622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6858000" y="3581280"/>
            <a:ext cx="904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(u,0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8237520" y="2819520"/>
            <a:ext cx="904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(1,v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6095880" y="2666880"/>
            <a:ext cx="904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(0,v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7315200" y="2057400"/>
            <a:ext cx="904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(u,1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15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4B2C-0D88-45E7-B172-49A4B2EBFEC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orma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can differentiate with respect to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o obtain the normal at any point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0"/>
              <p:cNvSpPr txBox="1"/>
              <p:nvPr/>
            </p:nvSpPr>
            <p:spPr>
              <a:xfrm>
                <a:off x="762120" y="2666880"/>
                <a:ext cx="366048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∂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</m:den>
                              </m:f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∂</m:t>
                              </m:r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</m:den>
                              </m:f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∂</m:t>
                              </m:r>
                              <m:r>
                                <m:t xml:space="preserve">z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</m:den>
                              </m:f>
                              <m:r>
                                <m:t xml:space="preserve">u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"/>
              <p:cNvSpPr txBox="1"/>
              <p:nvPr/>
            </p:nvSpPr>
            <p:spPr>
              <a:xfrm>
                <a:off x="4952880" y="2666880"/>
                <a:ext cx="333396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∂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</m:den>
                              </m:f>
                              <m:r>
                                <m:t xml:space="preserve">v</m:t>
                              </m:r>
                            </m:e>
                          </m:mr>
                          <m:mr>
                            <m:e>
                              <m:r>
                                <m:t xml:space="preserve">∂</m:t>
                              </m:r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</m:den>
                              </m:f>
                              <m:r>
                                <m:t xml:space="preserve">v</m:t>
                              </m:r>
                            </m:e>
                          </m:mr>
                          <m:mr>
                            <m:e>
                              <m:r>
                                <m:t xml:space="preserve">∂</m:t>
                              </m:r>
                              <m:r>
                                <m:t xml:space="preserve">z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</m:den>
                              </m:f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1066680" y="4876920"/>
                <a:ext cx="3329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0" name="Picture 7" descr="C:\BOOK\OpenGL\Paul Final\jpeg_new\AN10F02.jpg"/>
          <p:cNvPicPr/>
          <p:nvPr/>
        </p:nvPicPr>
        <p:blipFill>
          <a:blip r:embed="rId1"/>
          <a:srcRect l="0" t="0" r="0" b="18340"/>
          <a:stretch/>
        </p:blipFill>
        <p:spPr>
          <a:xfrm>
            <a:off x="5562720" y="4255920"/>
            <a:ext cx="2438280" cy="1916280"/>
          </a:xfrm>
          <a:prstGeom prst="rect">
            <a:avLst/>
          </a:prstGeom>
          <a:ln w="0">
            <a:noFill/>
          </a:ln>
        </p:spPr>
      </p:pic>
      <p:sp>
        <p:nvSpPr>
          <p:cNvPr id="171" name="Footer Placeholder 8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DF84-0CC6-43DF-86CA-6158FF2F7CD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ametric Plan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607760" y="205596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-vector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140560" y="2666880"/>
            <a:ext cx="2319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,v)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= q x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12"/>
          <p:cNvGrpSpPr/>
          <p:nvPr/>
        </p:nvGrpSpPr>
        <p:grpSpPr>
          <a:xfrm>
            <a:off x="6400800" y="1828800"/>
            <a:ext cx="1828800" cy="1828800"/>
            <a:chOff x="6400800" y="1828800"/>
            <a:chExt cx="1828800" cy="1828800"/>
          </a:xfrm>
        </p:grpSpPr>
        <p:sp>
          <p:nvSpPr>
            <p:cNvPr id="177" name="Freeform 9"/>
            <p:cNvSpPr/>
            <p:nvPr/>
          </p:nvSpPr>
          <p:spPr>
            <a:xfrm>
              <a:off x="6400800" y="1976760"/>
              <a:ext cx="1356480" cy="168048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 flipV="1">
              <a:off x="6400800" y="2570040"/>
              <a:ext cx="1828800" cy="10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 flipV="1">
              <a:off x="6400800" y="1828800"/>
              <a:ext cx="5306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Text Box 13"/>
          <p:cNvSpPr/>
          <p:nvPr/>
        </p:nvSpPr>
        <p:spPr>
          <a:xfrm>
            <a:off x="6858000" y="32004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6325920" y="2514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6104520" y="36576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17"/>
          <p:cNvSpPr/>
          <p:nvPr/>
        </p:nvSpPr>
        <p:spPr>
          <a:xfrm>
            <a:off x="6324480" y="3581280"/>
            <a:ext cx="152640" cy="152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8"/>
          <p:cNvSpPr/>
          <p:nvPr/>
        </p:nvSpPr>
        <p:spPr>
          <a:xfrm flipV="1">
            <a:off x="7010280" y="1600200"/>
            <a:ext cx="3049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7391520" y="152388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1753560" y="419112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-poin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22"/>
          <p:cNvSpPr/>
          <p:nvPr/>
        </p:nvSpPr>
        <p:spPr>
          <a:xfrm>
            <a:off x="6858000" y="4110120"/>
            <a:ext cx="1357200" cy="168120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3"/>
          <p:cNvSpPr/>
          <p:nvPr/>
        </p:nvSpPr>
        <p:spPr>
          <a:xfrm flipV="1">
            <a:off x="6858000" y="5028840"/>
            <a:ext cx="12952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4"/>
          <p:cNvSpPr/>
          <p:nvPr/>
        </p:nvSpPr>
        <p:spPr>
          <a:xfrm flipV="1">
            <a:off x="6858000" y="4190760"/>
            <a:ext cx="45720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7"/>
          <p:cNvSpPr/>
          <p:nvPr/>
        </p:nvSpPr>
        <p:spPr>
          <a:xfrm>
            <a:off x="6561720" y="57913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28"/>
          <p:cNvSpPr/>
          <p:nvPr/>
        </p:nvSpPr>
        <p:spPr>
          <a:xfrm>
            <a:off x="6781680" y="5715000"/>
            <a:ext cx="15264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29"/>
          <p:cNvSpPr/>
          <p:nvPr/>
        </p:nvSpPr>
        <p:spPr>
          <a:xfrm flipV="1">
            <a:off x="7467480" y="3733920"/>
            <a:ext cx="3049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0"/>
          <p:cNvSpPr/>
          <p:nvPr/>
        </p:nvSpPr>
        <p:spPr>
          <a:xfrm>
            <a:off x="7848720" y="36576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31"/>
          <p:cNvSpPr/>
          <p:nvPr/>
        </p:nvSpPr>
        <p:spPr>
          <a:xfrm>
            <a:off x="8077320" y="487692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32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3"/>
          <p:cNvSpPr/>
          <p:nvPr/>
        </p:nvSpPr>
        <p:spPr>
          <a:xfrm>
            <a:off x="8085600" y="50292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4"/>
          <p:cNvSpPr/>
          <p:nvPr/>
        </p:nvSpPr>
        <p:spPr>
          <a:xfrm>
            <a:off x="6714000" y="41911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5"/>
          <p:cNvSpPr/>
          <p:nvPr/>
        </p:nvSpPr>
        <p:spPr>
          <a:xfrm>
            <a:off x="2304720" y="4876920"/>
            <a:ext cx="1462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28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2583-7A9C-4D94-97AB-B25E4CAD2BB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ametric Spher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5715000" y="2743200"/>
            <a:ext cx="1828800" cy="18288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5715000" y="3505320"/>
            <a:ext cx="182880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7"/>
          <p:cNvSpPr/>
          <p:nvPr/>
        </p:nvSpPr>
        <p:spPr>
          <a:xfrm>
            <a:off x="6324480" y="2743200"/>
            <a:ext cx="609840" cy="1828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587600" y="1905120"/>
            <a:ext cx="275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(u,v) = r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u,v) = r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(u,v) = r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983600" y="3505320"/>
            <a:ext cx="18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1059840" y="4724280"/>
            <a:ext cx="50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buClr>
                <a:srgbClr val="000000"/>
              </a:buClr>
              <a:buFont typeface="Symbol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: circles of constant long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: circles of constant la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597680" y="579132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 to show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ooter Placeholder 10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E999-D804-4ABF-B5F2-17CA72A2FDA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urve Segmen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fter normalizing u, each curve is written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u)=[x(u), y(u), z(u)]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  1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classical numerical methods, we design a single global cur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computer graphics and CAD, it is better to design small connected curv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2054"/>
          <p:cNvSpPr/>
          <p:nvPr/>
        </p:nvSpPr>
        <p:spPr>
          <a:xfrm>
            <a:off x="1447920" y="5245200"/>
            <a:ext cx="2057400" cy="4698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2056"/>
          <p:cNvSpPr/>
          <p:nvPr/>
        </p:nvSpPr>
        <p:spPr>
          <a:xfrm>
            <a:off x="3505320" y="5638680"/>
            <a:ext cx="2971800" cy="53352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057"/>
          <p:cNvSpPr/>
          <p:nvPr/>
        </p:nvSpPr>
        <p:spPr>
          <a:xfrm>
            <a:off x="1933560" y="46134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58"/>
          <p:cNvSpPr/>
          <p:nvPr/>
        </p:nvSpPr>
        <p:spPr>
          <a:xfrm>
            <a:off x="4878360" y="5334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2059"/>
          <p:cNvSpPr/>
          <p:nvPr/>
        </p:nvSpPr>
        <p:spPr>
          <a:xfrm>
            <a:off x="3429000" y="5562720"/>
            <a:ext cx="22860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2060"/>
          <p:cNvSpPr/>
          <p:nvPr/>
        </p:nvSpPr>
        <p:spPr>
          <a:xfrm>
            <a:off x="1371600" y="5638680"/>
            <a:ext cx="22860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2061"/>
          <p:cNvSpPr/>
          <p:nvPr/>
        </p:nvSpPr>
        <p:spPr>
          <a:xfrm>
            <a:off x="6324480" y="5562720"/>
            <a:ext cx="22860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62"/>
          <p:cNvSpPr/>
          <p:nvPr/>
        </p:nvSpPr>
        <p:spPr>
          <a:xfrm>
            <a:off x="687240" y="54864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063"/>
          <p:cNvSpPr/>
          <p:nvPr/>
        </p:nvSpPr>
        <p:spPr>
          <a:xfrm>
            <a:off x="6554520" y="5181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064"/>
          <p:cNvSpPr/>
          <p:nvPr/>
        </p:nvSpPr>
        <p:spPr>
          <a:xfrm flipH="1">
            <a:off x="3581280" y="4952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065"/>
          <p:cNvSpPr/>
          <p:nvPr/>
        </p:nvSpPr>
        <p:spPr>
          <a:xfrm>
            <a:off x="4037400" y="449568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po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ooter Placeholder 15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9083-B603-4279-B16B-B7BBC99B233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ametric Polynomial Cur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795240" y="1676520"/>
                <a:ext cx="24066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i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6"/>
              <p:cNvSpPr txBox="1"/>
              <p:nvPr/>
            </p:nvSpPr>
            <p:spPr>
              <a:xfrm>
                <a:off x="3249720" y="1676520"/>
                <a:ext cx="25066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5977080" y="1676520"/>
                <a:ext cx="25066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Text Box 8"/>
          <p:cNvSpPr/>
          <p:nvPr/>
        </p:nvSpPr>
        <p:spPr>
          <a:xfrm>
            <a:off x="756000" y="2971800"/>
            <a:ext cx="68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=M=K, we need to determine 3(N+1)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ly we need 3(N+1) independent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752040" y="4343400"/>
            <a:ext cx="71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ng that the curves for x, y and z are independ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efine each independently in an identical 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912240" y="5334120"/>
            <a:ext cx="46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the form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 can be any of x, y,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1"/>
              <p:cNvSpPr txBox="1"/>
              <p:nvPr/>
            </p:nvSpPr>
            <p:spPr>
              <a:xfrm>
                <a:off x="4343400" y="5105520"/>
                <a:ext cx="20019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4" name="Footer Placeholder 10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6721-348C-41CF-AE57-88846C0BF47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y Polynomia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asy to evalua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tinuous and differentiable everywhe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worry about continuity at join points including continuity of deriv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4"/>
          <p:cNvSpPr/>
          <p:nvPr/>
        </p:nvSpPr>
        <p:spPr>
          <a:xfrm>
            <a:off x="1676520" y="4559400"/>
            <a:ext cx="2057400" cy="4698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5"/>
          <p:cNvSpPr/>
          <p:nvPr/>
        </p:nvSpPr>
        <p:spPr>
          <a:xfrm flipV="1">
            <a:off x="3733920" y="4419000"/>
            <a:ext cx="2971800" cy="53316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162160" y="39276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5106960" y="46483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3"/>
          <p:cNvSpPr/>
          <p:nvPr/>
        </p:nvSpPr>
        <p:spPr>
          <a:xfrm flipH="1" flipV="1">
            <a:off x="3733920" y="5028840"/>
            <a:ext cx="3045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3656160" y="5486400"/>
            <a:ext cx="281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po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10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urves and Surfa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2CC0-BAE1-4573-81C0-90B3A5EE9CD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9448-780E-4B3E-A8EE-3EA450C1E69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ubic Parametric Polynomia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=M=L=3, gives balance between ease of evaluation and flexibility in desig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 coefficients to determine for each of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, 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k four independent conditions for various values of u resulting in 4 equations in 4 unknowns for eac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x, y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itions are a mixture of continuity requirements at the join points and conditions for fitting the d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2438280" y="2286000"/>
                <a:ext cx="24066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Footer Placeholder 5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12EF-F8FF-44E1-9552-7A4ADC7E7B4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ubic Polynomial Surfa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0"/>
              <p:cNvSpPr txBox="1"/>
              <p:nvPr/>
            </p:nvSpPr>
            <p:spPr>
              <a:xfrm>
                <a:off x="2057400" y="2819520"/>
                <a:ext cx="35434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3" name="Text Box 6"/>
          <p:cNvSpPr/>
          <p:nvPr/>
        </p:nvSpPr>
        <p:spPr>
          <a:xfrm>
            <a:off x="1842840" y="1905120"/>
            <a:ext cx="45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,v)=[x(u,v), y(u,v), z(u,v)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374120" y="251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329480" y="411480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y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, y or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059120" y="5029200"/>
            <a:ext cx="707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48 coefficients ( 3 independent sets of 16)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a surface 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ooter Placeholder 8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A1E4-C328-4E07-BE9D-CE099518A0C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types of curves and surfa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engths and weak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scuss Modeling and Approxim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E8A3-9AEC-4DE8-9E42-A37C63C4E2C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scaping Flatlan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til now we have worked with flat entities such as lines and flat polyg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t well with graphics 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hematically si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t the world is not composed of flat entit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curves and curved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only have need at the application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can render them approximately with flat primi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54AE-2968-44AD-B615-DCDD9367568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11"/>
          <p:cNvSpPr/>
          <p:nvPr/>
        </p:nvSpPr>
        <p:spPr>
          <a:xfrm>
            <a:off x="838080" y="2133720"/>
            <a:ext cx="7162920" cy="1866960"/>
          </a:xfrm>
          <a:prstGeom prst="pie">
            <a:avLst/>
          </a:pr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odeling with Cur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Oval 4"/>
          <p:cNvSpPr/>
          <p:nvPr/>
        </p:nvSpPr>
        <p:spPr>
          <a:xfrm>
            <a:off x="1295280" y="3352680"/>
            <a:ext cx="152640" cy="152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5"/>
          <p:cNvSpPr/>
          <p:nvPr/>
        </p:nvSpPr>
        <p:spPr>
          <a:xfrm>
            <a:off x="1981080" y="2590920"/>
            <a:ext cx="15264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6"/>
          <p:cNvSpPr/>
          <p:nvPr/>
        </p:nvSpPr>
        <p:spPr>
          <a:xfrm>
            <a:off x="4038480" y="3429000"/>
            <a:ext cx="15264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7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8"/>
          <p:cNvSpPr/>
          <p:nvPr/>
        </p:nvSpPr>
        <p:spPr>
          <a:xfrm>
            <a:off x="7924680" y="3809880"/>
            <a:ext cx="152640" cy="152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9"/>
          <p:cNvSpPr/>
          <p:nvPr/>
        </p:nvSpPr>
        <p:spPr>
          <a:xfrm>
            <a:off x="6019920" y="327672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2"/>
          <p:cNvSpPr/>
          <p:nvPr/>
        </p:nvSpPr>
        <p:spPr>
          <a:xfrm flipH="1" flipV="1">
            <a:off x="1447920" y="3580920"/>
            <a:ext cx="83808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3"/>
          <p:cNvSpPr/>
          <p:nvPr/>
        </p:nvSpPr>
        <p:spPr>
          <a:xfrm flipH="1" flipV="1">
            <a:off x="2057400" y="2742840"/>
            <a:ext cx="380880" cy="213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1297800" y="5029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5"/>
          <p:cNvSpPr/>
          <p:nvPr/>
        </p:nvSpPr>
        <p:spPr>
          <a:xfrm flipH="1" flipV="1">
            <a:off x="4571640" y="3809880"/>
            <a:ext cx="2286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356640" y="54100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ing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7"/>
          <p:cNvSpPr/>
          <p:nvPr/>
        </p:nvSpPr>
        <p:spPr>
          <a:xfrm flipH="1" flipV="1">
            <a:off x="6095880" y="3428640"/>
            <a:ext cx="45720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5076720" y="464832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olating data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17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E06C-482C-4582-AA56-116568A410C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at Makes a Good Representation?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re are many ways to represent curves and surfa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ant a representation that 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y to evalu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we interpolate or can we just come close to dat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we need derivativ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59E8-72FC-43A7-BCE9-72B808A53C7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plicit Represen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familiar form of curve in 2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=f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not represent all curv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tical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r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tension to 3D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=f(x), z=g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r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z = f(x,y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fines a su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6400800" y="24379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5"/>
          <p:cNvSpPr/>
          <p:nvPr/>
        </p:nvSpPr>
        <p:spPr>
          <a:xfrm>
            <a:off x="6400800" y="3733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6"/>
          <p:cNvSpPr/>
          <p:nvPr/>
        </p:nvSpPr>
        <p:spPr>
          <a:xfrm>
            <a:off x="6477120" y="2717640"/>
            <a:ext cx="1295280" cy="635040"/>
          </a:xfrm>
          <a:prstGeom prst="pie">
            <a:avLst/>
          </a:pr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7238880" y="57150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7238880" y="44197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 flipH="1">
            <a:off x="6705360" y="5715000"/>
            <a:ext cx="5331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 rot="1389600">
            <a:off x="7238880" y="4876560"/>
            <a:ext cx="1067040" cy="1143000"/>
          </a:xfrm>
          <a:prstGeom prst="flowChartPunchedTape">
            <a:avLst/>
          </a:prstGeom>
          <a:gradFill rotWithShape="0">
            <a:gsLst>
              <a:gs pos="0">
                <a:srgbClr val="ccccff"/>
              </a:gs>
              <a:gs pos="50000">
                <a:srgbClr val="5e5e76"/>
              </a:gs>
              <a:gs pos="100000">
                <a:srgbClr val="cccc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68439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600552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8215560" y="5603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6843960" y="430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6700320" y="5985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16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026F-BD8A-4228-920E-6EA39E93BE9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plicit Represen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wo dimensional curve(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(x,y)=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uch more robu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line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x+by+c=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rcle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ree dimensions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(x,y,z)=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defines a surf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sect two surface to get a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general, we cannot solve for points that satisf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747C-670E-497A-AA94-9001C1ED888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lgebraic Surfac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2819520" y="1905120"/>
                <a:ext cx="29527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</m:nary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5"/>
          <p:cNvSpPr/>
          <p:nvPr/>
        </p:nvSpPr>
        <p:spPr>
          <a:xfrm flipH="1">
            <a:off x="940680" y="2971800"/>
            <a:ext cx="756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r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+j+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most 10 ter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olve intersection with a ray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problem to solving quadratic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457200" y="6400800"/>
            <a:ext cx="640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23:08:41Z</dcterms:created>
  <dc:creator>Ed Angel</dc:creator>
  <dc:description/>
  <dc:language>en-US</dc:language>
  <cp:lastModifiedBy>Ed Angel</cp:lastModifiedBy>
  <dcterms:modified xsi:type="dcterms:W3CDTF">2014-03-31T18:01:18Z</dcterms:modified>
  <cp:revision>301</cp:revision>
  <dc:subject/>
  <dc:title>PowerPoint Presentation</dc:title>
</cp:coreProperties>
</file>