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9C8F-61A5-4F77-BF66-383C592E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63E-14D8-42AD-A240-2D19F656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4D07-B3ED-4C76-A794-685D8C197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64EE-D946-4BE0-BA24-26F63F154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ED76-1369-4F80-938B-8FF56942B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6122-3D06-4D49-AED2-3358AE3DD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0618-5314-448E-A7C5-2DE8CA9EE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801A-16F9-408F-8A3A-8E6C95ED7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3091-E7A2-4002-B577-14AB03A70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4C3D-DF39-44EE-97C4-8167C761E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F766-856D-4E2B-B21B-02B8CDED7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9ADA-36C0-4E71-BC29-6104DAA59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1116-1CF7-4247-9D02-69FC259E5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2ECA-D308-49F4-8C07-1E1E3BD83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BE6-B83F-4A6C-A737-CD03FF0A7D6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8D1-CEDE-40C3-85F5-649BED8A79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EF6-F935-4347-B885-966970BC6B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sk CR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29" descr="ftp://ftp.cs.unm.edu/pub/angel/BOOK/SECOND_EDITION/FIGURES/JPEG/an01f04.jpg"/>
          <p:cNvPicPr/>
          <p:nvPr/>
        </p:nvPicPr>
        <p:blipFill>
          <a:blip r:embed="rId1"/>
          <a:stretch/>
        </p:blipFill>
        <p:spPr>
          <a:xfrm>
            <a:off x="1676520" y="2073240"/>
            <a:ext cx="6019560" cy="357048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B79-1DAD-439E-9AF8-FA3EEE616E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tive and Subtractive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i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adding amounts of three prim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Ts, projection systems, posi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ies are Red (R), Green (G), Blue (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trac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filtering white light with cyan (C), Magenta (M), and Yellow (Y) 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-material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F39B-6DAF-4FDA-BF51-3D0A445853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nhole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Picture 5" descr="ftp://ftp.cs.unm.edu/pub/angel/BOOK/SECOND_EDITION/FIGURES/JPEG/an01f14.jpg"/>
          <p:cNvPicPr/>
          <p:nvPr/>
        </p:nvPicPr>
        <p:blipFill>
          <a:blip r:embed="rId1"/>
          <a:stretch/>
        </p:blipFill>
        <p:spPr>
          <a:xfrm>
            <a:off x="2514600" y="1600200"/>
            <a:ext cx="4054320" cy="2131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5303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x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3591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y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29440" y="40384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rigonometry to find projection of point at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059840" y="54864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equations of simple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266440" y="464832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9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1D3-6D3E-484A-8F8C-ECF720727F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ynthetic Camera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9" name="Picture 5" descr="ftp://ftp.cs.unm.edu/pub/angel/BOOK/SECOND_EDITION/FIGURES/JPEG/an01f19.jpg"/>
          <p:cNvPicPr/>
          <p:nvPr/>
        </p:nvPicPr>
        <p:blipFill>
          <a:blip r:embed="rId1"/>
          <a:stretch/>
        </p:blipFill>
        <p:spPr>
          <a:xfrm>
            <a:off x="2286000" y="1676520"/>
            <a:ext cx="4467240" cy="3475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502080" y="441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of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46880" y="37339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751760" y="1905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666880" y="2362320"/>
            <a:ext cx="609840" cy="1066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H="1" flipV="1">
            <a:off x="4191120" y="3352680"/>
            <a:ext cx="838080" cy="60984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 flipH="1" flipV="1">
            <a:off x="3200400" y="4191120"/>
            <a:ext cx="38088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4882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 flipV="1">
            <a:off x="5181120" y="3276720"/>
            <a:ext cx="38124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807800" y="4114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H="1" flipV="1">
            <a:off x="4038120" y="3580920"/>
            <a:ext cx="685800" cy="76212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1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AFC-C876-46F3-A5F0-C6A260B9F9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paration of objects, viewer, ligh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-dimensional graphics is a special case of 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simple software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objects, lights, camera,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implementation determine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fast hardware implement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03A-8920-4D7F-9142-F62BBCE145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vs Local Ligh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compute color or shade of each object independe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are blocked from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can reflect from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might be transluc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ftp://ftp.cs.unm.edu/pub/angel/BOOK/SECOND_EDITION/FIGURES/JPEG/an01f09.jpg"/>
          <p:cNvPicPr/>
          <p:nvPr/>
        </p:nvPicPr>
        <p:blipFill>
          <a:blip r:embed="rId1"/>
          <a:stretch/>
        </p:blipFill>
        <p:spPr>
          <a:xfrm>
            <a:off x="2514600" y="3962520"/>
            <a:ext cx="2986200" cy="234288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F479-A375-46A3-9FC0-CDC0B0DD9AC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not ray tracing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tracing seems more physically based so why don’t we use it to design a graphics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and is actually simple for simple objects such as polygons and quadrics with simple poin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nciple, can produce global lighting effects such as shadows and multiple reflections but ray tracing is slow and not well-suited for interactiv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tracing with GPUs is close to re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588-74F4-43E9-B146-6920DE5224C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B0A-2A2C-49F0-A3C5-E71E825F88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damental imaging no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ysical basis for image 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nthetic camera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890D-80B3-4B7A-ABAF-8B9632275B2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computer graphics, we form images which are generally two dimensional using a process analogous to how images are formed by physical imaging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visua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9856-3550-4ACA-B0F9-E9607555E4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lements of 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that govern how light interacts with the materials in the sc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e independence of the objects, the viewer, and the 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tp://ftp.cs.unm.edu/pub/angel/BOOK/SECOND_EDITION/FIGURES/JPEG/an01f07.jpg"/>
          <p:cNvPicPr/>
          <p:nvPr/>
        </p:nvPicPr>
        <p:blipFill>
          <a:blip r:embed="rId1"/>
          <a:stretch/>
        </p:blipFill>
        <p:spPr>
          <a:xfrm>
            <a:off x="4800600" y="1523880"/>
            <a:ext cx="2471760" cy="240660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E636-4553-4606-8D26-339B8BC13B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part of the electromagnetic spectrum that causes a reaction in our visual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 these are wavelengths in the range of about 350-750 nm (nanomet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ng wavelengths appear as reds and short wavelengths as b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5077-8DBE-4515-AFE2-01A4A6109B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an01f10"/>
          <p:cNvPicPr/>
          <p:nvPr/>
        </p:nvPicPr>
        <p:blipFill>
          <a:blip r:embed="rId1"/>
          <a:stretch/>
        </p:blipFill>
        <p:spPr>
          <a:xfrm>
            <a:off x="5715000" y="1890720"/>
            <a:ext cx="2948040" cy="3076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 and Geometric Opt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way to form an image is 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 rays of light from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source finding whi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s enter the lens of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mera. However, eac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of light may hav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interactions with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fore being absorbed or going to infin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3C01-D09E-4E1C-9177-8023B2DFC78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uminance and Color Im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uminance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hroma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s are gray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ogous to working with black and white film or 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erceptional attributes of hue, saturation, and ligh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have to match every frequency in visible spectrum?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CC8-3002-47DA-8CE9-4410C80D5E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tp://ftp.cs.unm.edu/pub/angel/BOOK/SECOND_EDITION/FIGURES/JPEG/an01f11.jpg"/>
          <p:cNvPicPr/>
          <p:nvPr/>
        </p:nvPicPr>
        <p:blipFill>
          <a:blip r:embed="rId1"/>
          <a:stretch/>
        </p:blipFill>
        <p:spPr>
          <a:xfrm>
            <a:off x="6172200" y="2743200"/>
            <a:ext cx="2457360" cy="1974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Color Theo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uman visual system has two types of sens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ds: monochromatic, nigh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ree values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istim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) are sent to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only match these three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thre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457200" y="64008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39:54Z</dcterms:created>
  <dc:creator>Ed Angel</dc:creator>
  <dc:description/>
  <dc:language>en-US</dc:language>
  <cp:lastModifiedBy>Ed Angel</cp:lastModifiedBy>
  <dcterms:modified xsi:type="dcterms:W3CDTF">2014-03-31T17:39:33Z</dcterms:modified>
  <cp:revision>25</cp:revision>
  <dc:subject/>
  <dc:title>PowerPoint Presentation</dc:title>
</cp:coreProperties>
</file>