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C6F8-93CE-490F-99F1-4C2F8D098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7715-9D74-4A7F-99B1-EC7D9CCB1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524B-E801-4FB9-A71C-1AD785A55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96BB-EDD1-43FB-9C98-5A28F6544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61C7-1DF1-4DDF-AE75-3C84FD8B52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6061D-E4AB-4B52-A4D9-78335BC37F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C487-7023-41CE-BA9F-6F23956101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EB7CB-ED2F-4B8D-9ED9-E634C22CA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674FC-7377-4F1B-8B42-39EE6CE27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D5971-FE75-4D50-8359-EB99B3F1D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468C-86D9-488B-BEA6-C8F6DC1DE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5F9A-3F7D-454B-A3D2-382B1CCF8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E744-75E6-4493-A2D2-ACAFEB407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C40F8-131A-4B00-979D-E50B1FEF4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5896-D378-44F2-A8EB-24259C10C75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78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A4B6-EB34-478E-ACDC-9E3C1100006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0124-055E-453D-A3F4-63B5DAE9FE3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fficient For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0" name="Picture 4" descr="C:\BOOK\OpenGL\Paul Final\jpeg_new\AN10F34.jpg"/>
          <p:cNvPicPr/>
          <p:nvPr/>
        </p:nvPicPr>
        <p:blipFill>
          <a:blip r:embed="rId1"/>
          <a:stretch/>
        </p:blipFill>
        <p:spPr>
          <a:xfrm>
            <a:off x="3886200" y="2514600"/>
            <a:ext cx="5022720" cy="2284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1178280" y="1981080"/>
            <a:ext cx="286272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½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½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½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½(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½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½(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½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527840" y="5334120"/>
            <a:ext cx="42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only shifts and add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6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5029-601E-44DB-A2CD-1AFE7B6C21A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very Curve is a Bezier Curv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can render a given polynomial using the recursive method if we find control points for its representation as a Bezier curv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ose that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(u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given as an interpolating curve with control points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re exist Bezier control points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such th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quating and solving, we find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213720" y="3886200"/>
            <a:ext cx="165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u)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216960" y="4876920"/>
            <a:ext cx="170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u)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6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325D-EB97-4978-A2CC-9ADDAAFA229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atri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Text Box 2052"/>
          <p:cNvSpPr/>
          <p:nvPr/>
        </p:nvSpPr>
        <p:spPr>
          <a:xfrm>
            <a:off x="841320" y="251460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olating to Bez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053"/>
          <p:cNvSpPr/>
          <p:nvPr/>
        </p:nvSpPr>
        <p:spPr>
          <a:xfrm>
            <a:off x="1299240" y="4724280"/>
            <a:ext cx="26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-Spline to Bez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191120" y="1676520"/>
                <a:ext cx="3962160" cy="21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935600" y="4133880"/>
                <a:ext cx="2928960" cy="17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Footer Placeholder 7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07D9-7237-4D1F-94CF-83004A8D1FE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9" name="Picture 4" descr="C:\BOOK\OpenGL\Paul Final\jpeg_new\AN10F35A.jpg"/>
          <p:cNvPicPr/>
          <p:nvPr/>
        </p:nvPicPr>
        <p:blipFill>
          <a:blip r:embed="rId1"/>
          <a:srcRect l="0" t="0" r="0" b="9364"/>
          <a:stretch/>
        </p:blipFill>
        <p:spPr>
          <a:xfrm>
            <a:off x="1066680" y="3657600"/>
            <a:ext cx="1895760" cy="1600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BOOK\OpenGL\Paul Final\jpeg_new\AN10F35B.jpg"/>
          <p:cNvPicPr/>
          <p:nvPr/>
        </p:nvPicPr>
        <p:blipFill>
          <a:blip r:embed="rId2"/>
          <a:srcRect l="0" t="0" r="0" b="9761"/>
          <a:stretch/>
        </p:blipFill>
        <p:spPr>
          <a:xfrm>
            <a:off x="3886200" y="3581280"/>
            <a:ext cx="1911240" cy="1600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C:\BOOK\OpenGL\Paul Final\jpeg_new\AN10F35C.jpg"/>
          <p:cNvPicPr/>
          <p:nvPr/>
        </p:nvPicPr>
        <p:blipFill>
          <a:blip r:embed="rId3"/>
          <a:srcRect l="0" t="0" r="0" b="9509"/>
          <a:stretch/>
        </p:blipFill>
        <p:spPr>
          <a:xfrm>
            <a:off x="6324480" y="3809880"/>
            <a:ext cx="1895760" cy="1600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726120" y="17510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hree curves were all generated from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data using Bezier recursion by converting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point data to Bezier control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298160" y="54864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z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3940200" y="55627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ol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6650640" y="548640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S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10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E0F9-85B7-419C-99A4-BCEF56EB736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urfa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apply the recursive method to surfaces if we recall that for a Bezier patch curves of constant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are Bezier curves in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rst subdivide in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creates new poi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of the original points are discar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C:\BOOK\OpenGL\Paul Final\jpeg_new\AN10F36.jpg"/>
          <p:cNvPicPr/>
          <p:nvPr/>
        </p:nvPicPr>
        <p:blipFill>
          <a:blip r:embed="rId1"/>
          <a:stretch/>
        </p:blipFill>
        <p:spPr>
          <a:xfrm>
            <a:off x="685800" y="4495680"/>
            <a:ext cx="3505320" cy="1393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:\BOOK\OpenGL\Paul Final\jpeg_new\AN10F37A.jpg"/>
          <p:cNvPicPr/>
          <p:nvPr/>
        </p:nvPicPr>
        <p:blipFill>
          <a:blip r:embed="rId2"/>
          <a:stretch/>
        </p:blipFill>
        <p:spPr>
          <a:xfrm>
            <a:off x="4800600" y="4648320"/>
            <a:ext cx="3429000" cy="1350720"/>
          </a:xfrm>
          <a:prstGeom prst="rect">
            <a:avLst/>
          </a:prstGeom>
          <a:ln w="0">
            <a:noFill/>
          </a:ln>
        </p:spPr>
      </p:pic>
      <p:sp>
        <p:nvSpPr>
          <p:cNvPr id="132" name="Line 8"/>
          <p:cNvSpPr/>
          <p:nvPr/>
        </p:nvSpPr>
        <p:spPr>
          <a:xfrm>
            <a:off x="4114800" y="5334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2354040" y="601812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and k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0"/>
          <p:cNvSpPr/>
          <p:nvPr/>
        </p:nvSpPr>
        <p:spPr>
          <a:xfrm flipV="1">
            <a:off x="4648320" y="5943240"/>
            <a:ext cx="457200" cy="304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251400" y="60199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2"/>
          <p:cNvSpPr/>
          <p:nvPr/>
        </p:nvSpPr>
        <p:spPr>
          <a:xfrm flipH="1" flipV="1">
            <a:off x="5486400" y="5791320"/>
            <a:ext cx="45720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5940720" y="4038480"/>
            <a:ext cx="28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and disca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4"/>
          <p:cNvSpPr/>
          <p:nvPr/>
        </p:nvSpPr>
        <p:spPr>
          <a:xfrm flipH="1">
            <a:off x="7619760" y="4419720"/>
            <a:ext cx="152280" cy="30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13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29EC-2D99-4E5A-A8DE-F987834E0A6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econd Subdivis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42" name="Picture 4" descr="C:\BOOK\OpenGL\Paul Final\jpeg_new\AN10F37B.jpg"/>
          <p:cNvPicPr/>
          <p:nvPr/>
        </p:nvPicPr>
        <p:blipFill>
          <a:blip r:embed="rId1"/>
          <a:stretch/>
        </p:blipFill>
        <p:spPr>
          <a:xfrm>
            <a:off x="2743200" y="1752480"/>
            <a:ext cx="3886200" cy="1127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BOOK\OpenGL\Paul Final\jpeg_new\AN10F38A.jpg"/>
          <p:cNvPicPr/>
          <p:nvPr/>
        </p:nvPicPr>
        <p:blipFill>
          <a:blip r:embed="rId2"/>
          <a:stretch/>
        </p:blipFill>
        <p:spPr>
          <a:xfrm>
            <a:off x="4724280" y="2971800"/>
            <a:ext cx="3657600" cy="1549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BOOK\OpenGL\Paul Final\jpeg_new\AN10F36.jpg"/>
          <p:cNvPicPr/>
          <p:nvPr/>
        </p:nvPicPr>
        <p:blipFill>
          <a:blip r:embed="rId3"/>
          <a:stretch/>
        </p:blipFill>
        <p:spPr>
          <a:xfrm>
            <a:off x="762120" y="3048120"/>
            <a:ext cx="3504960" cy="1393560"/>
          </a:xfrm>
          <a:prstGeom prst="rect">
            <a:avLst/>
          </a:prstGeom>
          <a:ln w="0">
            <a:noFill/>
          </a:ln>
        </p:spPr>
      </p:pic>
      <p:sp>
        <p:nvSpPr>
          <p:cNvPr id="145" name="Line 7"/>
          <p:cNvSpPr/>
          <p:nvPr/>
        </p:nvSpPr>
        <p:spPr>
          <a:xfrm>
            <a:off x="4267080" y="38862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8" descr="C:\BOOK\OpenGL\Paul Final\jpeg_new\AN10F39.jpg"/>
          <p:cNvPicPr/>
          <p:nvPr/>
        </p:nvPicPr>
        <p:blipFill>
          <a:blip r:embed="rId4"/>
          <a:stretch/>
        </p:blipFill>
        <p:spPr>
          <a:xfrm>
            <a:off x="4724280" y="4724280"/>
            <a:ext cx="3353040" cy="14194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9"/>
          <p:cNvSpPr/>
          <p:nvPr/>
        </p:nvSpPr>
        <p:spPr>
          <a:xfrm>
            <a:off x="763200" y="5257800"/>
            <a:ext cx="31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final point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of 4 patches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3429000" y="5562720"/>
            <a:ext cx="1676520" cy="759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ooter Placeholder 10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25E2-E731-4B14-9F3D-371CCE0F3C5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Normal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r rendering we need the normals if we want to sha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compute from parametric eq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vertices of corner points to determ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GL can compute automat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666880" y="3276720"/>
                <a:ext cx="33292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Footer Placeholder 5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ndering Other Polynomial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ery polynomial is a Bezier polynomial for some set of control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an use a Bezier renderer if we first convert the given control data to Bezier control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quivalent to converting between matr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ple: Interpolating to Bezi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B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AD5E-DB1A-42DE-807C-AE140D3BB3C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C111-B4D4-4E8F-A4FE-CD27307DE4D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Utah Teapo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st famous data set in computer graph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dely available as a list of 306 3D vertices and the indices that define 32 Bezier patch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C:\BOOK\OpenGL\Paul Final\jpeg_new\AN10F40A.jpg"/>
          <p:cNvPicPr/>
          <p:nvPr/>
        </p:nvPicPr>
        <p:blipFill>
          <a:blip r:embed="rId1"/>
          <a:stretch/>
        </p:blipFill>
        <p:spPr>
          <a:xfrm>
            <a:off x="2057400" y="3200400"/>
            <a:ext cx="4800600" cy="259380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5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FE72-5F1E-4521-8230-79F44949DBE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Quadric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y quadric can be written as the quadratic for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+c=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=[x, y, z]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ving the coeffici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nder by ray cast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sect with parametric ra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passes through a pix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ields a scalar quadratic eq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olution: ray misses quad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olution: ray tangent to quad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olutions: entry and exit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ndering Curves and Surfa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7720" y="32767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4369-4A24-48A7-92D8-CD62C6429CF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F1BA-9580-41E7-A182-3548EEF08DB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methods to draw curv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oximate with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ite Dif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rive the recursive method for evaluation of Bezier curves and surfa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rn how to convert all polynomial data to data for Bezier polynomia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D067-74F3-45F1-B7D8-E7C524FA337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valuating Polynomial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mplest method to render a polynomial curve is to evaluate the polynomial at many points and form an approximating polyl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r surfaces we can form an approximating mesh of triangles or quadrilatera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 Horner’s method to evaluate polynomia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(u)=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+u(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+u(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+u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multiplications/evaluation for cub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3474-A0BD-47E1-8699-E11A457E9B5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eCasteljau Recurs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an use the convex hull property of Bezier curves to obtain an efficient recursive method that does not require any function evalu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only the values at the control 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ased on the idea that “any polynomial and any part of a polynomial is a Bezier polynomial for properly chosen control data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B45A-6F7C-4C44-ACB5-726581D7D59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plitting a Cubic Bezi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2" name="Picture 4" descr="C:\BOOK\OpenGL\Paul Final\jpeg_new\AN10F33.jpg"/>
          <p:cNvPicPr/>
          <p:nvPr/>
        </p:nvPicPr>
        <p:blipFill>
          <a:blip r:embed="rId1"/>
          <a:stretch/>
        </p:blipFill>
        <p:spPr>
          <a:xfrm>
            <a:off x="762120" y="2819520"/>
            <a:ext cx="7915320" cy="2820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913320" y="1905120"/>
            <a:ext cx="6561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a cubic Bezier poly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ts convex h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6"/>
          <p:cNvSpPr/>
          <p:nvPr/>
        </p:nvSpPr>
        <p:spPr>
          <a:xfrm>
            <a:off x="6095880" y="2438280"/>
            <a:ext cx="304920" cy="1676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3505320" y="2514600"/>
            <a:ext cx="45720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765800" y="57913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left hal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(u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ight hal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ooter Placeholder 8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5D4D-B543-4E04-B922-D419BE830F1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Times New Roman"/>
              </a:rPr>
              <a:t>l(u)</a:t>
            </a: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1" lang="en-US" sz="3700" spc="-1" strike="noStrike">
                <a:solidFill>
                  <a:srgbClr val="3333cc"/>
                </a:solidFill>
                <a:latin typeface="Times New Roman"/>
              </a:rPr>
              <a:t>r(u)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0" name="Picture 4" descr="C:\BOOK\OpenGL\Paul Final\jpeg_new\AN10F33.jpg"/>
          <p:cNvPicPr/>
          <p:nvPr/>
        </p:nvPicPr>
        <p:blipFill>
          <a:blip r:embed="rId1"/>
          <a:stretch/>
        </p:blipFill>
        <p:spPr>
          <a:xfrm>
            <a:off x="685800" y="3352680"/>
            <a:ext cx="7162920" cy="2552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663480" y="1600200"/>
            <a:ext cx="7989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(u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(u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Bezier curves, we should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wo sets of control po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determin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5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DCFA-494B-4579-A820-4FC14B5A0F5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nvex Hull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5" name="Picture 1028" descr="C:\BOOK\OpenGL\Paul Final\jpeg_new\AN10F33.jpg"/>
          <p:cNvPicPr/>
          <p:nvPr/>
        </p:nvPicPr>
        <p:blipFill>
          <a:blip r:embed="rId1"/>
          <a:stretch/>
        </p:blipFill>
        <p:spPr>
          <a:xfrm>
            <a:off x="838080" y="3733920"/>
            <a:ext cx="7162920" cy="2552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29"/>
          <p:cNvSpPr/>
          <p:nvPr/>
        </p:nvSpPr>
        <p:spPr>
          <a:xfrm>
            <a:off x="787680" y="1600200"/>
            <a:ext cx="7794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have a convex hull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 closer to p(u) than the convex hull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known a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riation diminishing proper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30"/>
          <p:cNvSpPr/>
          <p:nvPr/>
        </p:nvSpPr>
        <p:spPr>
          <a:xfrm>
            <a:off x="689400" y="2895480"/>
            <a:ext cx="8245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yline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approxi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(u). Repeating recursively we get better approxim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6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5B61-2DA4-41C2-A1C6-5A86733DFE5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qua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618560" y="1676520"/>
            <a:ext cx="538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Bezier equ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u)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600920" y="220968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(u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interpol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0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731600" y="2743200"/>
            <a:ext cx="5248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(0) =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(1) =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p(1/2) = 1/8(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916200" y="3733920"/>
            <a:ext cx="732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ing slopes, taking into account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(u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go over half the distance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566720" y="4648320"/>
            <a:ext cx="6024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(0) = 3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p’(0) = 3/2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(1) = 3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p’(1/2) = 3/8(-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068840" y="5715000"/>
            <a:ext cx="46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equations hold 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9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19:17:07Z</dcterms:created>
  <dc:creator>Ed Angel</dc:creator>
  <dc:description/>
  <dc:language>en-US</dc:language>
  <cp:lastModifiedBy>Ed Angel</cp:lastModifiedBy>
  <dcterms:modified xsi:type="dcterms:W3CDTF">2014-03-31T18:02:06Z</dcterms:modified>
  <cp:revision>341</cp:revision>
  <dc:subject/>
  <dc:title>PowerPoint Presentation</dc:title>
</cp:coreProperties>
</file>