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7803-6D4E-41A9-9554-33B3F0E9F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C44D-9B27-4460-ACF4-98EDC2448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28F9-3673-4CAE-9F1F-A59A5DCCF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3FAA-DCBC-41CF-A60C-09BE9B8D7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D34B-01F6-42A4-8895-279B49ECB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C55E-CCE6-47D3-8E45-6A0BFAF61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3B4D-2C35-4F46-A071-CAEC8FB87C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E138-1BC3-456B-8C2E-63778DE874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CE77-71F0-4064-97E2-B7FA25462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EB05-FE38-46B0-9C00-717DE1B4D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C5AF-7000-4501-9B56-A3DC33273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9FE2-AF63-41DF-BAB1-19D6F5A06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5A06-D96C-43A8-ABC6-33FB65D60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A583-2C07-4994-8592-6A2C2E76F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7E7E-0141-4F2C-93D5-1D77CE63C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A678-CCD4-483C-A6AF-CE2DCE01E04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A524-86B8-469E-A8F9-BFAEAE55386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E653-23D6-4105-AEEF-A2B14AD9B3F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Moving the Camera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move the camera to any desired position by a sequence of rotations and transl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: side vie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te the cam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e it away from orig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-view matrix C = T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:\BOOK\OpenGL\Paul Final\Art\jpeg\AN05F14.jpg"/>
          <p:cNvPicPr/>
          <p:nvPr/>
        </p:nvPicPr>
        <p:blipFill>
          <a:blip r:embed="rId1"/>
          <a:stretch/>
        </p:blipFill>
        <p:spPr>
          <a:xfrm>
            <a:off x="5334120" y="2590920"/>
            <a:ext cx="3227400" cy="2954160"/>
          </a:xfrm>
          <a:prstGeom prst="rect">
            <a:avLst/>
          </a:prstGeom>
          <a:ln w="0">
            <a:noFill/>
          </a:ln>
        </p:spPr>
      </p:pic>
      <p:sp>
        <p:nvSpPr>
          <p:cNvPr id="98" name="Footer Placeholder 5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425D-FC52-435F-B3CE-058702FBE40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ebGL co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member that last transformation specified is first to be appli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28"/>
          <p:cNvSpPr/>
          <p:nvPr/>
        </p:nvSpPr>
        <p:spPr>
          <a:xfrm>
            <a:off x="1554840" y="2819520"/>
            <a:ext cx="5972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Using MV.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t = translate (0.0, 0.0, -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ry = rotateY(9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m = mult(t, r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m = mult(translate (0.0, 0.0, -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tateY(90.0);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1035-2B45-4BD8-90A5-25C46C1CAC8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lookAt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6" name="Picture 5" descr="C:\BOOK\OpenGL\Paul Final\Art\jpeg\AN05F18.jpg"/>
          <p:cNvPicPr/>
          <p:nvPr/>
        </p:nvPicPr>
        <p:blipFill>
          <a:blip r:embed="rId1"/>
          <a:stretch/>
        </p:blipFill>
        <p:spPr>
          <a:xfrm>
            <a:off x="1447920" y="1828800"/>
            <a:ext cx="6294240" cy="4487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kAt(eye, at, 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5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4B37-F01D-46CE-9448-704B5442C75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The lookAt Function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GLU library contained the function gluLookAt to form the required modelview matrix through a simple interf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 the need for setting an up dir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laced by lookAt() in MV.j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ncatenate with modeling transform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: isometric view of cube aligned with ax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701000" y="5029200"/>
            <a:ext cx="47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eye = vec3(1.0, 1.0, 1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at = vec3(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up = vec3(0.0, 1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mv = LookAt(eye, at, up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C907-F2B2-4933-A63C-A8BCE0075DE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Other Viewing APIs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LookAt function is only one possible API for positioning the came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s inclu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 reference point, view plane normal, view up (PHIGS, GKS-3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aw, pitch, ro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vation, azimuth, tw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ion ang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DBDD-7675-4006-B369-FEF5F2FE06D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er Viewing</a:t>
            </a:r>
            <a:br>
              <a:rPr sz="3700"/>
            </a:b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ositioning the Camera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FF07-2FCE-4E78-B37F-716AFFD69EA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the mathematics of proj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WebGL viewing functions in MV.j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ok at alternate viewing AP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om the Beginn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178920" indent="-178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the beginning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92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ed function pipe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92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-View and Projection Trans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92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efined frames: model, object, camera, clip, ndc, wind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fter depre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92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peline with programmable sh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92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transform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92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, ndc window fra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V.js reintroduces original capabili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B104-FC3A-43DF-B32F-BF5D260D098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3675-E035-4291-8F1F-03175B48B2A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er View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re are three aspects of the viewing process, all of which are implemented in the pipeline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ing the cam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the model-view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ing a l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the projection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the view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B86A-87B2-4712-9FF1-FBDE630A2FC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The WebGL Camera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WebGL, initially the object and camera frames are the sa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ault model-view matrix is an ide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camera is located at origin and points in the negative z dir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bGL also specifies a default view volume that is a cube with sides of length 2 centered at the origi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ault projection matrix is an ide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34BB-A227-4607-9415-3A871B393F2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Default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Projection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fault projection is orthogon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BOOK\OpenGL\Paul Final\Art\jpeg\AN05F11.jpg"/>
          <p:cNvPicPr/>
          <p:nvPr/>
        </p:nvPicPr>
        <p:blipFill>
          <a:blip r:embed="rId1"/>
          <a:stretch/>
        </p:blipFill>
        <p:spPr>
          <a:xfrm>
            <a:off x="2590920" y="2200320"/>
            <a:ext cx="4343400" cy="3593880"/>
          </a:xfrm>
          <a:prstGeom prst="rect">
            <a:avLst/>
          </a:prstGeom>
          <a:ln w="0">
            <a:noFill/>
          </a:ln>
        </p:spPr>
      </p:pic>
      <p:sp>
        <p:nvSpPr>
          <p:cNvPr id="78" name="Line 6"/>
          <p:cNvSpPr/>
          <p:nvPr/>
        </p:nvSpPr>
        <p:spPr>
          <a:xfrm flipH="1">
            <a:off x="5714640" y="3048120"/>
            <a:ext cx="685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019920" y="26668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pp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7086600" y="441972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9"/>
          <p:cNvSpPr/>
          <p:nvPr/>
        </p:nvSpPr>
        <p:spPr>
          <a:xfrm flipV="1">
            <a:off x="3733920" y="32004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659040" y="3124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10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04DD-1565-482B-B582-61804994ACD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Moving the Camera Frame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we want to visualize objects with both positive and negative z values we can ei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e the camera in the positive z dir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camera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e the objects in the negative z dir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worl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th of these views are equivalent and are determined by the model-view matri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nt a translati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anslate(0.0,0.0,-d)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 &g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7804-45CE-4238-A974-D36A94FF621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Moving Camera back from Origin 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0" name="Picture 5" descr="C:\BOOK\OpenGL\Paul Final\Art\jpeg\AN05F13.jpg"/>
          <p:cNvPicPr/>
          <p:nvPr/>
        </p:nvPicPr>
        <p:blipFill>
          <a:blip r:embed="rId1"/>
          <a:stretch/>
        </p:blipFill>
        <p:spPr>
          <a:xfrm>
            <a:off x="1523880" y="2057400"/>
            <a:ext cx="6446880" cy="4081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2438280"/>
            <a:ext cx="22096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115520" y="1600200"/>
            <a:ext cx="41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s after translation by –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4:00:33Z</dcterms:created>
  <dc:creator>Ed Angel</dc:creator>
  <dc:description/>
  <dc:language>en-US</dc:language>
  <cp:lastModifiedBy>Ed Angel</cp:lastModifiedBy>
  <dcterms:modified xsi:type="dcterms:W3CDTF">2014-03-31T17:49:20Z</dcterms:modified>
  <cp:revision>146</cp:revision>
  <dc:subject/>
  <dc:title>PowerPoint Presentation</dc:title>
</cp:coreProperties>
</file>