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203FA-10A4-4674-AD43-702FEA0BB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AC49C-9D2B-461C-86C0-FF8E13E90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50B29-A0B0-4051-AA04-5E2A709F6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12592-DF76-4EA1-9D8D-7F6684124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7C9F6-B696-4AB8-A102-DC6866AE9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150CD-DFE5-4BFE-8C66-190883183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E4597-1E6E-4E85-ADA9-18E21563A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C37F5-9201-448E-A176-5284E6B29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805EC-D198-4EBF-88AB-C07FC9CC3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F7C6F-09BC-4A4A-9C37-5B5666DAD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4C0AC-29E6-46BE-84D1-DB05CDB1E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724FA-2A43-421C-AB5D-C4D27C9F8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4316-0713-4F35-A6FD-25D8A8DBA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BD8E-B7B5-42EB-96B5-7B08EBC0F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A5FA-1DE6-4EF4-ACFA-2A0A4A885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4AC6-E905-4216-AE15-7CC511432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54FC-CA6E-43F8-90B5-B4B282D01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D7EA-3066-4771-BBDB-1482A8470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77C4-7403-43C0-AD5F-5F6C1BE2D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7366-6186-4726-A659-90CC56BB6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13CA-56BD-470D-B109-316626A08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2546-151B-4492-8F7D-47C8F46E0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24FB-17B8-4C72-9C65-6C6E7A473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317C-C106-4671-ADFC-B671D78D7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17B-FE35-4A48-93E6-3996A755C6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38D6-5AC1-4B71-8BDA-FE97C4CEB5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 about Games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more cour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Storytel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 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-time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9274-7C2D-44BA-B4E1-13890C5608E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upercompu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stest supercomputers use GPUs for floating point oper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G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CL/WebG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power is a major issu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scale machine will require 20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l vs A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B8F3-14A4-4C3F-BD59-3FB6124180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’s Nex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E248-AEFA-46BC-B957-0369143D5E3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 we can do now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e basic 3D web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ntegrate with other HTML5 pack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k with event-driven inp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a variety of texture-based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ke use of off-screen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369D-5298-46F0-B23E-7DD8FC71D31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 we haven’t cover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re OpenGL capabil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ernate render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gration with We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re are things go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E4E4-FDF4-49E3-B303-C0D87BC2DA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’s in desktop Open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ch more control and many more op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y,Tessellation and Comput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of Detail (L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-4 Dimensional Tex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more texture o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ex Array Buff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cclusion Que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87DD-556A-4D0A-943E-554333F6692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 should we expect soon in API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vement of more desktop OpenGL features to ES and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CL 1.0 released March 201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 3.0 and ES 3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CMA 6 Script draft (new version of J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ny JS variants such as Coffee Scrip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1229-DB03-4CB3-890C-060448578E9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Players have Chang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iginally hardware and software was dominated by the scientific and CAD commun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GI key for both 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developed by SG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PCs and graphics cards leadership moved to Microsoft and game us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Toast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AA02-2938-4563-9ADE-F151F42D157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layers Have Chang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ment of GP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vidia, AMD and Intel domi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makes a come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g (Nvidia) leads to GLS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ve games control direction of hw and s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 and smart pho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, Mozilla, Nokia and others dominat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M dominates smart phone c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EAC4-ABD1-4460-9EE3-EC4FC2A4EC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vanced Top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vel of Detail (LOD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age based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field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Tracing (CS 413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lume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int Clou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D5B-CD7F-4B0D-B33E-1F4229A068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8:16:32Z</dcterms:created>
  <dc:creator>Ed Angel</dc:creator>
  <dc:description/>
  <dc:language>en-US</dc:language>
  <cp:lastModifiedBy>Ed Angel</cp:lastModifiedBy>
  <dcterms:modified xsi:type="dcterms:W3CDTF">2014-04-12T21:44:32Z</dcterms:modified>
  <cp:revision>175</cp:revision>
  <dc:subject/>
  <dc:title>PowerPoint Presentation</dc:title>
</cp:coreProperties>
</file>