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3FF3-8A36-499D-9DAF-4A86EAA22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64C4-A571-4E02-95A8-31C669DF5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B797-74E9-46BF-A5A2-49B4F79A89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DAB27-75C9-43DA-970C-A09F5ED54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891AB-87E7-454E-93C1-82DD29FFC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69CE4-76A6-4B9F-B8E2-879D3DE567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BE6B9-EB1C-46EB-A3B3-862338C613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B5054-F7E6-4A96-BA6E-4D8CD0272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B05FD-EB28-4A32-B73C-045144034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E58B5-D8D2-401C-AE54-D4AB15D20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D6437-6F59-44D6-A37B-1B2F8BFE5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EAC2C-4ED6-4EDB-A310-29F3BF64A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39C89-1C23-4FAE-A99E-7D33CF569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F4BC5-73E2-4282-990B-3C8D3B0748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C317-595A-4B84-BE5F-0D9E0BCED561}" type="slidenum">
              <a:rPr b="0" lang="es-E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6553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 Angel and D. Shreiner: Interactive Computer Graphics 6E © Addison-Wesle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28F2-5E20-489A-A2A3-EF3E17DC93A8}" type="slidenum">
              <a:rPr b="0" lang="es-E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Candidate Pixels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7" name="Picture 4" descr="C:\BOOK\OpenGL\Paul Final\jpeg_new\AN08F44.jpg"/>
          <p:cNvPicPr/>
          <p:nvPr/>
        </p:nvPicPr>
        <p:blipFill>
          <a:blip r:embed="rId1"/>
          <a:stretch/>
        </p:blipFill>
        <p:spPr>
          <a:xfrm>
            <a:off x="2057400" y="2286000"/>
            <a:ext cx="4952880" cy="3736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830880" y="1600200"/>
            <a:ext cx="17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m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"/>
          <p:cNvSpPr/>
          <p:nvPr/>
        </p:nvSpPr>
        <p:spPr>
          <a:xfrm flipV="1">
            <a:off x="1447920" y="3962160"/>
            <a:ext cx="1828800" cy="533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84120" y="464832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pix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8"/>
          <p:cNvSpPr/>
          <p:nvPr/>
        </p:nvSpPr>
        <p:spPr>
          <a:xfrm flipH="1" flipV="1">
            <a:off x="4724280" y="3124080"/>
            <a:ext cx="1981440" cy="6098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 flipH="1">
            <a:off x="4876920" y="3809880"/>
            <a:ext cx="1752480" cy="228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6628680" y="35053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di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1"/>
          <p:cNvSpPr/>
          <p:nvPr/>
        </p:nvSpPr>
        <p:spPr>
          <a:xfrm flipH="1" flipV="1">
            <a:off x="3809880" y="4114440"/>
            <a:ext cx="1828800" cy="1143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5536440" y="5257800"/>
            <a:ext cx="353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line could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ed through 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of this pix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ecision Variabl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7" name="Picture 4" descr="C:\BOOK\OpenGL\Paul Final\jpeg_new\AN08F45.jpg"/>
          <p:cNvPicPr/>
          <p:nvPr/>
        </p:nvPicPr>
        <p:blipFill>
          <a:blip r:embed="rId1"/>
          <a:stretch/>
        </p:blipFill>
        <p:spPr>
          <a:xfrm>
            <a:off x="4038480" y="2590920"/>
            <a:ext cx="3568680" cy="2698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114440" y="426672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14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379880" y="2438280"/>
            <a:ext cx="15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(b-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98040" y="3276720"/>
            <a:ext cx="275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is an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&gt; 0 use upper pix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&lt; 0 use lower pix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cremental For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88280" indent="-1882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re efficient if we look at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the value of the decision variable at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x = k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602720" y="2743200"/>
            <a:ext cx="50497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= d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–2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y,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= d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–2(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y-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x),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63560" y="4038480"/>
            <a:ext cx="6562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e need do only an inte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 and a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instruction on graphics c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C:\BOOK\OpenGL\Paul Final\jpeg_new\AN08F47.jpg"/>
          <p:cNvPicPr/>
          <p:nvPr/>
        </p:nvPicPr>
        <p:blipFill>
          <a:blip r:embed="rId1"/>
          <a:stretch/>
        </p:blipFill>
        <p:spPr>
          <a:xfrm>
            <a:off x="5562720" y="1981080"/>
            <a:ext cx="2900160" cy="3124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olygon Scan Convers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can Conversion = Fil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w to tell inside from outsi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vex eas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simple diffic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dd even t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edge cross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5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nding num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328800" y="533412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d-even f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inding Numb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nt clockwise encirclements of poi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ternate definition of inside: inside if winding number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 flipV="1">
            <a:off x="6095880" y="2590560"/>
            <a:ext cx="533520" cy="1981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6629400" y="2590920"/>
            <a:ext cx="990720" cy="1600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7"/>
          <p:cNvSpPr/>
          <p:nvPr/>
        </p:nvSpPr>
        <p:spPr>
          <a:xfrm flipH="1" flipV="1">
            <a:off x="5715000" y="3124080"/>
            <a:ext cx="1905120" cy="1067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8"/>
          <p:cNvSpPr/>
          <p:nvPr/>
        </p:nvSpPr>
        <p:spPr>
          <a:xfrm flipV="1">
            <a:off x="5715000" y="2895120"/>
            <a:ext cx="1752480" cy="228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 flipH="1">
            <a:off x="6095880" y="2895480"/>
            <a:ext cx="1371600" cy="1676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6629400" y="3200400"/>
            <a:ext cx="15228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1"/>
          <p:cNvSpPr/>
          <p:nvPr/>
        </p:nvSpPr>
        <p:spPr>
          <a:xfrm flipV="1">
            <a:off x="4800600" y="3429000"/>
            <a:ext cx="175248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130560" y="396252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ing 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2214360" y="243828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ing 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5"/>
          <p:cNvSpPr/>
          <p:nvPr/>
        </p:nvSpPr>
        <p:spPr>
          <a:xfrm>
            <a:off x="5181480" y="2666880"/>
            <a:ext cx="1067040" cy="60984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illing in the Frame Buff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ll at end of pipeli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vex Polygons on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convex polygons assumed to have been tessell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ades (colors) have been computed for vertices (Gouraud shad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e with z-buffer 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across scan lines interpolating sh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al work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Using Interpol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Freeform 4"/>
          <p:cNvSpPr/>
          <p:nvPr/>
        </p:nvSpPr>
        <p:spPr>
          <a:xfrm>
            <a:off x="2895480" y="3429000"/>
            <a:ext cx="3353040" cy="2286000"/>
          </a:xfrm>
          <a:prstGeom prst="pie">
            <a:avLst/>
          </a:pr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2438280" y="4419720"/>
            <a:ext cx="472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3505320" y="4419720"/>
            <a:ext cx="2133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7"/>
          <p:cNvSpPr/>
          <p:nvPr/>
        </p:nvSpPr>
        <p:spPr>
          <a:xfrm flipH="1" flipV="1">
            <a:off x="5028840" y="4495320"/>
            <a:ext cx="685800" cy="1143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5870160" y="53341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589920" y="2895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2675520" y="58672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6333120" y="3886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5571000" y="45720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2980080" y="3886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994320" y="41911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ed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by vertex sh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d by interpolating betwe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d by interpolating betwe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olate betwe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ong sp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lood Fil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ll can be done recursively if we know a seed point located inside (WHIT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an convert edges into buffer in edge/inside color (BLACK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809880" y="35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775800" y="3378240"/>
            <a:ext cx="6398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lood_fill(int x, int y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(read_pixel(x,y)= = WHIT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_pixel(x,y,BLAC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lood_fill(x-1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lood_fill(x+1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lood_fill(x, y+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lood_fill(x, y-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can Line Fill 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also fill by maintaining a data structure of all intersections of polygons with scan li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rt by scan 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ll each sp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C:\BOOK\OpenGL\Paul Final\jpeg_new\AN08F55.jpg"/>
          <p:cNvPicPr/>
          <p:nvPr/>
        </p:nvPicPr>
        <p:blipFill>
          <a:blip r:embed="rId1"/>
          <a:stretch/>
        </p:blipFill>
        <p:spPr>
          <a:xfrm>
            <a:off x="1219320" y="3429000"/>
            <a:ext cx="2514600" cy="2022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BOOK\OpenGL\Paul Final\jpeg_new\AN08F56.jpg"/>
          <p:cNvPicPr/>
          <p:nvPr/>
        </p:nvPicPr>
        <p:blipFill>
          <a:blip r:embed="rId2"/>
          <a:stretch/>
        </p:blipFill>
        <p:spPr>
          <a:xfrm>
            <a:off x="5181480" y="3581280"/>
            <a:ext cx="2590920" cy="20829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992520" y="5562720"/>
            <a:ext cx="335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ex order gener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vertex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5870520" y="57913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red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ata Structur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C:\BOOK\OpenGL\Paul Final\jpeg_new\AN08F57.jpg"/>
          <p:cNvPicPr/>
          <p:nvPr/>
        </p:nvPicPr>
        <p:blipFill>
          <a:blip r:embed="rId1"/>
          <a:stretch/>
        </p:blipFill>
        <p:spPr>
          <a:xfrm>
            <a:off x="1828800" y="1828800"/>
            <a:ext cx="533412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asterization 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327672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lias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deal rasterized line should be 1 pixel wi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oosing best y for each x (or visa versa) produces aliased raster lin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C:\BOOK\OpenGL\Paul Final\jpeg_new\AN08F59.jpg"/>
          <p:cNvPicPr/>
          <p:nvPr/>
        </p:nvPicPr>
        <p:blipFill>
          <a:blip r:embed="rId1"/>
          <a:stretch/>
        </p:blipFill>
        <p:spPr>
          <a:xfrm>
            <a:off x="3352680" y="2286000"/>
            <a:ext cx="235296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ntialiasing by Area Averag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lor multiple pixels for each x depending on coverage by ideal l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C:\BOOK\OpenGL\Paul Final\jpeg_new\AN08F60.jpg"/>
          <p:cNvPicPr/>
          <p:nvPr/>
        </p:nvPicPr>
        <p:blipFill>
          <a:blip r:embed="rId1"/>
          <a:srcRect l="49308" t="0" r="0" b="20906"/>
          <a:stretch/>
        </p:blipFill>
        <p:spPr>
          <a:xfrm>
            <a:off x="1676520" y="4038480"/>
            <a:ext cx="5527440" cy="1941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C:\BOOK\OpenGL\Paul Final\jpeg_new\AN08F60.jpg"/>
          <p:cNvPicPr/>
          <p:nvPr/>
        </p:nvPicPr>
        <p:blipFill>
          <a:blip r:embed="rId2"/>
          <a:srcRect l="-1709" t="0" r="50004" b="20906"/>
          <a:stretch/>
        </p:blipFill>
        <p:spPr>
          <a:xfrm>
            <a:off x="2666880" y="2514600"/>
            <a:ext cx="3962520" cy="13651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1299960" y="289548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862680" y="281952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ali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797640" y="59436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olygon Alias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iasing problems can be serious for polyg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ggedness of ed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ll polygons neg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compositing so co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one polygon does n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ly determine color o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C:\BOOK\OpenGL\Paul Final\jpeg_new\AN08F61.jpg"/>
          <p:cNvPicPr/>
          <p:nvPr/>
        </p:nvPicPr>
        <p:blipFill>
          <a:blip r:embed="rId1"/>
          <a:stretch/>
        </p:blipFill>
        <p:spPr>
          <a:xfrm>
            <a:off x="5486400" y="2514600"/>
            <a:ext cx="3089160" cy="3089160"/>
          </a:xfrm>
          <a:prstGeom prst="rect">
            <a:avLst/>
          </a:prstGeom>
          <a:ln w="0">
            <a:noFill/>
          </a:ln>
        </p:spPr>
      </p:pic>
      <p:sp>
        <p:nvSpPr>
          <p:cNvPr id="153" name="Line 5"/>
          <p:cNvSpPr/>
          <p:nvPr/>
        </p:nvSpPr>
        <p:spPr>
          <a:xfrm flipV="1">
            <a:off x="4648320" y="4114440"/>
            <a:ext cx="2286000" cy="1676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2529720" y="5865840"/>
            <a:ext cx="60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ree polygons should contribute to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rvey Line Drawing Algorith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esenham’s 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iasing and Antialias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asteriz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asterization (scan conversio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which pixels that are inside primitive specified by a set of vert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es a set of frag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gments have a location (pixel location) and other attributes such color and texture coordinates that are determined by interpolating values at vert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ixel colors determined later using color, texture, and other vertex propert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can Conversion of Line Segmen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art with line segment in window coordinates with integer values for endpoi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ssume implementation has a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write_pixe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fun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:\BOOK\OpenGL\Paul Final\jpeg\AN08F40.jpg"/>
          <p:cNvPicPr/>
          <p:nvPr/>
        </p:nvPicPr>
        <p:blipFill>
          <a:blip r:embed="rId1"/>
          <a:stretch/>
        </p:blipFill>
        <p:spPr>
          <a:xfrm>
            <a:off x="5562720" y="3657600"/>
            <a:ext cx="2500200" cy="2522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3429360" y="4267080"/>
            <a:ext cx="15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mx +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7"/>
          <p:cNvSpPr/>
          <p:nvPr/>
        </p:nvSpPr>
        <p:spPr>
          <a:xfrm>
            <a:off x="4952880" y="4495680"/>
            <a:ext cx="1676520" cy="152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447920" y="4724280"/>
                <a:ext cx="15238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DA Algorith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gital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ferential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alyz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DA was a mechanical device for numerical solution of differential equ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=mx+ 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atisfies differential eq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y/dx = m =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/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 = y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y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/x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ong scan l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15000" y="4572000"/>
            <a:ext cx="713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x=x1; x&lt;=x2,ix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+=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_pixel(x, round(y), line_col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oble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DA = for each x plot pixel at closest 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s for steep 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:\BOOK\OpenGL\Paul Final\jpeg_new\AN08F42.jpg"/>
          <p:cNvPicPr/>
          <p:nvPr/>
        </p:nvPicPr>
        <p:blipFill>
          <a:blip r:embed="rId1"/>
          <a:stretch/>
        </p:blipFill>
        <p:spPr>
          <a:xfrm>
            <a:off x="2590920" y="2666880"/>
            <a:ext cx="30747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Using Symmetry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e for 1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m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r m &gt; 1, swap role of x and 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ach y, plot closest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:\BOOK\OpenGL\Paul Final\jpeg_new\AN08F43.jpg"/>
          <p:cNvPicPr/>
          <p:nvPr/>
        </p:nvPicPr>
        <p:blipFill>
          <a:blip r:embed="rId1"/>
          <a:stretch/>
        </p:blipFill>
        <p:spPr>
          <a:xfrm>
            <a:off x="2286000" y="335268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resenham’s Algorith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DA requires one floating point addition per ste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can eliminate all fp through Bresenham’s algorith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sider only 1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m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cases by symme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ssume pixel centers are at half integ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we start at a pixel that has been written, there are only two candidates for the next pixel to be written into the frame buff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14:41:21Z</dcterms:created>
  <dc:creator>Ed Angel</dc:creator>
  <dc:description/>
  <dc:language>en-US</dc:language>
  <cp:lastModifiedBy>Ed Angel</cp:lastModifiedBy>
  <dcterms:modified xsi:type="dcterms:W3CDTF">2014-03-31T18:00:29Z</dcterms:modified>
  <cp:revision>242</cp:revision>
  <dc:subject/>
  <dc:title>PowerPoint Presentation</dc:title>
</cp:coreProperties>
</file>