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6AA4-1E4D-4436-B27E-D0B87BD2B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D3D1-091D-45E3-B248-6BB0E60F1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3186-2910-4B23-9303-13B5EEBD6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FFA0-EBA6-4E79-B2F5-961A98BFB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C7DE-6090-4164-A908-6922F7DEB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90E3-4F05-4065-9F70-B4C3B4E1C3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F7AF-7EFF-4579-B99B-CC0DACEC7A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2C56-0D81-4DBF-B65F-D36DA79E0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1A06-2704-48A1-B9E8-3AB35F3F2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BFA2-43C6-4168-ABE8-1CF78833B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BDB1-8DF5-4831-BD67-2810CEF84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9DB2-3670-45E4-A78E-6993DD10A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D27B-4410-4235-9B65-EFEC47E6F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11FB-BF8C-4D41-8705-670BC0A11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93A5-CDB5-4341-80B0-BE49C891FAC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BD37-1E0F-4FB0-ABDA-0E6B74BE359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olygonal Shad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240" y="32767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9B9C-1456-4340-9B53-0136F43F5E9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151E-9FB0-42F9-B668-5E973E158A7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olygonal Shad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178920" indent="-17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er vertex shading, shading calculations are done for each ve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92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tex colors become vertex shades and can be sent to the vertex shader as a vertex attribu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92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ernately, we can send the parameters to the vertex shader and have it compute the sh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efault, vertex shades are interpolated across an object if passed to the fragment shader as a varying variable (smooth sha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also use uniform variables to shade with a single shade (flat sha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3826-6B0C-458E-9487-1CF21B04C42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olygon Norma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-188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iangles have a single norm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des at the vertices as computed by the modified Phong model can be almost sa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cal for a distant viewer (default) or if there is no specular compon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ider model of sphe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nt different normals 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ch vertex even thoug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concept is not qu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rrect mathematical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N06F39"/>
          <p:cNvPicPr/>
          <p:nvPr/>
        </p:nvPicPr>
        <p:blipFill>
          <a:blip r:embed="rId1"/>
          <a:stretch/>
        </p:blipFill>
        <p:spPr>
          <a:xfrm>
            <a:off x="5638680" y="3505320"/>
            <a:ext cx="2981520" cy="2966760"/>
          </a:xfrm>
          <a:prstGeom prst="rect">
            <a:avLst/>
          </a:prstGeom>
          <a:ln w="0">
            <a:noFill/>
          </a:ln>
        </p:spPr>
      </p:pic>
      <p:sp>
        <p:nvSpPr>
          <p:cNvPr id="66" name="Footer Placeholder 5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3662-78D7-4FDD-9B6F-9A455211E9E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mooth Shad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4800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set a new normal at each vert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asy for sphere model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entered at ori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w smooth shading work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silhouette ed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AN06F40"/>
          <p:cNvPicPr/>
          <p:nvPr/>
        </p:nvPicPr>
        <p:blipFill>
          <a:blip r:embed="rId1"/>
          <a:stretch/>
        </p:blipFill>
        <p:spPr>
          <a:xfrm>
            <a:off x="5486400" y="2057400"/>
            <a:ext cx="3198960" cy="3198960"/>
          </a:xfrm>
          <a:prstGeom prst="rect">
            <a:avLst/>
          </a:prstGeom>
          <a:ln w="0">
            <a:noFill/>
          </a:ln>
        </p:spPr>
      </p:pic>
      <p:sp>
        <p:nvSpPr>
          <p:cNvPr id="71" name="Line 6"/>
          <p:cNvSpPr/>
          <p:nvPr/>
        </p:nvSpPr>
        <p:spPr>
          <a:xfrm flipV="1">
            <a:off x="4724280" y="4648320"/>
            <a:ext cx="106704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ooter Placeholder 6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08F8-74D0-41B1-833F-C3861C8FA35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esh Shad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revious example is not general because we knew the normal at each vertex analytical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 polygonal models, Gouraud proposed we use the average of the normals around a mesh vert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N06F30"/>
          <p:cNvPicPr/>
          <p:nvPr/>
        </p:nvPicPr>
        <p:blipFill>
          <a:blip r:embed="rId1"/>
          <a:stretch/>
        </p:blipFill>
        <p:spPr>
          <a:xfrm>
            <a:off x="5486400" y="4114800"/>
            <a:ext cx="2238480" cy="2300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495680" y="33526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9" name="Text Box 10"/>
          <p:cNvSpPr/>
          <p:nvPr/>
        </p:nvSpPr>
        <p:spPr>
          <a:xfrm>
            <a:off x="1068840" y="4952880"/>
            <a:ext cx="425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 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8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6375-7030-424E-AC7F-FC937EC5394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ouraud and Phong Shad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ouraud Sha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average normal at each vertex (vertex norma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y modified Phong model at each vert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polate vertex shades across each polyg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hong sha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vertex nor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polate vertex normals across ed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polate edge normals across polyg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y modified Phong model at each frag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4E7A-672E-476A-8096-5841D790DD2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aris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the polygon mesh approximates surfaces with a high curvatures, Phong shading may look smooth while Gouraud shading may show ed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hong shading requires much more work than Gouraud sha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til recently not available in real time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an be done using fragment sh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th need data structures to represent meshes so we can obtain vertex norm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5:57:48Z</dcterms:created>
  <dc:creator>Ed Angel</dc:creator>
  <dc:description/>
  <dc:language>en-US</dc:language>
  <cp:lastModifiedBy>Ed Angel</cp:lastModifiedBy>
  <dcterms:modified xsi:type="dcterms:W3CDTF">2014-03-31T17:51:55Z</dcterms:modified>
  <cp:revision>197</cp:revision>
  <dc:subject/>
  <dc:title>PowerPoint Presentation</dc:title>
</cp:coreProperties>
</file>