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49D4-EB30-4EC4-9256-84B3B862B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18F4-98D1-4B3E-9B1F-CF890EF42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A3DF-57EB-455F-91EC-8411DC337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1995-3046-488D-A4B6-DBFD1CCD4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7448-0B86-4A08-A1D1-E1061E358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7DE2-442F-491A-A87D-0399622603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A491-9A23-4182-B4ED-B640A0B3ED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1956-DE8B-4932-B18E-5DD762BAA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D686-2AFF-491B-9995-1B0945AC3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AF14-7147-490E-A869-39033FA66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2D67-41A8-46B5-B468-3F5AA56B2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4489-BCBE-4DE7-8369-1625F8CA3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E29C-A7E9-48C9-B7A7-17120A5A2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EE80-3B9B-47FF-A29B-5A73B917B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8AE9-FC54-4288-A0DF-B56978AA758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858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AA5B-3BB8-44CD-94AB-818B6D854DD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D323-44B3-45BC-8DCC-0E04C836C32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ing Rot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ppose that we have two points that were obtained from the mouse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project them up to the hemisphere to points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se points determine a great circle on the sphe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rotate from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y finding the proper axis of rotation and the angle between the poi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6D5B-FBB4-4DD1-B4F6-93CEC59C334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sing the cross produc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axis of rotation is given by the normal to the plane determined by the origin,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AN04F64"/>
          <p:cNvPicPr/>
          <p:nvPr/>
        </p:nvPicPr>
        <p:blipFill>
          <a:blip r:embed="rId1"/>
          <a:stretch/>
        </p:blipFill>
        <p:spPr>
          <a:xfrm>
            <a:off x="2362320" y="2895480"/>
            <a:ext cx="4343400" cy="3241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338120" y="3657600"/>
            <a:ext cx="1878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6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8B7B-829D-4933-A84A-DC87B3DC984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taining the ang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angle between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given b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we move the mouse slowly or sample its position frequently, then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will be small and we can use the approximatio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563560" y="257508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s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962520" y="2438280"/>
                <a:ext cx="13525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Text Box 7"/>
          <p:cNvSpPr/>
          <p:nvPr/>
        </p:nvSpPr>
        <p:spPr>
          <a:xfrm>
            <a:off x="3451320" y="541008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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oter Placeholder 7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9C43-3730-46AE-AA70-34976B271F4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plementing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fine actions in terms of three boolea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trackingMous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if true update trackball posi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redrawContinu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if true, idle function posts a redispl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trackballMov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if true, update rotation matri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rtex Shader 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FFD1-3CD5-4C80-88F5-22C144D311F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628920" y="1752480"/>
            <a:ext cx="629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vec4 vPos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vec4 v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 vec4 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vec4 rquat; // rotation quater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quaternion multi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4 multq(vec4 a, vec4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(vec4(a.x*b.x - dot(a.yzw, b.yzw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x*b.yzw+b.x*a.yzw+cross(b.yzw, a.yzw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rtex Shader II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72D0-8948-4538-95DD-752CE233FD4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408240" y="1595520"/>
            <a:ext cx="8728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inverse quater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4 invq(vec4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return(vec4(a.x, -a.yzw)/dot(a,a))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ain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3 axis = rquat.yx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theta = rquat.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4 r,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vec4(0.0, vPosition.xyz);  // input point quater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multq(rquat, multq(p, invq(rquat))); // rotated point quater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Position = vec4( p.yzw, 1.0); // back to homogeneous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 = v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e Virtual Trackball</a:t>
            </a:r>
            <a:br>
              <a:rPr sz="3700"/>
            </a:b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B494-5EED-4AAB-99AE-39E1FC2F79A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E6A3-2BB5-4FE9-A6DD-76767C1DFF2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is an optional lecture that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es the use of graphical (virtual) devices that can be created using WebG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inforce the benefit of not using direction angles and Euler ang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s use of transform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s to reusable code that will be helpful l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9CD0-C672-4730-990F-8767444BEE2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hysical Trackbal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-188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trackball is an “upside down” mo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there is little friction between the ball and the rollers, we can give the ball a push and it will keep rolling yielding continuous chan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wo possible modes of oper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pushing or tracking hand 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i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N03F02"/>
          <p:cNvPicPr/>
          <p:nvPr/>
        </p:nvPicPr>
        <p:blipFill>
          <a:blip r:embed="rId1"/>
          <a:stretch/>
        </p:blipFill>
        <p:spPr>
          <a:xfrm>
            <a:off x="2971800" y="1981080"/>
            <a:ext cx="2514600" cy="1730520"/>
          </a:xfrm>
          <a:prstGeom prst="rect">
            <a:avLst/>
          </a:prstGeom>
          <a:ln w="0">
            <a:noFill/>
          </a:ln>
        </p:spPr>
      </p:pic>
      <p:sp>
        <p:nvSpPr>
          <p:cNvPr id="66" name="Footer Placeholder 5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5138-FBF7-40E5-92B4-D767F80620D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 Trackball from a Mous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blem: we want to get the two behavior modes from a mou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would also like the mouse to emulate a frictionless (ideal) trackbal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lve in two ste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p trackball position to mouse 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event listeners to handle the proper m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sing Quatern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uaternion arithmetic works well for representing rotations around the orig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use directly avoiding rotation matrices in the virtual trackbal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de was made available long ago (pre shader) by SG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uaternion shaders are simp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1310-5F30-4939-A1E9-78A7502D5EB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DC96-01D8-402E-A7CF-EAC3E65DD6B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ackball Fram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7" name="Picture 5" descr="AN04F62"/>
          <p:cNvPicPr/>
          <p:nvPr/>
        </p:nvPicPr>
        <p:blipFill>
          <a:blip r:embed="rId1"/>
          <a:stretch/>
        </p:blipFill>
        <p:spPr>
          <a:xfrm>
            <a:off x="1523880" y="1523880"/>
            <a:ext cx="4876920" cy="4111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2880" y="26668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at center of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B660-4243-4396-B4FE-B5B8912CBDC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jection of Trackball Posi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relate position on trackball to position on a normalized mouse pad by projecting orthogonally onto pa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N04F63"/>
          <p:cNvPicPr/>
          <p:nvPr/>
        </p:nvPicPr>
        <p:blipFill>
          <a:blip r:embed="rId1"/>
          <a:stretch/>
        </p:blipFill>
        <p:spPr>
          <a:xfrm>
            <a:off x="2133720" y="2982960"/>
            <a:ext cx="4114800" cy="307008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5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EA8C-5AA2-4B81-BD70-607248CF1BA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versing Proje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cause both the pad and the upper hemisphere of the ball are two-dimensional surfaces, we can reverse the proj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point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x,z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on the mouse pad corresponds to the point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x,y,z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on the upper hemisphere whe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701720" y="5181480"/>
            <a:ext cx="71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362320" y="5029200"/>
                <a:ext cx="23619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0" name="Text Box 7"/>
          <p:cNvSpPr/>
          <p:nvPr/>
        </p:nvSpPr>
        <p:spPr>
          <a:xfrm>
            <a:off x="5037120" y="518148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x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,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z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7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21:01:01Z</dcterms:created>
  <dc:creator>Ed Angel</dc:creator>
  <dc:description/>
  <dc:language>en-US</dc:language>
  <cp:lastModifiedBy>Ed Angel</cp:lastModifiedBy>
  <dcterms:modified xsi:type="dcterms:W3CDTF">2014-03-31T18:03:53Z</dcterms:modified>
  <cp:revision>135</cp:revision>
  <dc:subject/>
  <dc:title>PowerPoint Presentation</dc:title>
</cp:coreProperties>
</file>