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2927-8DA5-4481-B663-B8351D9CF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756E-53B6-474F-A5D1-AB19E24D8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B179-D488-4F5C-876F-E1B371AA0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5479-281C-4BC3-8C99-A7D563470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3748-3C4A-4090-83BF-AFF13FE9A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97F7-5E0E-42C9-B3BC-D2C55A8601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D6B9-A172-4B29-98C2-EB3415EF7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6897-FEC6-45E5-A43E-2FF8FEA41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FD2A-5662-4381-A2AE-72E2686AB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A505-51A3-4E28-9DE1-9109329CD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90E1-D303-4BD2-A42E-93B3974F6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446D-7D51-4C81-B0EE-9E1FE64E1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0B78-E7CA-4165-95F5-D8CB80F56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4C3F-1BC6-48FF-8237-5A9A6F63B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4A86-58EC-4F0F-ADCE-A18CAFAF8C0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98C6-A1DA-4B16-BF21-F93875D2C47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8B1B-2EBD-4F68-AE1B-6CDD28AC3DB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lobal Ambient Ligh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mbient light depends on color of light sour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ed light in a white room will cause a red ambient term that disappears when the light is turned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global ambient term that is often helpful for test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DBA9-01C5-4781-BEC9-0FF791577AD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ving Light Sour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ght sources are geometric objects whose positions or directions are affected by the model-view matri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pending on where we place the position (direction) setting function, we ca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the light source(s) with the ob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 the object(s) and move the light source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 the light source(s) and move the ob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the light source(s) and object(s) independ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ght Properti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BECF-7E5C-452E-8625-E50D421B848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914400" y="23623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lightPosition = vec4(1.0, 1.0, 1.0, 0.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lightAmbient = vec4(0.2, 0.2, 0.2, 1.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lightDiffuse = vec4( 1.0, 1.0, 1.0, 1.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lightSpecular = vec4( 1.0, 1.0, 1.0, 1.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D43E-4C1A-4B9E-B0F2-326D5190EAD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terial Properti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terial properties should match the terms in the light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flectivit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 component gives o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58600" y="4267080"/>
            <a:ext cx="508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materialAmbient = vec4( 1.0, 0.0, 1.0, 1.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materialDiffuse = vec4( 1.0, 0.8, 0.0, 1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materialSpecular = vec4( 1.0, 0.8, 0.0, 1.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materialShininess = 100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MV.js for Produc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CACA-4FFB-4906-B08C-17AA627B1DC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33520" y="1447920"/>
            <a:ext cx="8305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ambientProduct = mult(lightAmbient, materialAmbi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diffuseProduct = mult(lightDiffuse, materialDiffu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specularProduct = mult(lightSpecular, materialSpecul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4fv(gl.getUniformLocation(progr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mbientProduct"),       flatten(ambientProduc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4fv(gl.getUniformLocation(progr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diffuseProduct"),       flatten(diffuseProduct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4fv(gl.getUniformLocation(progr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specularProduct"),        flatten(specularProduct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4fv(gl.getUniformLocation(progr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lightPosition"),        flatten(lightPositio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1f(gl.getUniformLocation(progr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shininess"),materialShinine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5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ding Normals for Quad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9E46-0FB0-47E6-9E72-2C166025555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57200" y="190512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quad(a, b, c, d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t1 = subtract(vertices[b], vertices[a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t2 = subtract(vertices[c], vertices[b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normal = cross(t1, 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normal = vec3(norm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= normalize(norm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Array.push(vertices[a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sArray.push(norm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4349-4388-42DC-A970-6AF7F0D1F6B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ont and Back 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ry face has a front and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many objects, we never see the back face so we don’t care how or if it’s rende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 matters, we can handle in shad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AN06F37"/>
          <p:cNvPicPr/>
          <p:nvPr/>
        </p:nvPicPr>
        <p:blipFill>
          <a:blip r:embed="rId1"/>
          <a:stretch/>
        </p:blipFill>
        <p:spPr>
          <a:xfrm>
            <a:off x="762120" y="4038480"/>
            <a:ext cx="3105000" cy="96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AN06F38"/>
          <p:cNvPicPr/>
          <p:nvPr/>
        </p:nvPicPr>
        <p:blipFill>
          <a:blip r:embed="rId2"/>
          <a:stretch/>
        </p:blipFill>
        <p:spPr>
          <a:xfrm>
            <a:off x="4648320" y="3809880"/>
            <a:ext cx="3733560" cy="1133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917640" y="533412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faces not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566320" y="533412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faces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8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0ACA-CDF6-4E10-B0E7-1D061B14701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missive Ter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simulate a light source in WebGL by giving a material an emissive compon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component is unaffected by any sources or transform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969E-2245-4BBA-BF53-1E0C9F85430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ansparenc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terial properties are specified as RGBA val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A value can be used to make the surface transluc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default is that all surfaces are opaqu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ter we will enable blending and use this fea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ever with the HTML5 canvas, A&lt;1 will mute col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ghting and Shading in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240" y="32767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998C-F566-4D09-92E3-582894C6DAC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583E-17C2-4561-8CFB-10C8069961D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he WebGL shading metho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and material functions on MV.j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 vertex vs per fragment sh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to carry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D2FB-A065-45D4-BCC4-CC1FD411D53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GL light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904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9076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9076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9076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te-based shading functions have been deprecated (glNormal, glMaterial, glLight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 in application or in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C3B9-F77F-40EF-B5D2-5D68368D304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rmal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sine terms in lighting calculations can be computed using dot produ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t length vectors simplify calc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we want to set the magnitudes to have unit length b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gth can be affected by transform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that scaling does not preserved leng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SL has a normalizatio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1BFE-BAB0-4B23-B72C-D43F521452F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rmal for Triang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Freeform 4"/>
          <p:cNvSpPr/>
          <p:nvPr/>
        </p:nvSpPr>
        <p:spPr>
          <a:xfrm>
            <a:off x="4495680" y="2743200"/>
            <a:ext cx="1828800" cy="121932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201200" y="39276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00800" y="3504960"/>
            <a:ext cx="457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867280" y="22096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5562720" y="2057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518364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762120" y="2286000"/>
            <a:ext cx="309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0" y="3048120"/>
            <a:ext cx="4724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739080" y="396252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n/ |n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5564520" y="327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564840" y="4952880"/>
            <a:ext cx="62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right-hand rule determines outward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1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D367-738B-4222-BC75-5107CAAC47E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pecifying a Point Light Sourc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ach light source, we can set an RGBA for the diffuse, specular, and ambient components, and for the pos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514600" y="38862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00160" y="3276720"/>
            <a:ext cx="658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diffuse0 = vec4(1.0, 0.0, 0.0, 1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ambient0 = vec4(1.0, 0.0, 0.0, 1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specular0 = vec4(1.0, 0.0, 0.0, 1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light0_pos = vec4(1.0, 2.0, 3,0, 1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6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0A57-740F-44EC-9E67-D45F86B8764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stance and Dir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ource colors are specified in RGB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osition is given in homogeneous coordin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 =1.0, we are specifying a finite 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 =0.0, we are specifying a parallel source with the given direction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efficients in distance terms are usually quadratic (1/(a+b*d+c*d*d))  where d is the distance from the point being rendered to the light sour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666A-5215-4555-8CC2-C2E2F5E9A90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potligh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5638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rive from point sou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nuati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co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AN06F09"/>
          <p:cNvPicPr/>
          <p:nvPr/>
        </p:nvPicPr>
        <p:blipFill>
          <a:blip r:embed="rId1"/>
          <a:stretch/>
        </p:blipFill>
        <p:spPr>
          <a:xfrm>
            <a:off x="1981080" y="3962520"/>
            <a:ext cx="1619280" cy="1623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N06F10"/>
          <p:cNvPicPr/>
          <p:nvPr/>
        </p:nvPicPr>
        <p:blipFill>
          <a:blip r:embed="rId2"/>
          <a:srcRect l="0" t="0" r="0" b="22647"/>
          <a:stretch/>
        </p:blipFill>
        <p:spPr>
          <a:xfrm>
            <a:off x="6400800" y="3809880"/>
            <a:ext cx="2027160" cy="15242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7907400" y="5292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352200" y="53341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7164720" y="5257800"/>
            <a:ext cx="412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9"/>
          <p:cNvSpPr/>
          <p:nvPr/>
        </p:nvSpPr>
        <p:spPr>
          <a:xfrm>
            <a:off x="457200" y="64008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5:57:42Z</dcterms:created>
  <dc:creator>Ed Angel</dc:creator>
  <dc:description/>
  <dc:language>en-US</dc:language>
  <cp:lastModifiedBy>Ed Angel</cp:lastModifiedBy>
  <dcterms:modified xsi:type="dcterms:W3CDTF">2014-03-31T17:51:39Z</dcterms:modified>
  <cp:revision>191</cp:revision>
  <dc:subject/>
  <dc:title>PowerPoint Presentation</dc:title>
</cp:coreProperties>
</file>