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1474-4A65-478C-8304-B055B4C57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4F1-AE66-4030-851F-FC81FDE1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0F40-6B55-4838-AD57-4ECBD2E6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E52C-8B3F-4B04-870E-193665DE4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B97-8F91-4069-B9C3-B3E8A60F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815-8EA9-43A6-9452-EC35E1FD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C27-D364-4630-A198-A12D8D36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7964-DF0C-433D-AD83-708A194F7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63D-4F3C-4369-94BF-6EA8D9133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F09-E1E6-4C3A-AC2B-6951FE38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6B2-AD37-4F60-BDFC-79C0364D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570-DDC1-43F9-92FD-3A6874368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376-EA3B-4E5C-9EC9-488465BE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70A6-A4E7-4B29-9DF4-E6DB7402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CCBB-04B3-4885-9E2E-9E51C66D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08D-44EF-485B-B7A9-FBA32EFF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1197-74D3-41A8-90E0-B1158D65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CA57-57D5-472F-8305-CB056A8A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79F9-F5D3-4FEC-A2EC-73C58BF7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D32-0957-4CA7-B188-7236C297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C0A1-D6AD-4939-9D5C-3F14FB525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CF40-EAE0-46D5-BA4C-978FA0DA7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360B-301D-4393-B5D5-158AA4164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6D69-B1C1-4DF2-9FD1-71A6BF542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8440-1411-443B-9801-0195DA7BF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EC59-7A8F-44BC-A865-AD2C0C8F5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24C-D547-43A2-A44D-E6208501E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DACB-B3A9-45AA-81C3-AD0C61B42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49EB-247A-45D9-9211-FD149DCFD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5A42-BE0D-44F1-842F-C3977AF37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ACEB-C28A-4D58-89F3-CF94AEFA7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E0F7-4227-40B3-9089-91CDE60F9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31C8-3B4D-4FDA-874A-BE03108209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AA8F-D9F2-493B-A7A7-3B06922393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802-706B-4023-8C67-B554B3C205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amping and Accura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the components (RGBA) are clamped and stay in the range (0,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, in a typical system, RGBA values are only stored to 8 b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easily loose accuracy if we add many components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add together n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all color components by n to avoid cl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 with source factor = 1, destination factor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ivision by n loses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A5A-35C6-4AD2-BE70-7CA03CD462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der Depend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is image correc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ly n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 are rend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order they p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n the pip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ending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order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9054" t="12047" r="9054" b="12047"/>
          <a:stretch/>
        </p:blipFill>
        <p:spPr>
          <a:xfrm>
            <a:off x="4724280" y="160020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044-34AC-46F8-9583-C0803B8A58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aque and Translucent Polyg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we have a group of polygons some of which are opaque and some transluc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we use hidden-surface removal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aque polygons block all polygons behind them and affect the depth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ucent polygons should not affect depth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der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l.depthMask(fals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makes depth buffer read-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rt polygons first to remove order depend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4DE-EAA4-4045-BD44-2474E565D2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o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167400" indent="-1674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composite with a fixed color and have the blending factors depend on dep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2920" indent="-167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es a fog eff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end source col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fog col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674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’=f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+ (1-f)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og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2920" indent="-167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2920" indent="-167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2920" indent="-167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(depth cue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cated but can re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4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8FA-2528-4FE7-B281-9696B27B77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o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BOOK\OpenGL\Paul Final\Art\jpeg\AN07F40.jpg"/>
          <p:cNvPicPr/>
          <p:nvPr/>
        </p:nvPicPr>
        <p:blipFill>
          <a:blip r:embed="rId1"/>
          <a:srcRect l="0" t="7702" r="0" b="0"/>
          <a:stretch/>
        </p:blipFill>
        <p:spPr>
          <a:xfrm>
            <a:off x="685800" y="1828800"/>
            <a:ext cx="7291440" cy="456732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ositing and HTM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desktop OpenGL, the A component has no effect unless blending is enabl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WebGL, an A other than 1.0 has an effect because WebGL works with the HTML5 Canvas el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0.5 will cut the RGB values by ½ when the pixel is display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ows other applications to be blended into the canvas along with the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32E-3495-4311-BE9D-1E467E3C64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2A94-806F-46D1-AFFB-4AA74C6E84E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ne Alia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al raster line is one pixel w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line segments, other than vertical and horizontal segments, partially cover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algorithms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whole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 to the “jaggies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alia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ilar issue for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:\BOOK\OpenGL\Paul Final\Art\jpeg\AN07F36.jpg"/>
          <p:cNvPicPr/>
          <p:nvPr/>
        </p:nvPicPr>
        <p:blipFill>
          <a:blip r:embed="rId1"/>
          <a:stretch/>
        </p:blipFill>
        <p:spPr>
          <a:xfrm>
            <a:off x="5638680" y="3581280"/>
            <a:ext cx="2667240" cy="256392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635-363C-474E-90BA-4E73B4E922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tialiasing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try to color a pixel by adding a fraction of its color to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 depends on percentage of pixel covered by frag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 depends on whether there is overl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BOOK\OpenGL\Paul Final\Art\jpeg\AN07F37A.jpg"/>
          <p:cNvPicPr/>
          <p:nvPr/>
        </p:nvPicPr>
        <p:blipFill>
          <a:blip r:embed="rId1"/>
          <a:srcRect l="0" t="0" r="0" b="10479"/>
          <a:stretch/>
        </p:blipFill>
        <p:spPr>
          <a:xfrm>
            <a:off x="1752480" y="3962520"/>
            <a:ext cx="266220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BOOK\OpenGL\Paul Final\Art\jpeg\AN07F37B.jpg"/>
          <p:cNvPicPr/>
          <p:nvPr/>
        </p:nvPicPr>
        <p:blipFill>
          <a:blip r:embed="rId2"/>
          <a:srcRect l="0" t="0" r="0" b="13526"/>
          <a:stretch/>
        </p:blipFill>
        <p:spPr>
          <a:xfrm>
            <a:off x="5257800" y="3962520"/>
            <a:ext cx="24098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460440" y="4952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318440" y="49528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8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796C-0B5B-4384-A19B-892D2CC66D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rea Averaging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verage area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s blending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:\BOOK\OpenGL\Paul Final\Art\jpeg\AN07F38.jpg"/>
          <p:cNvPicPr/>
          <p:nvPr/>
        </p:nvPicPr>
        <p:blipFill>
          <a:blip r:embed="rId1"/>
          <a:stretch/>
        </p:blipFill>
        <p:spPr>
          <a:xfrm>
            <a:off x="2209680" y="2362320"/>
            <a:ext cx="3733920" cy="325260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25B-6ACB-4645-BF47-C9C5820E70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OpenGL Antialiasing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(yet) supported in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enable separately for points, lines, or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most hardware will automatically antiali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63560" y="3276720"/>
            <a:ext cx="780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POINT_SMOO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LINE_SMOO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POLYGON_SMOO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BLE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BlendFunc(GL_SRC_ALPHA, GL_ONE_MINUS_SRC_ALPH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ositing and Blen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663E-BAE4-47EC-BCA3-62E9755C5E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EA43-7832-4DB9-8A5D-09727A3D1D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use the A component in RGBA color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ending for translucen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ing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alia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678-438D-4DFB-A890-87C2FE5754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acity and Transpar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aque surfaces permit no light to pass throug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arent surfaces permit all light to pa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ucent surfaces pass some l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ucency = 1 – opacity 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BOOK\OpenGL\Paul Final\Art\jpeg\AN07F35.jpg"/>
          <p:cNvPicPr/>
          <p:nvPr/>
        </p:nvPicPr>
        <p:blipFill>
          <a:blip r:embed="rId1"/>
          <a:stretch/>
        </p:blipFill>
        <p:spPr>
          <a:xfrm>
            <a:off x="2133720" y="3886200"/>
            <a:ext cx="41148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H="1" flipV="1">
            <a:off x="4876560" y="5028840"/>
            <a:ext cx="53316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356720" y="5479920"/>
            <a:ext cx="28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rf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7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3290-45FE-4F7C-9AE7-1F7CD7CF84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Mode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aling with translucency in a physically correct manner is difficult due t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lexity of the internal interactions of light and ma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pipeline rende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BOOK\OpenGL\Paul Final\Art\jpeg\AN07F39.jpg"/>
          <p:cNvPicPr/>
          <p:nvPr/>
        </p:nvPicPr>
        <p:blipFill>
          <a:blip r:embed="rId1"/>
          <a:stretch/>
        </p:blipFill>
        <p:spPr>
          <a:xfrm>
            <a:off x="4114800" y="4343400"/>
            <a:ext cx="4724280" cy="1876320"/>
          </a:xfrm>
          <a:prstGeom prst="rect">
            <a:avLst/>
          </a:prstGeom>
          <a:ln w="0">
            <a:noFill/>
          </a:ln>
        </p:spPr>
      </p:pic>
      <p:sp>
        <p:nvSpPr>
          <p:cNvPr id="73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AE4-E015-4AEA-A080-C24D45060A3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ritin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component of RGBA (or RGB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color to store o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uring rendering we can expand our writing model to use RGBA valu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5257800" y="3581280"/>
            <a:ext cx="762120" cy="762120"/>
          </a:xfrm>
          <a:prstGeom prst="flowChartDelay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876920" y="4800600"/>
            <a:ext cx="2404800" cy="1191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01992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705720" y="39625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858000" y="3657600"/>
            <a:ext cx="15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792040" y="3276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 flipH="1">
            <a:off x="3657240" y="50292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987480" y="4724280"/>
            <a:ext cx="266652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bl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25146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251460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299240" y="3505320"/>
            <a:ext cx="2911680" cy="45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blend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91440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0" y="3733920"/>
            <a:ext cx="15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18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AB68-5384-4008-85AC-21DDE6A320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lending Equ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define source and destination blending factors for each RGBA compo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[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[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the source and destination colors 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[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[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end 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’ = [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783C-8EAD-4A68-8C3F-FE8A646C98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Blending and Composi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st enable blending and pick source and destination fac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.enable(gl.BLEN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.blendFunc(source_facto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destination_facto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certain factors suppor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l.ZERO, gl.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l.SRC_ALPHA, gl.ONE_MINUS_SRC_AL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l.DST_ALPHA, gl.ONE_MINUS_DST_AL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Redbook for complete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D6B4-A22A-42C5-A3A4-C0F4ECDCE3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we start with the opaque background color (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1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olor becomes the initial destination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now want to blend in a translucent polygon with color (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_SRC_ALP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_ONE_MINUS_SRC_ALPH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s the source and destination blending fac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(1-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 this formula is correct if polygon is either opaque or transpa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8:31:28Z</dcterms:created>
  <dc:creator>Ed Angel</dc:creator>
  <dc:description/>
  <dc:language>en-US</dc:language>
  <cp:lastModifiedBy>Ed Angel</cp:lastModifiedBy>
  <dcterms:modified xsi:type="dcterms:W3CDTF">2014-03-31T17:54:36Z</dcterms:modified>
  <cp:revision>211</cp:revision>
  <dc:subject/>
  <dc:title>PowerPoint Presentation</dc:title>
</cp:coreProperties>
</file>