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EEB-B9F2-4BDB-ABB6-0B3F5D83F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5278-5D15-46CE-AB6C-F0707587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D059-AB67-40E6-A70A-774472470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A5D9-96B3-4AB0-92D6-D2BC5819A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4207-E814-4218-9A2D-486AFDA1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18DC-75C8-420C-A0E4-337E072B8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A2CF-C03C-4451-AEBF-D845AAFD9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F68A-FB7F-408F-A505-EAF537ECF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81D4-2693-4CD8-A3FA-59D5A6158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243E-AB5B-47E3-8BE0-EEE04B7A2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5F5F-1FEA-4C8A-AAD6-216255260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E39C-9665-44C5-8EB5-3D871DE69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19E5-F0B8-4323-9841-D42EA2115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B34B-18AB-4BC5-9E87-5825317A1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3322-ECA2-431C-9EE5-8570BA17FE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8E32-2CF1-48C5-8D6D-6FE12B6C5E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cking and Unpack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ressed or uncompres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dexed or RG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or big end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(and shader-based OpenGL) lacks most functions for packing and unpackin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exture functions inst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mplement desired functionality in fragment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6B2F-1489-407C-8174-BD4E788E0B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precated Functional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Draw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Copy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BitM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C61-1215-48DF-9D6A-9EA36C2E58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FA5-B0B6-478C-987B-A6D2A793CF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Buffer Reading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GL can read pixels from the framebuffer with gl.readPix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turns only 8 bit RGBA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general, the format of pixels in the frame buffer is different from that of processor memory and these two types of memory reside in different pl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packing and unp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 can be s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through texture functions and off-screen memory (frame buff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213-62CA-4DE6-A3ED-DD184146B9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WebGL Pixel Function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0400" y="1822320"/>
            <a:ext cx="795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readPixels(x,y,width,height,format,type,my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2209680" y="2209320"/>
            <a:ext cx="76212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64840" y="2516040"/>
            <a:ext cx="33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pixel in fram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191480" y="2438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V="1">
            <a:off x="4419720" y="22093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5334120" y="2133360"/>
            <a:ext cx="30456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327920" y="28605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V="1">
            <a:off x="6477120" y="2133720"/>
            <a:ext cx="2286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485320" y="24382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 flipV="1">
            <a:off x="4038120" y="2209320"/>
            <a:ext cx="38124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7543800" y="2209680"/>
            <a:ext cx="15228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246720" y="289548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pro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944640" y="3733920"/>
            <a:ext cx="59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myimage[512*512*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readPixels(0,0, 512, 512, gl.RGB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UNSIGNED_BYTE, my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16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to Tex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PUs now include a large amount of texture memory that we can write in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vantage: fast (not under control of window system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ing frame buffer objects (FBOs) we can render into texture memory instead of the frame buffer and then read from this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C3F9-C9D0-4CBE-900A-7CC5F089919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ff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743-40C2-4134-B1C2-EEB336A58A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3E1-38F4-4F53-A9F8-95FCC81CDE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additional WebGL buff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ing and writing buff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ffers and Ima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076-45E4-4496-BB4A-B6263DFDDF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ff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a buffer by its spatial resolution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 x 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nd its depth (or precision)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 number of bits/pix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N07F01"/>
          <p:cNvPicPr/>
          <p:nvPr/>
        </p:nvPicPr>
        <p:blipFill>
          <a:blip r:embed="rId1"/>
          <a:stretch/>
        </p:blipFill>
        <p:spPr>
          <a:xfrm>
            <a:off x="2209680" y="2514600"/>
            <a:ext cx="4515120" cy="35892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809880" y="2742840"/>
            <a:ext cx="1295640" cy="19810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1905120" y="4800600"/>
            <a:ext cx="1676160" cy="838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295280" y="556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905120" y="2895480"/>
            <a:ext cx="3047760" cy="2743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10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195-4ED9-496D-A1E0-89D9385705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WebGL Frame Buffer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23960" y="1074600"/>
            <a:ext cx="7505640" cy="483084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167B-88DB-40F4-9738-0E4EACC448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Where are the Buffers?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TML5 Canv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front and back color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control of local window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ly on graphics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th buffer also on graphics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ncil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lds m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RGBA buffers 8 bits per compon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test are floating point (IEE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Buff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ktop OpenGL supported other buff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xiliary color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were on application s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deprec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PUs have their own or attached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-screen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nder control of windo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flo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0194-3F9D-41E7-867F-AF946E895C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mebuffer contents are unformat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RGB or RG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byte per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Web Image Forma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peg, gif, p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has no conversion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s standard Web formats for texture im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605-957D-4F4A-B676-816F71341D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8D2E-FF32-498E-84EE-60A8BC1CF5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The (Old) Pixel Pipelin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has a separate pipeline for pix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 pixels invol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pixels from processor memory to the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, Lookups,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 pix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N07F08"/>
          <p:cNvPicPr/>
          <p:nvPr/>
        </p:nvPicPr>
        <p:blipFill>
          <a:blip r:embed="rId1"/>
          <a:stretch/>
        </p:blipFill>
        <p:spPr>
          <a:xfrm>
            <a:off x="762120" y="4648320"/>
            <a:ext cx="7791480" cy="13730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20:22:48Z</dcterms:created>
  <dc:creator>Ed Angel</dc:creator>
  <dc:description/>
  <dc:language>en-US</dc:language>
  <cp:lastModifiedBy>Ed Angel</cp:lastModifiedBy>
  <dcterms:modified xsi:type="dcterms:W3CDTF">2014-03-31T17:52:34Z</dcterms:modified>
  <cp:revision>195</cp:revision>
  <dc:subject/>
  <dc:title>PowerPoint Presentation</dc:title>
</cp:coreProperties>
</file>